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E4F-F7C5-473D-A9E0-3901A293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C46-9A77-48B7-813F-6FC7A91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A01-54C2-49A2-82BE-75781E67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FF0-57AC-4199-8BB5-1B12EB24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636-045E-4F20-9470-4EC440B1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A67-853C-4EF8-A6BB-7BDFD59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EB8-BE1B-4049-96D6-247FD06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F25-9255-4A27-B25E-CFC77E32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E5D-C0EE-48B8-A55B-938F7E9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36B-24EE-4777-97D3-86F3FEC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28F-FACA-4009-A786-954918F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4C9-E5FD-4CB1-B1B2-41408F2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A0B-8EFE-430C-ABD1-E877247E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 cura dell’ASL 13 - S.I.A.N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Invecchiamo perché vivia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2021040"/>
          <a:ext cx="777240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104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nostro corpo “arrugginisce”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fortuna possiamo ritardare quest’eff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Con una adeguata ali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Facendo tutti i giorni un “po’ di movimento”, una adeguata attività fi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controllando il p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controllando il proprio stato di salute (controlli e visite periodiche e tempes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 mantenendo una adeguata vita di 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05120" y="2286000"/>
            <a:ext cx="4981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’ATTIVITA’ FISICA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(VIVERE RISCHIANDO ME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3200400"/>
            <a:ext cx="672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ELLE PERSONE ANZIA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8120" y="15998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NGIARE CORRETTAMENTE E’ IMPORTANTE QUANTO RIMANERE ATTIVI E IN BUONA FORM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facilita il buon funzionamento dell’organismo ed aiuta a cogliere il meglio del cibo consuma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166716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47840" y="2163600"/>
            <a:ext cx="2362320" cy="990720"/>
          </a:xfrm>
          <a:prstGeom prst="wedgeEllipseCallout">
            <a:avLst>
              <a:gd name="adj1" fmla="val -10888"/>
              <a:gd name="adj2" fmla="val 66027"/>
            </a:avLst>
          </a:prstGeom>
          <a:gradFill rotWithShape="0">
            <a:gsLst>
              <a:gs pos="0">
                <a:srgbClr val="fcf3a0"/>
              </a:gs>
              <a:gs pos="100000">
                <a:srgbClr val="62df5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2349360"/>
            <a:ext cx="246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ANCANZA DI ESERCIZIO FI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1560" y="3762360"/>
            <a:ext cx="173664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0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67002"/>
                </a:solidFill>
                <a:latin typeface="Comic Sans MS"/>
              </a:rPr>
              <a:t>ULTERI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00400" y="838080"/>
            <a:ext cx="278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Circolo Vizioso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 rot="2700000">
            <a:off x="5905800" y="278100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8900000">
            <a:off x="2201400" y="2895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9000000">
            <a:off x="5580000" y="486828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724280"/>
            <a:ext cx="2664000" cy="1063800"/>
          </a:xfrm>
          <a:prstGeom prst="wedgeEllipseCallout">
            <a:avLst>
              <a:gd name="adj1" fmla="val -25685"/>
              <a:gd name="adj2" fmla="val 64328"/>
            </a:avLst>
          </a:prstGeom>
          <a:gradFill rotWithShape="0">
            <a:gsLst>
              <a:gs pos="0">
                <a:srgbClr val="fcf3a0"/>
              </a:gs>
              <a:gs pos="100000">
                <a:srgbClr val="62df5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3800000">
            <a:off x="2133360" y="441936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4869000"/>
            <a:ext cx="219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mic Sans MS"/>
              </a:rPr>
              <a:t>AUMENTO DEGLI SVANTAGGI DOVUTI ALLA VECCHI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3357720"/>
            <a:ext cx="2521080" cy="1152360"/>
          </a:xfrm>
          <a:prstGeom prst="wedgeEllipseCallout">
            <a:avLst>
              <a:gd name="adj1" fmla="val -24305"/>
              <a:gd name="adj2" fmla="val 61708"/>
            </a:avLst>
          </a:prstGeom>
          <a:gradFill rotWithShape="0">
            <a:gsLst>
              <a:gs pos="0">
                <a:srgbClr val="fcf3a0"/>
              </a:gs>
              <a:gs pos="100000">
                <a:srgbClr val="62df5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35002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CCENTUAZIONE DEI DEFICIT DERIVANTI DALL’E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LA SCARSA ATTIVITA’ O L’INATTIVITA’ FI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3499920"/>
            <a:ext cx="8139240" cy="25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ARSA DI VENE VARI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ORMAZIONE DI TROM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RAGILITA’ OSSEA - DOLORI ARTICO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421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PUO’ CAUS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E’ UTILE QUIN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VISITA MEDICA PREVENTIVA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ima di riprendere ad esercita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RICOMINCIARE L’ATTIVITA’ FISICA IN MODO GRADUALE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cendo molta attenzione a non fare sforzi in breve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41360"/>
            <a:ext cx="77724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ATICARE ATTIVITA’ FISICA LEGGER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MENO TRE VOLTE LA SETTIMAN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ALMENO 1/2 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MPORTANT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le persone che sono rimaste inattive per periodi molto lungh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EFFETTI SALUTARI</a:t>
            </a:r>
            <a:br>
              <a:rPr sz="2400"/>
            </a:b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I UN’ATTIVITA’ FISICA REG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MOLA LE FUNZIONI CARDIOVASCOLARI E RESPIRAT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L’APPORTO DI SANGUE AI MUSCOLI DEL CU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NTRIBUISCE AL MANTENIMENTO DELLA FORZA MUSCOLARE E L’ELASTICITA’ ARTICO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GLIORA IL COORDINAMENTO DEI MOVIMENTI E LA RAPIDITA’ DEI RIFL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FLUENZA FAVOREVOLMENTE L’U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UTA A REGOLARE L’APPE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AVORISCE IL SON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EVIENE L’OSTEOPOR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AVORISCE IL CONSUMO DI  ENERGIA, CHE AIUTA IL CONTROLLO DEL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ABBISOGNO ENERGETICO APPROSSI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04960" y="2760840"/>
          <a:ext cx="7535880" cy="133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2760840"/>
                    <a:ext cx="753588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04960" y="2760840"/>
          <a:ext cx="7535880" cy="133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760840"/>
                    <a:ext cx="753588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ività fi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eno tre volte alla settimana per almeno mezz’ora (meglio però se mezz’ora tutti i gior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hé l’attività fisica “funzioni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ve portare la frequenza cardiaca a 70- 80 % della mass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parole povere: una passeggiata veloce o un giro in bici che mi dà un po’ di “fiatone” senza però impedirmi di par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831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ffetti salutari di una moderata attività fi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220464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imola e tonifica le funzioni respiratorie e cardiova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menta l’apporto di sangue al cuore (lo fa “lavorare meglio” e lo “nutre megli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tiene tonici i nostri muscoli e le nostre artico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ene l’osteopor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de più coordinati e con rflessi più rap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lassa e mette di buon u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vorisce il so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ola l’appe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uma energia che aiuta a controllare il peso (sia col consumo aerobio di lipidi e glucosio, sia con l’aumento della massa muscolar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FOCU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PETTI NEGATIV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carsità degli operatori rispetto alle necessit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co tempo da dedicare ad ogni anz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arsa comunicazione fra personale al cambio turno e con gli operatori delle cu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ferenze esterne di badanti e pa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arsa attività fisica e mobilità degli ospiti anzi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rari pasti ravvicin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PPORTUNITA’ POSIT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oscere cose nuove e qualificanti rispetto al proprio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vere più tempo da dedicare alla 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attenzione degli operatori nei confronti dellìmportanza dell’alimentazione nell’anz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3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voro di gruppo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(4-5 persone per grupp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32000" y="3357720"/>
            <a:ext cx="644040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vate a pensare almeno a 2 eserciz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servano a mantenere il     coordinamento e i rifl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servano alle articolaz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2602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 instaurare un progetto di educazione fisica per l’anzia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1773360"/>
            <a:ext cx="2819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ù del 50% degli anziani che aderisce a un progetto di educazione fisica lo interrompe dopo 6 mes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EVITARE CIO’ occorre PROGRAMM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00200"/>
            <a:ext cx="5943600" cy="54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ita medica prima di iniziare, con valutazione delle pat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ettare un corso mirato con insegnanti ISEF e med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lmeno tre volte la settimana per 1 ora ogni volta (laddove po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ale confortev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biente allegro e informale (musica di sottofo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ercizi variati, diversi ogni mese e grad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menti “a gradino”(prime settimane lento e graduale, poi lievi incrementi con “soste a quel livello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ching e rilas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 mesi estivi attività all’aria ap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dere l’acquisto e l’utilizzo di attrezzi e mac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rata ann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1447920"/>
            <a:ext cx="30481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71840" y="5562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ballo può essere un’ottima attività fisic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440" y="2492280"/>
            <a:ext cx="7086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si di ballo e musica da ballo purchè servano per muoversi e non si limitino ad un ascolto passiv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he può andare bene come attività ricreativa ma NON come attività fisica!!!!!!!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gnosi precoce di eventuali patologie nell’anz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anziano, sia a domicilio che in struttura, dovrebbe essere periodicamente visitato e monitorato anche se apparentemente privo di patolog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uali perdite di motilità e di autonomia dovrebbero essere pront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nalate alle prime avvisagl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23018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05120" y="2895480"/>
            <a:ext cx="498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socializzazio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508640"/>
            <a:ext cx="8532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(equilibrio psicofisico = maggiore qualità di vi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24256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685800"/>
            <a:ext cx="8759880" cy="2666160"/>
          </a:xfrm>
          <a:prstGeom prst="wedgeRoundRectCallout">
            <a:avLst>
              <a:gd name="adj1" fmla="val -40490"/>
              <a:gd name="adj2" fmla="val 1239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ensate agli ambienti della residenza/comunità in cui lavorate e individuate i criteri minimi di qualità per renderli accoglienti/viv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3962520"/>
            <a:ext cx="502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cializzazione e gestione del tempo lib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corre stimolare l’anziano impedendone l’isolamento, dandogli motivazioni, fornendogli degli hobby o degli incarichi che lo facciano sentire u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12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3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gni uomo per sentirsi “vivo” deve sentirsi “utile” e “partecip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imolare l’anziano intellettualmente (parole crociate, far segnare i compleanni, dotarsi di una biblioteca e di giornali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ecipare a iniziative sociali (gite, incontri, uscite per ballare, cinema, teatro, feste di complean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por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iccoli lavor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gnare all’anziano ad affermare la propria pres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tere i propri probl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ved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menti di vita all’aria ap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re la giusta importanz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pulizia e decoro, e scelta personale dei ves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porre un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“diversificazione” della routine (piccoli cambiamen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0120" y="152280"/>
            <a:ext cx="111420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bienti case di riposo: requisit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bienti “caldi” (addobbi, tovaglie, quadri di gusto e con un po’ di ricercatezza), e lumi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ilità di personalizzare la 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ottini per creare tante zone di inco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1812960" cy="1460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162864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istenza discreta ma vigile per gli autosufficienti (la casa di riposo deve assomigliare il più posssibile ad una casa- allo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mpi dei pasti e delle attiv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ono essere il più possibile “fisiologici”, non “da caserma”, non rigidi e troppo vincolanti, ed imitare i tempi “casalinghi”, senza troppa fretta per quanto riguarda la durata dei pasti (TEMPO MINIMO 45 MIN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Obiettivi del gruppo di lavoro Regi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alizzare un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uida semplic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omprensibile e pr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alizzare un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orso di for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Le conoscenze aiutano ad acquisire professionalità e sicurezza.  Un operatore preparato è, inoltre, più soddisfat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atterizzazione e personalizzazione della strut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i anziani per sentire “propria” la struttura, devono essere interpellati e intervenire nelle scelte (dagli arredi alle tovaglie, al tipo di animazione o g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ate e bicchieri in una “busta personalizz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 libero= giardini ampi; piccoli laboratori artigianali, piccoli lavori e commerci; uscite serali in gruppo per cinema, feste, ballo; gare boc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r con possibilità di accesso degli este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ccoli o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ività fisica aperta anche agli “estern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imazione giorn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uppi di incontro con psicolo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484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truttura non dovrebbe imporsi all’anziano, ma comodamente e plasticamente modellarsi ad esso.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li anziani sono ciò che saremo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è una frase del Vangelo che dice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“non fare agli altri quello che non vorresti fosse fatto a 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235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47920"/>
            <a:ext cx="70912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67002"/>
                </a:solidFill>
                <a:effectLst>
                  <a:outerShdw dist="153753" dir="2700000" blurRad="0" rotWithShape="0">
                    <a:srgbClr val="dde0dc"/>
                  </a:outerShdw>
                </a:effectLst>
                <a:latin typeface="Comic Sans MS"/>
              </a:rPr>
              <a:t>Stili di vita</a:t>
            </a:r>
            <a:endParaRPr b="1" lang="en-US" sz="2400" spc="1" strike="noStrike">
              <a:ln w="0">
                <a:noFill/>
              </a:ln>
              <a:solidFill>
                <a:srgbClr val="367002"/>
              </a:solidFill>
              <a:effectLst>
                <a:outerShdw dist="153753" dir="2700000" blurRad="0" rotWithShape="0">
                  <a:srgbClr val="dde0d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5950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II mo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19810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5120" y="1600200"/>
            <a:ext cx="56386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Comic Sans MS"/>
              </a:rPr>
              <a:t>Come deve comportarsi l’anziano per vivere in buona salut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260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acciamo un “brainstorming”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ziani in Piemon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io Argento” –  I.S.S.  200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iemontesi anziani sono più longevi rispetto ai coetanei del Sud 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però più soli e meno accuditi dai famig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frono soprattutto di artrosi, osteoporosi e depressione (le donne più degli uomi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malattie croniche e la depressione sono più diffuse in periferia e nei paesi rispetto alle grandi cit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donne sentono di più le limitazioni legate all’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ti anziani non hanno hobby o interessi al di fuori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n tutti gli anziani sono ugu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ziani in buona sa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ziani con malattie croniche o acute (Alzheimer, diabete, cardiopatie, bronchiti, ec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ziani deboli (inappetenti, che si nutrono poco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siamo “allenarci” per non invecchi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vecchiamento si può rallentare con una costante attività fisica e mantenendo o stimolando interessi intellettuali (lettura di libri, attività artistiche, giornali, “parole crociate”, ascolto della rad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75 anni un anziano può avere perdite di lucidità e scioltezza limitate (intorno al 20%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75 anni posso conservare ancora un 80% della scioltezza e lucidità che avevo a 30 an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a 30 anni potevo “ fare 100 cose” o “avere 100 pensieri”, a 75 anni posso “fare ancora 80 cose” e “avere 80 pensieri”: la perdita di funzionalità psico- fisica ad età avanzate è minima se tengo in forma corpo e men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9:01:12Z</dcterms:created>
  <dc:creator>gigi devalle</dc:creator>
  <dc:description/>
  <dc:language>en-US</dc:language>
  <cp:lastModifiedBy>.</cp:lastModifiedBy>
  <dcterms:modified xsi:type="dcterms:W3CDTF">2005-05-11T07:03:44Z</dcterms:modified>
  <cp:revision>35</cp:revision>
  <dc:subject/>
  <dc:title>Non tutti gli anziani sono uguali</dc:title>
</cp:coreProperties>
</file>