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jpeg" ContentType="image/jpeg"/>
  <Override PartName="/ppt/media/image16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D22-32FC-47FF-B1DC-9C5D1EF946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ate di essere su una scialuppa dopo un naufragi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ete il capitano e con voi ci sono 4 marinai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ima di affondare siete riusciti a caricare 15 sacchetti di cibo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gni sacchetto basta per una persona per un giorn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ate mangiando i sacchetti di cib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5 sacchetti per 5 persone 3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 vi mangiate i marina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 marinaio basta come pasto per 4 person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° marinaio 1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° marinaio 1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° marinaio 2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° marinaio 4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tale marinai = 8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iorni sopravvivenza soluzione 1 = 8 + 3 = 11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ate mangiando i marinai… Un marinaio basta come pasto per 4 person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° marinaio 1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° marinaio 1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° marinaio 2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° marinaio 4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tale marinai = 8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i restano 15 sacchetti di cib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5 giorni di sopravviven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iorni sopravvivenza soluzione 2 = 8 + 15 = 23 gio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marinai, cioè i muscoli, consumano molt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entre il tessuto adiposo consuma pochissimo per sopravviv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è anche il motivo per cui quando smettiamo la dieta ingrassiam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ricominciamo a mangiare 5 sacchetti di cibo al giorn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n abbiamo più i 5 marinai che li consuman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 solo il capitan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e ne mangia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 mette da parte (come grasso) gli altri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ché i marinai non vengano mangiati bisogna convincere il capitano che sono utili….. Perché rema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 allora bisogna rem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E62-FD48-4E6C-B508-786D84EF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57F-1762-44D8-8D0B-4FA5939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A67-37D4-4F83-9DD5-77ADB1CE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F70-9422-4C13-BE0B-7D74412E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3AB-B998-479D-A4D8-4DDDD7E1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5E7-1659-4E5C-9BB7-70BD6209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F8E-1747-49BD-9624-C540C5C7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838-A390-4A9E-B543-5676426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ED3-4015-41B5-B17E-5DC985EA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AC6-A014-4432-BABA-25912034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A56-8410-4B92-ADF9-3FB67F2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6A4-642B-4B4A-9084-41EF251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B8D-F853-4F25-AE76-CBF0AA8D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3124080"/>
            <a:ext cx="74995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33cc"/>
                </a:solidFill>
                <a:latin typeface="Comic Sans MS"/>
                <a:ea typeface="바탕"/>
              </a:rPr>
              <a:t>“</a:t>
            </a:r>
            <a:r>
              <a:rPr b="1" i="1" lang="it-IT" sz="2800" spc="-1" strike="noStrike">
                <a:solidFill>
                  <a:srgbClr val="3333cc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it-IT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Comic Sans MS"/>
                <a:ea typeface="바탕"/>
              </a:rPr>
              <a:t>Corso base per operatori delle residenze </a:t>
            </a: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08796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cura dell’ASL 10 – S.I.A.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19051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120" y="15998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MANGIARE CORRETTAMENTE E’ IMPORTANTE QUANTO RIMANERE ATTIVI E IN BUONA FORM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o facilita il buon funzionamento dell’organismo ed aiuta a cogliere il meglio del cibo consuma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1667160" cy="20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71800" y="4267080"/>
            <a:ext cx="2362320" cy="12193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429000"/>
            <a:ext cx="2438280" cy="1295280"/>
          </a:xfrm>
          <a:prstGeom prst="wedgeEllipseCallout">
            <a:avLst>
              <a:gd name="adj1" fmla="val -44532"/>
              <a:gd name="adj2" fmla="val 55884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4320" y="2170080"/>
            <a:ext cx="2361960" cy="990720"/>
          </a:xfrm>
          <a:prstGeom prst="wedgeEllipseCallout">
            <a:avLst>
              <a:gd name="adj1" fmla="val -22578"/>
              <a:gd name="adj2" fmla="val 65384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8480" y="2355840"/>
            <a:ext cx="246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MANCANZA DI ESERCIZIO FI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59280" y="3637080"/>
            <a:ext cx="2194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CCENTUAZIONE DEI DEFICIT DERIVANTI DALL’E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4513320"/>
            <a:ext cx="219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mic Sans MS"/>
              </a:rPr>
              <a:t>AUMENTO DEGLI SVANTAGGI DOVUTI ALLA VECCHI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1560" y="3762360"/>
            <a:ext cx="173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ULTERI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00400" y="838080"/>
            <a:ext cx="278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olo Vizios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 rot="2700000">
            <a:off x="5905800" y="278100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8900000">
            <a:off x="2201400" y="2895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9000000">
            <a:off x="5409720" y="495252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3800000">
            <a:off x="2133360" y="441936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LA SCARSA ATTIVITA’ O L’INATTIVITA’ FI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3352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COMPARSA DI VENE VARI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FORMAZIONE DI TR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FRAGILITA’ OS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DOLORI ARTIC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3333cc"/>
                </a:solidFill>
                <a:uFillTx/>
                <a:latin typeface="Comic Sans MS"/>
              </a:rPr>
              <a:t>PUO’ CAUSARE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E’ UTILE QUIN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VISITA MEDICA PREVENTIVA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prima di riprendere ad esercita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RICOMINCIARE L’ATTIVITA’ FISICA IN MODO GRADUALE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facendo molta attenzione a non fare sforzi in breve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ATICARE ATTIVITA’ FISICA LEGGERA 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ALMENO TRE VOLTE LA SETTIMANA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ER ALMENO 1/2 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MPORTANTE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er le persone che sono rimaste inattive per periodi molto lungh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ività fi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eno tre volte alla settimana per almeno mezz’ora (meglio però se mezz’ora tutti i gior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hé l’attività fisica “funzioni”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ve portare la frequenza cardiaca a 55-69 % della mass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parole povere: una passeggiata veloce o un giro in bici che mi dà un po’ di “fiatone” senza però impedirmi di par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038480"/>
            <a:ext cx="8001000" cy="22100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18316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tti salutari di una moderata attività fi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ola e tonifica le funzioni respiratorie e cardiovasc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 l’apporto di sangue al cuore (lo fa “lavorare meglio” e lo “nutre meglio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iene tonici i nostri muscoli e le nostre artico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ene l’osteopor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 più coordinati e con riflessi più rap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lassa e mette di buon u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isce il so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ola l’appet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a energia che aiuta a controllare il peso (sia col consumo aerobio di lipidi e glucosio, sia con l’aumento della massa muscolare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26028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ché dimagrire con le sole diete non funziona ovv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5 marina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832360" cy="40053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0" y="1557360"/>
            <a:ext cx="9144000" cy="2016000"/>
            <a:chOff x="0" y="1557360"/>
            <a:chExt cx="9144000" cy="20160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rcRect l="18898" t="0" r="18898" b="0"/>
            <a:stretch/>
          </p:blipFill>
          <p:spPr>
            <a:xfrm>
              <a:off x="2195640" y="1557360"/>
              <a:ext cx="156672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611280" y="1557360"/>
              <a:ext cx="164628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rcRect l="18898" t="0" r="18898" b="0"/>
            <a:stretch/>
          </p:blipFill>
          <p:spPr>
            <a:xfrm>
              <a:off x="3635280" y="1557360"/>
              <a:ext cx="156708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rcRect l="18898" t="0" r="18898" b="0"/>
            <a:stretch/>
          </p:blipFill>
          <p:spPr>
            <a:xfrm>
              <a:off x="5076720" y="1557360"/>
              <a:ext cx="156708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rcRect l="18898" t="0" r="18898" b="0"/>
            <a:stretch/>
          </p:blipFill>
          <p:spPr>
            <a:xfrm>
              <a:off x="6516720" y="1557360"/>
              <a:ext cx="1566720" cy="20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357336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155736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19280" y="3645000"/>
            <a:ext cx="5111640" cy="3024000"/>
            <a:chOff x="1619280" y="3645000"/>
            <a:chExt cx="5111640" cy="3024000"/>
          </a:xfrm>
        </p:grpSpPr>
        <p:grpSp>
          <p:nvGrpSpPr>
            <p:cNvPr id="119" name=""/>
            <p:cNvGrpSpPr/>
            <p:nvPr/>
          </p:nvGrpSpPr>
          <p:grpSpPr>
            <a:xfrm>
              <a:off x="1619280" y="3645000"/>
              <a:ext cx="5106600" cy="3019320"/>
              <a:chOff x="1619280" y="3645000"/>
              <a:chExt cx="5106600" cy="30193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1619280" y="3645000"/>
                <a:ext cx="5106600" cy="1074600"/>
                <a:chOff x="1619280" y="3645000"/>
                <a:chExt cx="5106600" cy="10746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19280" y="364500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728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3528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328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651280" y="364500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" name=""/>
              <p:cNvGrpSpPr/>
              <p:nvPr/>
            </p:nvGrpSpPr>
            <p:grpSpPr>
              <a:xfrm>
                <a:off x="1619280" y="4581360"/>
                <a:ext cx="5106600" cy="1074600"/>
                <a:chOff x="1619280" y="4581360"/>
                <a:chExt cx="5106600" cy="1074600"/>
              </a:xfrm>
            </p:grpSpPr>
            <p:pic>
              <p:nvPicPr>
                <p:cNvPr id="1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19280" y="458136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62728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63528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64328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51280" y="458136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2" name=""/>
              <p:cNvGrpSpPr/>
              <p:nvPr/>
            </p:nvGrpSpPr>
            <p:grpSpPr>
              <a:xfrm>
                <a:off x="1619280" y="5589720"/>
                <a:ext cx="5106600" cy="1074600"/>
                <a:chOff x="1619280" y="5589720"/>
                <a:chExt cx="5106600" cy="107460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619280" y="558972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62728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63528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64328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651280" y="558972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8" name=""/>
            <p:cNvSpPr/>
            <p:nvPr/>
          </p:nvSpPr>
          <p:spPr>
            <a:xfrm>
              <a:off x="1619280" y="3645000"/>
              <a:ext cx="0" cy="30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30920" y="3645000"/>
              <a:ext cx="0" cy="30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19280" y="6669000"/>
              <a:ext cx="511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9280" y="3645000"/>
              <a:ext cx="511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6920" y="404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052640"/>
            <a:ext cx="9144000" cy="2016000"/>
            <a:chOff x="0" y="1052640"/>
            <a:chExt cx="9144000" cy="2016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8898" t="0" r="18898" b="0"/>
            <a:stretch/>
          </p:blipFill>
          <p:spPr>
            <a:xfrm>
              <a:off x="2195640" y="1052640"/>
              <a:ext cx="156672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611280" y="1052640"/>
              <a:ext cx="164628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18898" t="0" r="18898" b="0"/>
            <a:stretch/>
          </p:blipFill>
          <p:spPr>
            <a:xfrm>
              <a:off x="3635280" y="1052640"/>
              <a:ext cx="156708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rcRect l="18898" t="0" r="18898" b="0"/>
            <a:stretch/>
          </p:blipFill>
          <p:spPr>
            <a:xfrm>
              <a:off x="5076720" y="1052640"/>
              <a:ext cx="156708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rcRect l="18898" t="0" r="18898" b="0"/>
            <a:stretch/>
          </p:blipFill>
          <p:spPr>
            <a:xfrm>
              <a:off x="6516720" y="1052640"/>
              <a:ext cx="1566720" cy="20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306864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0" y="3645000"/>
            <a:ext cx="5111640" cy="3024000"/>
            <a:chOff x="0" y="3645000"/>
            <a:chExt cx="5111640" cy="3024000"/>
          </a:xfrm>
        </p:grpSpPr>
        <p:grpSp>
          <p:nvGrpSpPr>
            <p:cNvPr id="152" name=""/>
            <p:cNvGrpSpPr/>
            <p:nvPr/>
          </p:nvGrpSpPr>
          <p:grpSpPr>
            <a:xfrm>
              <a:off x="0" y="3645000"/>
              <a:ext cx="5106600" cy="3019320"/>
              <a:chOff x="0" y="3645000"/>
              <a:chExt cx="5106600" cy="30193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0" y="3645000"/>
                <a:ext cx="5106600" cy="1074600"/>
                <a:chOff x="0" y="3645000"/>
                <a:chExt cx="5106600" cy="107460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364500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800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01600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2400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32000" y="364500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9" name=""/>
              <p:cNvGrpSpPr/>
              <p:nvPr/>
            </p:nvGrpSpPr>
            <p:grpSpPr>
              <a:xfrm>
                <a:off x="0" y="4581360"/>
                <a:ext cx="5106600" cy="1074600"/>
                <a:chOff x="0" y="4581360"/>
                <a:chExt cx="5106600" cy="1074600"/>
              </a:xfrm>
            </p:grpSpPr>
            <p:pic>
              <p:nvPicPr>
                <p:cNvPr id="1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458136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00800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01600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02400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032000" y="458136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0" y="5589720"/>
                <a:ext cx="5106600" cy="1074600"/>
                <a:chOff x="0" y="5589720"/>
                <a:chExt cx="5106600" cy="107460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558972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00800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01600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02400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032000" y="558972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1" name=""/>
            <p:cNvSpPr/>
            <p:nvPr/>
          </p:nvSpPr>
          <p:spPr>
            <a:xfrm>
              <a:off x="0" y="3645000"/>
              <a:ext cx="0" cy="30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11640" y="3645000"/>
              <a:ext cx="0" cy="30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6669000"/>
              <a:ext cx="511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3645000"/>
              <a:ext cx="511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8920" y="3789360"/>
            <a:ext cx="864000" cy="719280"/>
            <a:chOff x="178920" y="3789360"/>
            <a:chExt cx="864000" cy="719280"/>
          </a:xfrm>
        </p:grpSpPr>
        <p:sp>
          <p:nvSpPr>
            <p:cNvPr id="176" name=""/>
            <p:cNvSpPr/>
            <p:nvPr/>
          </p:nvSpPr>
          <p:spPr>
            <a:xfrm>
              <a:off x="179280" y="3860640"/>
              <a:ext cx="863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78920" y="3789360"/>
              <a:ext cx="792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15640" y="3716280"/>
            <a:ext cx="864000" cy="719280"/>
            <a:chOff x="1115640" y="3716280"/>
            <a:chExt cx="864000" cy="719280"/>
          </a:xfrm>
        </p:grpSpPr>
        <p:sp>
          <p:nvSpPr>
            <p:cNvPr id="179" name=""/>
            <p:cNvSpPr/>
            <p:nvPr/>
          </p:nvSpPr>
          <p:spPr>
            <a:xfrm>
              <a:off x="1116000" y="3787560"/>
              <a:ext cx="863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15640" y="3716280"/>
              <a:ext cx="792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123640" y="3716280"/>
            <a:ext cx="864000" cy="719280"/>
            <a:chOff x="2123640" y="3716280"/>
            <a:chExt cx="864000" cy="719280"/>
          </a:xfrm>
        </p:grpSpPr>
        <p:sp>
          <p:nvSpPr>
            <p:cNvPr id="182" name=""/>
            <p:cNvSpPr/>
            <p:nvPr/>
          </p:nvSpPr>
          <p:spPr>
            <a:xfrm>
              <a:off x="2124000" y="3787560"/>
              <a:ext cx="863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123640" y="3716280"/>
              <a:ext cx="792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03280" y="3716280"/>
            <a:ext cx="864000" cy="719280"/>
            <a:chOff x="3203280" y="3716280"/>
            <a:chExt cx="864000" cy="719280"/>
          </a:xfrm>
        </p:grpSpPr>
        <p:sp>
          <p:nvSpPr>
            <p:cNvPr id="185" name=""/>
            <p:cNvSpPr/>
            <p:nvPr/>
          </p:nvSpPr>
          <p:spPr>
            <a:xfrm>
              <a:off x="3203640" y="3787560"/>
              <a:ext cx="863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203280" y="3716280"/>
              <a:ext cx="792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11280" y="3716280"/>
            <a:ext cx="864000" cy="719280"/>
            <a:chOff x="4211280" y="3716280"/>
            <a:chExt cx="864000" cy="719280"/>
          </a:xfrm>
        </p:grpSpPr>
        <p:sp>
          <p:nvSpPr>
            <p:cNvPr id="188" name=""/>
            <p:cNvSpPr/>
            <p:nvPr/>
          </p:nvSpPr>
          <p:spPr>
            <a:xfrm>
              <a:off x="4211640" y="3787560"/>
              <a:ext cx="863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211280" y="3716280"/>
              <a:ext cx="792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78920" y="4724280"/>
            <a:ext cx="4896360" cy="790560"/>
            <a:chOff x="178920" y="4724280"/>
            <a:chExt cx="4896360" cy="790560"/>
          </a:xfrm>
        </p:grpSpPr>
        <p:grpSp>
          <p:nvGrpSpPr>
            <p:cNvPr id="191" name=""/>
            <p:cNvGrpSpPr/>
            <p:nvPr/>
          </p:nvGrpSpPr>
          <p:grpSpPr>
            <a:xfrm>
              <a:off x="178920" y="4724280"/>
              <a:ext cx="864000" cy="719280"/>
              <a:chOff x="178920" y="4724280"/>
              <a:chExt cx="864000" cy="719280"/>
            </a:xfrm>
          </p:grpSpPr>
          <p:sp>
            <p:nvSpPr>
              <p:cNvPr id="192" name=""/>
              <p:cNvSpPr/>
              <p:nvPr/>
            </p:nvSpPr>
            <p:spPr>
              <a:xfrm>
                <a:off x="17928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7892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186920" y="4795920"/>
              <a:ext cx="864000" cy="718920"/>
              <a:chOff x="1186920" y="4795920"/>
              <a:chExt cx="864000" cy="718920"/>
            </a:xfrm>
          </p:grpSpPr>
          <p:sp>
            <p:nvSpPr>
              <p:cNvPr id="195" name=""/>
              <p:cNvSpPr/>
              <p:nvPr/>
            </p:nvSpPr>
            <p:spPr>
              <a:xfrm>
                <a:off x="1187280" y="4866840"/>
                <a:ext cx="86364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186920" y="4795920"/>
                <a:ext cx="79236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266560" y="4724280"/>
              <a:ext cx="864000" cy="719280"/>
              <a:chOff x="2266560" y="4724280"/>
              <a:chExt cx="864000" cy="719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26692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6656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203280" y="4724280"/>
              <a:ext cx="864000" cy="719280"/>
              <a:chOff x="3203280" y="4724280"/>
              <a:chExt cx="864000" cy="719280"/>
            </a:xfrm>
          </p:grpSpPr>
          <p:sp>
            <p:nvSpPr>
              <p:cNvPr id="201" name=""/>
              <p:cNvSpPr/>
              <p:nvPr/>
            </p:nvSpPr>
            <p:spPr>
              <a:xfrm>
                <a:off x="320364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20328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211280" y="4724280"/>
              <a:ext cx="864000" cy="719280"/>
              <a:chOff x="4211280" y="4724280"/>
              <a:chExt cx="864000" cy="7192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1164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21128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78920" y="5734080"/>
            <a:ext cx="4896360" cy="790560"/>
            <a:chOff x="178920" y="5734080"/>
            <a:chExt cx="4896360" cy="790560"/>
          </a:xfrm>
        </p:grpSpPr>
        <p:grpSp>
          <p:nvGrpSpPr>
            <p:cNvPr id="207" name=""/>
            <p:cNvGrpSpPr/>
            <p:nvPr/>
          </p:nvGrpSpPr>
          <p:grpSpPr>
            <a:xfrm>
              <a:off x="178920" y="5734080"/>
              <a:ext cx="864000" cy="719280"/>
              <a:chOff x="178920" y="5734080"/>
              <a:chExt cx="864000" cy="719280"/>
            </a:xfrm>
          </p:grpSpPr>
          <p:sp>
            <p:nvSpPr>
              <p:cNvPr id="208" name=""/>
              <p:cNvSpPr/>
              <p:nvPr/>
            </p:nvSpPr>
            <p:spPr>
              <a:xfrm>
                <a:off x="17928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7892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186920" y="5805720"/>
              <a:ext cx="864000" cy="718920"/>
              <a:chOff x="1186920" y="5805720"/>
              <a:chExt cx="864000" cy="718920"/>
            </a:xfrm>
          </p:grpSpPr>
          <p:sp>
            <p:nvSpPr>
              <p:cNvPr id="211" name=""/>
              <p:cNvSpPr/>
              <p:nvPr/>
            </p:nvSpPr>
            <p:spPr>
              <a:xfrm>
                <a:off x="1187280" y="5876640"/>
                <a:ext cx="86364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186920" y="5805720"/>
                <a:ext cx="79236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266560" y="5734080"/>
              <a:ext cx="864000" cy="719280"/>
              <a:chOff x="2266560" y="5734080"/>
              <a:chExt cx="864000" cy="719280"/>
            </a:xfrm>
          </p:grpSpPr>
          <p:sp>
            <p:nvSpPr>
              <p:cNvPr id="214" name=""/>
              <p:cNvSpPr/>
              <p:nvPr/>
            </p:nvSpPr>
            <p:spPr>
              <a:xfrm>
                <a:off x="226692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6656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203280" y="5734080"/>
              <a:ext cx="864000" cy="719280"/>
              <a:chOff x="3203280" y="5734080"/>
              <a:chExt cx="864000" cy="719280"/>
            </a:xfrm>
          </p:grpSpPr>
          <p:sp>
            <p:nvSpPr>
              <p:cNvPr id="217" name=""/>
              <p:cNvSpPr/>
              <p:nvPr/>
            </p:nvSpPr>
            <p:spPr>
              <a:xfrm>
                <a:off x="320364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320328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211280" y="5734080"/>
              <a:ext cx="864000" cy="719280"/>
              <a:chOff x="4211280" y="5734080"/>
              <a:chExt cx="864000" cy="719280"/>
            </a:xfrm>
          </p:grpSpPr>
          <p:sp>
            <p:nvSpPr>
              <p:cNvPr id="220" name=""/>
              <p:cNvSpPr/>
              <p:nvPr/>
            </p:nvSpPr>
            <p:spPr>
              <a:xfrm>
                <a:off x="421164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21128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2410920" y="1268280"/>
            <a:ext cx="1224000" cy="1440720"/>
            <a:chOff x="2410920" y="1268280"/>
            <a:chExt cx="1224000" cy="1440720"/>
          </a:xfrm>
        </p:grpSpPr>
        <p:sp>
          <p:nvSpPr>
            <p:cNvPr id="223" name=""/>
            <p:cNvSpPr/>
            <p:nvPr/>
          </p:nvSpPr>
          <p:spPr>
            <a:xfrm>
              <a:off x="2411280" y="1410840"/>
              <a:ext cx="122364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410920" y="1268280"/>
              <a:ext cx="112284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219640" y="3357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 sacchi = 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3933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5 sacchi = 3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44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° marinaio = 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780000" y="1197000"/>
            <a:ext cx="1223280" cy="1440720"/>
            <a:chOff x="3780000" y="1197000"/>
            <a:chExt cx="1223280" cy="1440720"/>
          </a:xfrm>
        </p:grpSpPr>
        <p:sp>
          <p:nvSpPr>
            <p:cNvPr id="229" name=""/>
            <p:cNvSpPr/>
            <p:nvPr/>
          </p:nvSpPr>
          <p:spPr>
            <a:xfrm>
              <a:off x="3780000" y="1339560"/>
              <a:ext cx="122328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780000" y="1197000"/>
              <a:ext cx="112248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364000" y="4724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° marinaio = 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19280" y="1197000"/>
            <a:ext cx="1224000" cy="1440720"/>
            <a:chOff x="5219280" y="1197000"/>
            <a:chExt cx="1224000" cy="1440720"/>
          </a:xfrm>
        </p:grpSpPr>
        <p:sp>
          <p:nvSpPr>
            <p:cNvPr id="233" name=""/>
            <p:cNvSpPr/>
            <p:nvPr/>
          </p:nvSpPr>
          <p:spPr>
            <a:xfrm>
              <a:off x="5219640" y="1339560"/>
              <a:ext cx="122364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219280" y="1197000"/>
              <a:ext cx="112284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364000" y="508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° marinaio = 2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280" y="1197000"/>
            <a:ext cx="1224000" cy="1440720"/>
            <a:chOff x="6659280" y="1197000"/>
            <a:chExt cx="1224000" cy="1440720"/>
          </a:xfrm>
        </p:grpSpPr>
        <p:sp>
          <p:nvSpPr>
            <p:cNvPr id="237" name=""/>
            <p:cNvSpPr/>
            <p:nvPr/>
          </p:nvSpPr>
          <p:spPr>
            <a:xfrm>
              <a:off x="6659640" y="1339560"/>
              <a:ext cx="122364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659280" y="1197000"/>
              <a:ext cx="112284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364000" y="544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° marinaio = 4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t marinai = 8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5229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t soluzione 1 = 11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404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052640"/>
            <a:ext cx="9144000" cy="2016000"/>
            <a:chOff x="0" y="1052640"/>
            <a:chExt cx="9144000" cy="20160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rcRect l="18898" t="0" r="18898" b="0"/>
            <a:stretch/>
          </p:blipFill>
          <p:spPr>
            <a:xfrm>
              <a:off x="2195640" y="1052640"/>
              <a:ext cx="156672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611280" y="1052640"/>
              <a:ext cx="164628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rcRect l="18898" t="0" r="18898" b="0"/>
            <a:stretch/>
          </p:blipFill>
          <p:spPr>
            <a:xfrm>
              <a:off x="3635280" y="1052640"/>
              <a:ext cx="156708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rcRect l="18898" t="0" r="18898" b="0"/>
            <a:stretch/>
          </p:blipFill>
          <p:spPr>
            <a:xfrm>
              <a:off x="5076720" y="1052640"/>
              <a:ext cx="156708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rcRect l="18898" t="0" r="18898" b="0"/>
            <a:stretch/>
          </p:blipFill>
          <p:spPr>
            <a:xfrm>
              <a:off x="6516720" y="1052640"/>
              <a:ext cx="1566720" cy="20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0" y="306864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0" y="3645000"/>
            <a:ext cx="5111640" cy="3024000"/>
            <a:chOff x="0" y="3645000"/>
            <a:chExt cx="5111640" cy="3024000"/>
          </a:xfrm>
        </p:grpSpPr>
        <p:grpSp>
          <p:nvGrpSpPr>
            <p:cNvPr id="252" name=""/>
            <p:cNvGrpSpPr/>
            <p:nvPr/>
          </p:nvGrpSpPr>
          <p:grpSpPr>
            <a:xfrm>
              <a:off x="0" y="3645000"/>
              <a:ext cx="5106600" cy="3019320"/>
              <a:chOff x="0" y="3645000"/>
              <a:chExt cx="5106600" cy="301932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0" y="3645000"/>
                <a:ext cx="5106600" cy="1074600"/>
                <a:chOff x="0" y="3645000"/>
                <a:chExt cx="5106600" cy="1074600"/>
              </a:xfrm>
            </p:grpSpPr>
            <p:pic>
              <p:nvPicPr>
                <p:cNvPr id="2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364500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800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01600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24000" y="364500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32000" y="364500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9" name=""/>
              <p:cNvGrpSpPr/>
              <p:nvPr/>
            </p:nvGrpSpPr>
            <p:grpSpPr>
              <a:xfrm>
                <a:off x="0" y="4581360"/>
                <a:ext cx="5106600" cy="1074600"/>
                <a:chOff x="0" y="4581360"/>
                <a:chExt cx="5106600" cy="107460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458136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00800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01600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024000" y="458136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032000" y="458136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0" y="5589720"/>
                <a:ext cx="5106600" cy="1074600"/>
                <a:chOff x="0" y="5589720"/>
                <a:chExt cx="5106600" cy="107460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558972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00800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01600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024000" y="5589720"/>
                  <a:ext cx="107424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032000" y="5589720"/>
                  <a:ext cx="10746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1" name=""/>
            <p:cNvSpPr/>
            <p:nvPr/>
          </p:nvSpPr>
          <p:spPr>
            <a:xfrm>
              <a:off x="0" y="3645000"/>
              <a:ext cx="0" cy="30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11640" y="3645000"/>
              <a:ext cx="0" cy="30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669000"/>
              <a:ext cx="511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3645000"/>
              <a:ext cx="511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78920" y="3789360"/>
            <a:ext cx="864000" cy="719280"/>
            <a:chOff x="178920" y="3789360"/>
            <a:chExt cx="864000" cy="719280"/>
          </a:xfrm>
        </p:grpSpPr>
        <p:sp>
          <p:nvSpPr>
            <p:cNvPr id="276" name=""/>
            <p:cNvSpPr/>
            <p:nvPr/>
          </p:nvSpPr>
          <p:spPr>
            <a:xfrm>
              <a:off x="179280" y="3860640"/>
              <a:ext cx="863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78920" y="3789360"/>
              <a:ext cx="792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115640" y="3716280"/>
            <a:ext cx="3959640" cy="719280"/>
            <a:chOff x="1115640" y="3716280"/>
            <a:chExt cx="3959640" cy="719280"/>
          </a:xfrm>
        </p:grpSpPr>
        <p:grpSp>
          <p:nvGrpSpPr>
            <p:cNvPr id="279" name=""/>
            <p:cNvGrpSpPr/>
            <p:nvPr/>
          </p:nvGrpSpPr>
          <p:grpSpPr>
            <a:xfrm>
              <a:off x="1115640" y="3716280"/>
              <a:ext cx="864000" cy="719280"/>
              <a:chOff x="1115640" y="3716280"/>
              <a:chExt cx="864000" cy="719280"/>
            </a:xfrm>
          </p:grpSpPr>
          <p:sp>
            <p:nvSpPr>
              <p:cNvPr id="280" name=""/>
              <p:cNvSpPr/>
              <p:nvPr/>
            </p:nvSpPr>
            <p:spPr>
              <a:xfrm>
                <a:off x="1116000" y="3787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115640" y="3716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123640" y="3716280"/>
              <a:ext cx="864000" cy="719280"/>
              <a:chOff x="2123640" y="3716280"/>
              <a:chExt cx="864000" cy="719280"/>
            </a:xfrm>
          </p:grpSpPr>
          <p:sp>
            <p:nvSpPr>
              <p:cNvPr id="283" name=""/>
              <p:cNvSpPr/>
              <p:nvPr/>
            </p:nvSpPr>
            <p:spPr>
              <a:xfrm>
                <a:off x="2124000" y="3787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123640" y="3716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203280" y="3716280"/>
              <a:ext cx="864000" cy="719280"/>
              <a:chOff x="3203280" y="3716280"/>
              <a:chExt cx="864000" cy="719280"/>
            </a:xfrm>
          </p:grpSpPr>
          <p:sp>
            <p:nvSpPr>
              <p:cNvPr id="286" name=""/>
              <p:cNvSpPr/>
              <p:nvPr/>
            </p:nvSpPr>
            <p:spPr>
              <a:xfrm>
                <a:off x="3203640" y="3787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203280" y="3716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211280" y="3716280"/>
              <a:ext cx="864000" cy="719280"/>
              <a:chOff x="4211280" y="3716280"/>
              <a:chExt cx="864000" cy="719280"/>
            </a:xfrm>
          </p:grpSpPr>
          <p:sp>
            <p:nvSpPr>
              <p:cNvPr id="289" name=""/>
              <p:cNvSpPr/>
              <p:nvPr/>
            </p:nvSpPr>
            <p:spPr>
              <a:xfrm>
                <a:off x="4211640" y="3787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4211280" y="3716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178920" y="4724280"/>
            <a:ext cx="4896360" cy="790560"/>
            <a:chOff x="178920" y="4724280"/>
            <a:chExt cx="4896360" cy="790560"/>
          </a:xfrm>
        </p:grpSpPr>
        <p:grpSp>
          <p:nvGrpSpPr>
            <p:cNvPr id="292" name=""/>
            <p:cNvGrpSpPr/>
            <p:nvPr/>
          </p:nvGrpSpPr>
          <p:grpSpPr>
            <a:xfrm>
              <a:off x="178920" y="4724280"/>
              <a:ext cx="864000" cy="719280"/>
              <a:chOff x="178920" y="4724280"/>
              <a:chExt cx="864000" cy="719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7928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17892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186920" y="4795920"/>
              <a:ext cx="864000" cy="718920"/>
              <a:chOff x="1186920" y="4795920"/>
              <a:chExt cx="864000" cy="718920"/>
            </a:xfrm>
          </p:grpSpPr>
          <p:sp>
            <p:nvSpPr>
              <p:cNvPr id="296" name=""/>
              <p:cNvSpPr/>
              <p:nvPr/>
            </p:nvSpPr>
            <p:spPr>
              <a:xfrm>
                <a:off x="1187280" y="4866840"/>
                <a:ext cx="86364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1186920" y="4795920"/>
                <a:ext cx="79236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266560" y="4724280"/>
              <a:ext cx="864000" cy="719280"/>
              <a:chOff x="2266560" y="4724280"/>
              <a:chExt cx="864000" cy="719280"/>
            </a:xfrm>
          </p:grpSpPr>
          <p:sp>
            <p:nvSpPr>
              <p:cNvPr id="299" name=""/>
              <p:cNvSpPr/>
              <p:nvPr/>
            </p:nvSpPr>
            <p:spPr>
              <a:xfrm>
                <a:off x="226692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26656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203280" y="4724280"/>
              <a:ext cx="864000" cy="719280"/>
              <a:chOff x="3203280" y="4724280"/>
              <a:chExt cx="864000" cy="719280"/>
            </a:xfrm>
          </p:grpSpPr>
          <p:sp>
            <p:nvSpPr>
              <p:cNvPr id="302" name=""/>
              <p:cNvSpPr/>
              <p:nvPr/>
            </p:nvSpPr>
            <p:spPr>
              <a:xfrm>
                <a:off x="320364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20328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211280" y="4724280"/>
              <a:ext cx="864000" cy="719280"/>
              <a:chOff x="4211280" y="4724280"/>
              <a:chExt cx="864000" cy="719280"/>
            </a:xfrm>
          </p:grpSpPr>
          <p:sp>
            <p:nvSpPr>
              <p:cNvPr id="305" name=""/>
              <p:cNvSpPr/>
              <p:nvPr/>
            </p:nvSpPr>
            <p:spPr>
              <a:xfrm>
                <a:off x="4211640" y="47955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211280" y="47242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178920" y="5734080"/>
            <a:ext cx="4896360" cy="790560"/>
            <a:chOff x="178920" y="5734080"/>
            <a:chExt cx="4896360" cy="790560"/>
          </a:xfrm>
        </p:grpSpPr>
        <p:grpSp>
          <p:nvGrpSpPr>
            <p:cNvPr id="308" name=""/>
            <p:cNvGrpSpPr/>
            <p:nvPr/>
          </p:nvGrpSpPr>
          <p:grpSpPr>
            <a:xfrm>
              <a:off x="178920" y="5734080"/>
              <a:ext cx="864000" cy="719280"/>
              <a:chOff x="178920" y="5734080"/>
              <a:chExt cx="864000" cy="719280"/>
            </a:xfrm>
          </p:grpSpPr>
          <p:sp>
            <p:nvSpPr>
              <p:cNvPr id="309" name=""/>
              <p:cNvSpPr/>
              <p:nvPr/>
            </p:nvSpPr>
            <p:spPr>
              <a:xfrm>
                <a:off x="17928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17892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186920" y="5805720"/>
              <a:ext cx="864000" cy="718920"/>
              <a:chOff x="1186920" y="5805720"/>
              <a:chExt cx="864000" cy="718920"/>
            </a:xfrm>
          </p:grpSpPr>
          <p:sp>
            <p:nvSpPr>
              <p:cNvPr id="312" name=""/>
              <p:cNvSpPr/>
              <p:nvPr/>
            </p:nvSpPr>
            <p:spPr>
              <a:xfrm>
                <a:off x="1187280" y="5876640"/>
                <a:ext cx="86364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186920" y="5805720"/>
                <a:ext cx="79236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266560" y="5734080"/>
              <a:ext cx="864000" cy="719280"/>
              <a:chOff x="2266560" y="5734080"/>
              <a:chExt cx="864000" cy="719280"/>
            </a:xfrm>
          </p:grpSpPr>
          <p:sp>
            <p:nvSpPr>
              <p:cNvPr id="315" name=""/>
              <p:cNvSpPr/>
              <p:nvPr/>
            </p:nvSpPr>
            <p:spPr>
              <a:xfrm>
                <a:off x="226692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6656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203280" y="5734080"/>
              <a:ext cx="864000" cy="719280"/>
              <a:chOff x="3203280" y="5734080"/>
              <a:chExt cx="864000" cy="719280"/>
            </a:xfrm>
          </p:grpSpPr>
          <p:sp>
            <p:nvSpPr>
              <p:cNvPr id="318" name=""/>
              <p:cNvSpPr/>
              <p:nvPr/>
            </p:nvSpPr>
            <p:spPr>
              <a:xfrm>
                <a:off x="320364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328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4211280" y="5734080"/>
              <a:ext cx="864000" cy="719280"/>
              <a:chOff x="4211280" y="5734080"/>
              <a:chExt cx="864000" cy="719280"/>
            </a:xfrm>
          </p:grpSpPr>
          <p:sp>
            <p:nvSpPr>
              <p:cNvPr id="321" name=""/>
              <p:cNvSpPr/>
              <p:nvPr/>
            </p:nvSpPr>
            <p:spPr>
              <a:xfrm>
                <a:off x="4211640" y="5805360"/>
                <a:ext cx="863640" cy="64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211280" y="5734080"/>
                <a:ext cx="79236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2410920" y="1268280"/>
            <a:ext cx="1224000" cy="1440720"/>
            <a:chOff x="2410920" y="1268280"/>
            <a:chExt cx="1224000" cy="1440720"/>
          </a:xfrm>
        </p:grpSpPr>
        <p:sp>
          <p:nvSpPr>
            <p:cNvPr id="324" name=""/>
            <p:cNvSpPr/>
            <p:nvPr/>
          </p:nvSpPr>
          <p:spPr>
            <a:xfrm>
              <a:off x="2411280" y="1410840"/>
              <a:ext cx="122364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410920" y="1268280"/>
              <a:ext cx="112284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219640" y="4221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 sacco = 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4797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5 sacchi = 15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64000" y="44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° marinaio = 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780000" y="1197000"/>
            <a:ext cx="1223280" cy="1440720"/>
            <a:chOff x="3780000" y="1197000"/>
            <a:chExt cx="1223280" cy="1440720"/>
          </a:xfrm>
        </p:grpSpPr>
        <p:sp>
          <p:nvSpPr>
            <p:cNvPr id="330" name=""/>
            <p:cNvSpPr/>
            <p:nvPr/>
          </p:nvSpPr>
          <p:spPr>
            <a:xfrm>
              <a:off x="3780000" y="1339560"/>
              <a:ext cx="122328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780000" y="1197000"/>
              <a:ext cx="112248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435640" y="4724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° marinaio = 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19280" y="1197000"/>
            <a:ext cx="1224000" cy="1440720"/>
            <a:chOff x="5219280" y="1197000"/>
            <a:chExt cx="1224000" cy="1440720"/>
          </a:xfrm>
        </p:grpSpPr>
        <p:sp>
          <p:nvSpPr>
            <p:cNvPr id="334" name=""/>
            <p:cNvSpPr/>
            <p:nvPr/>
          </p:nvSpPr>
          <p:spPr>
            <a:xfrm>
              <a:off x="5219640" y="1339560"/>
              <a:ext cx="122364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219280" y="1197000"/>
              <a:ext cx="112284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364000" y="508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° marinaio = 2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659280" y="1197000"/>
            <a:ext cx="1224000" cy="1440720"/>
            <a:chOff x="6659280" y="1197000"/>
            <a:chExt cx="1224000" cy="1440720"/>
          </a:xfrm>
        </p:grpSpPr>
        <p:sp>
          <p:nvSpPr>
            <p:cNvPr id="338" name=""/>
            <p:cNvSpPr/>
            <p:nvPr/>
          </p:nvSpPr>
          <p:spPr>
            <a:xfrm>
              <a:off x="6659640" y="1339560"/>
              <a:ext cx="1223640" cy="129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659280" y="1197000"/>
              <a:ext cx="1122840" cy="144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64000" y="544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° marinaio = 4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6400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t marinai = 8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08720" y="6021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t soluzione 2 = 23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95280" y="450864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2327040" cy="23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"/>
          <p:cNvSpPr/>
          <p:nvPr/>
        </p:nvSpPr>
        <p:spPr>
          <a:xfrm>
            <a:off x="3203640" y="2133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18898" t="0" r="18898" b="0"/>
          <a:stretch/>
        </p:blipFill>
        <p:spPr>
          <a:xfrm>
            <a:off x="826920" y="907920"/>
            <a:ext cx="184788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18003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3348000" y="486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rcRect l="0" t="0" r="44766" b="0"/>
          <a:stretch/>
        </p:blipFill>
        <p:spPr>
          <a:xfrm>
            <a:off x="6156360" y="4005360"/>
            <a:ext cx="144468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684360" y="333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um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3500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447920"/>
            <a:ext cx="70912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tili di vita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943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Comic Sans MS"/>
              </a:rPr>
              <a:t>II mo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1128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e die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5106600" cy="1074600"/>
            <a:chOff x="0" y="0"/>
            <a:chExt cx="5106600" cy="107460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1008000" y="0"/>
              <a:ext cx="107424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2016000" y="0"/>
              <a:ext cx="107424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57" name="" descr=""/>
            <p:cNvPicPr/>
            <p:nvPr/>
          </p:nvPicPr>
          <p:blipFill>
            <a:blip r:embed="rId4"/>
            <a:stretch/>
          </p:blipFill>
          <p:spPr>
            <a:xfrm>
              <a:off x="3024000" y="0"/>
              <a:ext cx="107424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58" name="" descr=""/>
            <p:cNvPicPr/>
            <p:nvPr/>
          </p:nvPicPr>
          <p:blipFill>
            <a:blip r:embed="rId5"/>
            <a:stretch/>
          </p:blipFill>
          <p:spPr>
            <a:xfrm>
              <a:off x="4032000" y="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359" name="" descr=""/>
          <p:cNvPicPr/>
          <p:nvPr/>
        </p:nvPicPr>
        <p:blipFill>
          <a:blip r:embed="rId6"/>
          <a:srcRect l="18898" t="0" r="18898" b="0"/>
          <a:stretch/>
        </p:blipFill>
        <p:spPr>
          <a:xfrm>
            <a:off x="2195640" y="2276640"/>
            <a:ext cx="1566720" cy="2014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7"/>
          <a:stretch/>
        </p:blipFill>
        <p:spPr>
          <a:xfrm>
            <a:off x="684360" y="2276640"/>
            <a:ext cx="1645920" cy="2011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8"/>
          <a:srcRect l="18898" t="0" r="18898" b="0"/>
          <a:stretch/>
        </p:blipFill>
        <p:spPr>
          <a:xfrm>
            <a:off x="3635280" y="2276640"/>
            <a:ext cx="1567080" cy="2014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9"/>
          <a:srcRect l="18898" t="0" r="18898" b="0"/>
          <a:stretch/>
        </p:blipFill>
        <p:spPr>
          <a:xfrm>
            <a:off x="5076720" y="2276640"/>
            <a:ext cx="1567080" cy="2014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0"/>
          <a:srcRect l="18898" t="0" r="18898" b="0"/>
          <a:stretch/>
        </p:blipFill>
        <p:spPr>
          <a:xfrm>
            <a:off x="6516720" y="2276640"/>
            <a:ext cx="1566720" cy="2014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276720" y="2708280"/>
            <a:ext cx="5106600" cy="1074600"/>
            <a:chOff x="3276720" y="2708280"/>
            <a:chExt cx="5106600" cy="1074600"/>
          </a:xfrm>
        </p:grpSpPr>
        <p:pic>
          <p:nvPicPr>
            <p:cNvPr id="367" name="" descr=""/>
            <p:cNvPicPr/>
            <p:nvPr/>
          </p:nvPicPr>
          <p:blipFill>
            <a:blip r:embed="rId11"/>
            <a:stretch/>
          </p:blipFill>
          <p:spPr>
            <a:xfrm>
              <a:off x="3276720" y="270828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8" name="" descr=""/>
            <p:cNvPicPr/>
            <p:nvPr/>
          </p:nvPicPr>
          <p:blipFill>
            <a:blip r:embed="rId12"/>
            <a:stretch/>
          </p:blipFill>
          <p:spPr>
            <a:xfrm>
              <a:off x="4284720" y="2708280"/>
              <a:ext cx="107424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9" name="" descr=""/>
            <p:cNvPicPr/>
            <p:nvPr/>
          </p:nvPicPr>
          <p:blipFill>
            <a:blip r:embed="rId13"/>
            <a:stretch/>
          </p:blipFill>
          <p:spPr>
            <a:xfrm>
              <a:off x="5292720" y="2708280"/>
              <a:ext cx="107424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0" name="" descr=""/>
            <p:cNvPicPr/>
            <p:nvPr/>
          </p:nvPicPr>
          <p:blipFill>
            <a:blip r:embed="rId14"/>
            <a:stretch/>
          </p:blipFill>
          <p:spPr>
            <a:xfrm>
              <a:off x="6300720" y="2708280"/>
              <a:ext cx="107424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1" name="" descr=""/>
            <p:cNvPicPr/>
            <p:nvPr/>
          </p:nvPicPr>
          <p:blipFill>
            <a:blip r:embed="rId15"/>
            <a:stretch/>
          </p:blipFill>
          <p:spPr>
            <a:xfrm>
              <a:off x="7308720" y="270828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372" name="" descr=""/>
          <p:cNvPicPr/>
          <p:nvPr/>
        </p:nvPicPr>
        <p:blipFill>
          <a:blip r:embed="rId16"/>
          <a:stretch/>
        </p:blipFill>
        <p:spPr>
          <a:xfrm>
            <a:off x="3276720" y="2708280"/>
            <a:ext cx="1074600" cy="107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3" name=""/>
          <p:cNvGrpSpPr/>
          <p:nvPr/>
        </p:nvGrpSpPr>
        <p:grpSpPr>
          <a:xfrm>
            <a:off x="4356000" y="2708280"/>
            <a:ext cx="4098960" cy="1074600"/>
            <a:chOff x="4356000" y="2708280"/>
            <a:chExt cx="4098960" cy="1074600"/>
          </a:xfrm>
        </p:grpSpPr>
        <p:pic>
          <p:nvPicPr>
            <p:cNvPr id="374" name="" descr=""/>
            <p:cNvPicPr/>
            <p:nvPr/>
          </p:nvPicPr>
          <p:blipFill>
            <a:blip r:embed="rId17"/>
            <a:stretch/>
          </p:blipFill>
          <p:spPr>
            <a:xfrm>
              <a:off x="4356000" y="270828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5" name="" descr=""/>
            <p:cNvPicPr/>
            <p:nvPr/>
          </p:nvPicPr>
          <p:blipFill>
            <a:blip r:embed="rId18"/>
            <a:stretch/>
          </p:blipFill>
          <p:spPr>
            <a:xfrm>
              <a:off x="5364000" y="270828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6" name="" descr=""/>
            <p:cNvPicPr/>
            <p:nvPr/>
          </p:nvPicPr>
          <p:blipFill>
            <a:blip r:embed="rId19"/>
            <a:stretch/>
          </p:blipFill>
          <p:spPr>
            <a:xfrm>
              <a:off x="6372000" y="2708280"/>
              <a:ext cx="107460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7" name="" descr=""/>
            <p:cNvPicPr/>
            <p:nvPr/>
          </p:nvPicPr>
          <p:blipFill>
            <a:blip r:embed="rId20"/>
            <a:stretch/>
          </p:blipFill>
          <p:spPr>
            <a:xfrm>
              <a:off x="7380000" y="2708280"/>
              <a:ext cx="1074960" cy="107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378" name="" descr=""/>
          <p:cNvPicPr/>
          <p:nvPr/>
        </p:nvPicPr>
        <p:blipFill>
          <a:blip r:embed="rId21"/>
          <a:srcRect l="0" t="0" r="44766" b="0"/>
          <a:stretch/>
        </p:blipFill>
        <p:spPr>
          <a:xfrm>
            <a:off x="3276720" y="4581360"/>
            <a:ext cx="1538280" cy="19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6 0.06867 L -0.20833 0.31006 E">
                                      <p:cBhvr>
                                        <p:cTn id="294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132000" y="2216160"/>
            <a:ext cx="5472360" cy="3798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585720" y="333360"/>
            <a:ext cx="3300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5335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instaurare un progetto di educazione fisica per l’anzia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24480" y="1523880"/>
            <a:ext cx="28195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ù del 50% degli anziani che aderisce a un progetto di educazione fisica lo interrompe dopo 6 mes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EVITARE CIO’ occorre PROGRAMM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1600200"/>
            <a:ext cx="59436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a medica prima di iniziare, con valutazione delle pa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ettare un corso mirato con insegnanti ISEF e med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lmeno tre volte la settimana per 1 ora ogni volta (laddove possib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e confortev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biente allegro e informale (musica di sottofon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rcizi variati, diversi ogni mese e grad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i “a gradino”(prime settimane lento e graduale, poi lievi incrementi con “soste a quel livell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ching e rilass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 mesi estivi attività all’aria ap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dere l’acquisto e l’utilizzo di attrezzi e mac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ta ann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1447920"/>
            <a:ext cx="30481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171840" y="5562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ballo può essere un’ottima attività fisic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si di ballo e musica da ballo purchè servano per muoversi e non si limitino ad un ascolto passivo (che può andare bene come attività ricreativa ma NON come attività fisica!!!!!!!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agnosi precoce di eventuali patologie nell’anz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nziano, sia a domicilio che in struttura, dovrebbe essere periodicamente visitato e monitorato anche se apparentemente privo di patolog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i perdite di motilità e di autonomia dovrebbero essere pront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nalate alle prime avvisagl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23018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905120" y="2895480"/>
            <a:ext cx="498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socializzazion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4572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Arial Unicode MS"/>
              </a:rPr>
              <a:t>(equilibrio psicofisico = </a:t>
            </a:r>
            <a:br>
              <a:rPr sz="3600"/>
            </a:br>
            <a:r>
              <a:rPr b="0" i="1" lang="it-IT" sz="3600" spc="-1" strike="noStrike">
                <a:solidFill>
                  <a:srgbClr val="000000"/>
                </a:solidFill>
                <a:latin typeface="Arial Unicode MS"/>
              </a:rPr>
              <a:t>= maggiore qualità di vit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j0233260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24256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280" y="685800"/>
            <a:ext cx="8759880" cy="2666160"/>
          </a:xfrm>
          <a:prstGeom prst="wedgeRoundRectCallout">
            <a:avLst>
              <a:gd name="adj1" fmla="val -40490"/>
              <a:gd name="adj2" fmla="val 1239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Pensate agli ambienti della residenza/comunità in cui lavorate e individuate i criteri minimi di qualità per renderli accoglienti/viv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743200" cy="1765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733920" y="3962520"/>
            <a:ext cx="502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cializzazione e gestione del tempo lib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corre stimolare l’anziano impedendone l’isolamento, dandogli motivazioni, fornendogli degli hobby o degli incarichi che lo facciano sentire ut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j0292062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12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gni uomo per sentirsi “vivo” deve sentirsi “utile” e “partecip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olare l’anziano intellettualmente (parole crociate, far segnare i compleanni, dotarsi di una biblioteca e di giornali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ecipare a iniziative sociali (gite, incontri, uscite per ballare, cinema, teatro, feste di complean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or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iccoli lavor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gnare all’anziano ad affermare la propria pres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tere i propr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ved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menti di vita all’aria ap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re la giusta importa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ulizia e decoro, e scelta personale dei vest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orre u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diversificazione” della routine (piccoli cambiam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j0292036" descr=""/>
          <p:cNvPicPr/>
          <p:nvPr/>
        </p:nvPicPr>
        <p:blipFill>
          <a:blip r:embed="rId1"/>
          <a:stretch/>
        </p:blipFill>
        <p:spPr>
          <a:xfrm>
            <a:off x="7620120" y="152280"/>
            <a:ext cx="111420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enti case di riposo: requisi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sistenza discreta ma vigile per gli autosufficienti (la casa di riposo deve assomigliare il più possibile ad una casa- allogg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enti “caldi” (addobbi, tovaglie, quadri di gusto e con un po’ di ricercatezza), e lumi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à di personalizzare la st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ottini per creare tante zone di inco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j0292062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1812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9810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078727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1600200"/>
            <a:ext cx="56386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Comic Sans MS"/>
              </a:rPr>
              <a:t>Come deve comportarsi l’anziano per vivere in buona salut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280"/>
            <a:ext cx="60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acciamo un “brainstorming”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i dei pasti e delle attivi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ono essere il più possibile “fisiologici”, non “da caserma”, non rigidi e troppo vincolanti, ed imitare i tempi “casalinghi”, senza troppa fretta per quanto riguarda la durata dei pasti (TEMPO MINIMO 45 MIN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tterizzazione e personalizzazione della strut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ziani per sentire “propria” la struttura, devono essere interpellati e intervenire nelle scelte (dagli arredi alle tovaglie, al tipo di animazione o g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ate e bicchieri in una “busta personalizz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 libero= giardini ampi; piccoli laboratori artigianali, piccoli lavori e commerci; uscite serali in gruppo per cinema, feste, ballo; gare boc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 con possibilità di accesso degli ester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coli 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vità fisica aperta anche agli “estern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zione giornal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i di incontro con psicolo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j0324682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1484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struttura non dovrebbe imporsi all’anziano, ma comodamente e plasticamente modellarsi ad ess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li anziani sono ciò che sarem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è una frase del Vangelo che dic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“non fare agli altri quello che non vorresti fosse fatto a t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j0343525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2235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 tutti gli anziani sono ugu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ziani in buona sa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ziani con malattie croniche o acute (Alzheimer, diabete, cardiopatie, bronchiti, ec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ziani deboli (inappetenti, che si nutrono poco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D06663_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ziani in Piemonte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tudio Argento” –  I.S.S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iemontesi anziani sono più longevi rispetto ai coetanei del Sud It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 però più soli e meno accuditi dai famigli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frono soprattutto di artrosi, osteoporosi e depressione (le donne più degli uomi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malattie croniche e la depressione sono più diffuse in periferia e nei paesi rispetto alle grandi cit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donne sentono di più le limitazioni legate all’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ti anziani non hanno hobby o interessi al di fuori del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ssiamo “allenarci” per non invecchi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invecchiamento si può rallentare con una costante attività fisica e mantenendo o stimolando interessi intellettuali (lettura di libri, attività artistiche, giornali, “parole crociate”, ascolto della radi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75 anni un anziano può avere perdite di lucidità e scioltezza limitate (intorno al 20%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75 anni posso conservare ancora un 80% della scioltezza e lucidità che avevo a 30 an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a 30 anni potevo “ fare 100 cose” o “avere 100 pensieri”, a 75 anni posso “fare ancora 80 cose” e “avere 80 pensieri”: la perdita di funzionalità psico- fisica ad età avanzate è minima se tengo in forma corpo e men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vecchiamo perché vivia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2021040"/>
          <a:ext cx="7772400" cy="40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21040"/>
                    <a:ext cx="77724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nostro corpo “arrugginisce”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fortuna possiamo ritardare quest’eff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Con una adeguata ali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Facendo tutti i giorni un “po’ di movimento”, una adeguata attività fi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controllando il p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controllando il proprio stato di salute (controlli e visite periodiche e tempes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) mantenendo una adeguata vita di re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E02622_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905120" y="2286000"/>
            <a:ext cx="4981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’ATTIVITA’ FISICA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572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Arial"/>
              </a:rPr>
              <a:t>(VIVERE RISCHIANDO ME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5280" y="3200400"/>
            <a:ext cx="672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ELLE PERSONE ANZIAN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904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09:01:12Z</dcterms:created>
  <dc:creator>gigi devalle</dc:creator>
  <dc:description/>
  <dc:language>en-US</dc:language>
  <cp:lastModifiedBy>psimonetti</cp:lastModifiedBy>
  <dcterms:modified xsi:type="dcterms:W3CDTF">2006-10-19T14:33:56Z</dcterms:modified>
  <cp:revision>31</cp:revision>
  <dc:subject/>
  <dc:title>Non tutti gli anziani sono uguali</dc:title>
</cp:coreProperties>
</file>