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C5D-C234-4D0D-916A-3D2F5426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D0E8-F172-43DD-9F03-3D1DC585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CB1-104B-480E-944A-F7FF0A6D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49D-8103-4236-8782-04C559AD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E74F-9D41-4B27-A4D3-E014E44A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65A4-FA72-4B7E-B7CE-7B044DC3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8D63-141E-4C17-9704-67CD2307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849F-98B5-462D-8986-2AE4210D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622A-0BA0-44AF-8196-1BC423C8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91BC-B2F6-4F7E-B0E4-40C0DAD4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F41C-421E-4726-91AA-27321455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26C-0CA4-402D-9203-3D9D93EC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3FBF-C925-47EF-9005-85AE1509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52C2-BE16-44F8-8E53-83DEC6BE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28C8-8FAF-4B77-9E0E-0400E17B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E1B8-ADDD-40EE-AD13-88E78CA8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4EB0-0DA4-43A9-831A-16C26713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32AB-6131-44F9-87AE-8A31305D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BC35-DF7B-4967-BCF6-D13A892D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985-9CE5-4BEC-AB0E-608CAD45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4AC-AD93-41BE-AA7F-89EA7F0B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ED79-7A2B-4717-964E-2060DB0C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2F7-48A5-4BE0-A082-1735414F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1E1-8CEE-4A1B-A792-4906ED9F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332F-9F63-4D78-AD3E-69324F30242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F26D-ECC9-4AF2-9E6A-A21D99358E5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2971800"/>
            <a:ext cx="7391520" cy="1219320"/>
          </a:xfrm>
          <a:prstGeom prst="rect">
            <a:avLst/>
          </a:prstGeom>
          <a:solidFill>
            <a:srgbClr val="faeb6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2157120" cy="1525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3141720"/>
            <a:ext cx="74995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Come favorire un corretto approccio alimentare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ll’anziano istituzionalizzato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595008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32000" y="5300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cura dell’ASL 13 - S.I.A.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Servizio Igiene Alimenti e Nutriz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24720" y="1855800"/>
            <a:ext cx="544320" cy="433440"/>
          </a:xfrm>
          <a:custGeom>
            <a:avLst/>
            <a:gdLst/>
            <a:ahLst/>
            <a:rect l="l" t="t" r="r" b="b"/>
            <a:pathLst>
              <a:path w="687" h="546">
                <a:moveTo>
                  <a:pt x="599" y="202"/>
                </a:moveTo>
                <a:lnTo>
                  <a:pt x="618" y="218"/>
                </a:lnTo>
                <a:lnTo>
                  <a:pt x="638" y="233"/>
                </a:lnTo>
                <a:lnTo>
                  <a:pt x="655" y="247"/>
                </a:lnTo>
                <a:lnTo>
                  <a:pt x="670" y="261"/>
                </a:lnTo>
                <a:lnTo>
                  <a:pt x="682" y="275"/>
                </a:lnTo>
                <a:lnTo>
                  <a:pt x="687" y="291"/>
                </a:lnTo>
                <a:lnTo>
                  <a:pt x="687" y="308"/>
                </a:lnTo>
                <a:lnTo>
                  <a:pt x="680" y="328"/>
                </a:lnTo>
                <a:lnTo>
                  <a:pt x="672" y="346"/>
                </a:lnTo>
                <a:lnTo>
                  <a:pt x="662" y="363"/>
                </a:lnTo>
                <a:lnTo>
                  <a:pt x="651" y="379"/>
                </a:lnTo>
                <a:lnTo>
                  <a:pt x="639" y="393"/>
                </a:lnTo>
                <a:lnTo>
                  <a:pt x="625" y="404"/>
                </a:lnTo>
                <a:lnTo>
                  <a:pt x="610" y="409"/>
                </a:lnTo>
                <a:lnTo>
                  <a:pt x="593" y="411"/>
                </a:lnTo>
                <a:lnTo>
                  <a:pt x="572" y="405"/>
                </a:lnTo>
                <a:lnTo>
                  <a:pt x="571" y="421"/>
                </a:lnTo>
                <a:lnTo>
                  <a:pt x="569" y="432"/>
                </a:lnTo>
                <a:lnTo>
                  <a:pt x="565" y="443"/>
                </a:lnTo>
                <a:lnTo>
                  <a:pt x="559" y="451"/>
                </a:lnTo>
                <a:lnTo>
                  <a:pt x="552" y="459"/>
                </a:lnTo>
                <a:lnTo>
                  <a:pt x="545" y="467"/>
                </a:lnTo>
                <a:lnTo>
                  <a:pt x="535" y="477"/>
                </a:lnTo>
                <a:lnTo>
                  <a:pt x="524" y="491"/>
                </a:lnTo>
                <a:lnTo>
                  <a:pt x="513" y="503"/>
                </a:lnTo>
                <a:lnTo>
                  <a:pt x="499" y="512"/>
                </a:lnTo>
                <a:lnTo>
                  <a:pt x="483" y="518"/>
                </a:lnTo>
                <a:lnTo>
                  <a:pt x="467" y="521"/>
                </a:lnTo>
                <a:lnTo>
                  <a:pt x="450" y="523"/>
                </a:lnTo>
                <a:lnTo>
                  <a:pt x="430" y="523"/>
                </a:lnTo>
                <a:lnTo>
                  <a:pt x="412" y="521"/>
                </a:lnTo>
                <a:lnTo>
                  <a:pt x="393" y="518"/>
                </a:lnTo>
                <a:lnTo>
                  <a:pt x="375" y="514"/>
                </a:lnTo>
                <a:lnTo>
                  <a:pt x="358" y="513"/>
                </a:lnTo>
                <a:lnTo>
                  <a:pt x="341" y="514"/>
                </a:lnTo>
                <a:lnTo>
                  <a:pt x="325" y="516"/>
                </a:lnTo>
                <a:lnTo>
                  <a:pt x="308" y="520"/>
                </a:lnTo>
                <a:lnTo>
                  <a:pt x="291" y="525"/>
                </a:lnTo>
                <a:lnTo>
                  <a:pt x="274" y="529"/>
                </a:lnTo>
                <a:lnTo>
                  <a:pt x="259" y="534"/>
                </a:lnTo>
                <a:lnTo>
                  <a:pt x="243" y="538"/>
                </a:lnTo>
                <a:lnTo>
                  <a:pt x="228" y="542"/>
                </a:lnTo>
                <a:lnTo>
                  <a:pt x="212" y="545"/>
                </a:lnTo>
                <a:lnTo>
                  <a:pt x="197" y="546"/>
                </a:lnTo>
                <a:lnTo>
                  <a:pt x="181" y="546"/>
                </a:lnTo>
                <a:lnTo>
                  <a:pt x="166" y="543"/>
                </a:lnTo>
                <a:lnTo>
                  <a:pt x="152" y="538"/>
                </a:lnTo>
                <a:lnTo>
                  <a:pt x="136" y="530"/>
                </a:lnTo>
                <a:lnTo>
                  <a:pt x="121" y="521"/>
                </a:lnTo>
                <a:lnTo>
                  <a:pt x="105" y="511"/>
                </a:lnTo>
                <a:lnTo>
                  <a:pt x="91" y="502"/>
                </a:lnTo>
                <a:lnTo>
                  <a:pt x="80" y="491"/>
                </a:lnTo>
                <a:lnTo>
                  <a:pt x="69" y="481"/>
                </a:lnTo>
                <a:lnTo>
                  <a:pt x="62" y="468"/>
                </a:lnTo>
                <a:lnTo>
                  <a:pt x="56" y="454"/>
                </a:lnTo>
                <a:lnTo>
                  <a:pt x="55" y="439"/>
                </a:lnTo>
                <a:lnTo>
                  <a:pt x="52" y="423"/>
                </a:lnTo>
                <a:lnTo>
                  <a:pt x="44" y="408"/>
                </a:lnTo>
                <a:lnTo>
                  <a:pt x="32" y="394"/>
                </a:lnTo>
                <a:lnTo>
                  <a:pt x="20" y="381"/>
                </a:lnTo>
                <a:lnTo>
                  <a:pt x="10" y="368"/>
                </a:lnTo>
                <a:lnTo>
                  <a:pt x="1" y="355"/>
                </a:lnTo>
                <a:lnTo>
                  <a:pt x="0" y="341"/>
                </a:lnTo>
                <a:lnTo>
                  <a:pt x="6" y="328"/>
                </a:lnTo>
                <a:lnTo>
                  <a:pt x="15" y="305"/>
                </a:lnTo>
                <a:lnTo>
                  <a:pt x="20" y="279"/>
                </a:lnTo>
                <a:lnTo>
                  <a:pt x="20" y="254"/>
                </a:lnTo>
                <a:lnTo>
                  <a:pt x="20" y="228"/>
                </a:lnTo>
                <a:lnTo>
                  <a:pt x="21" y="205"/>
                </a:lnTo>
                <a:lnTo>
                  <a:pt x="28" y="187"/>
                </a:lnTo>
                <a:lnTo>
                  <a:pt x="42" y="173"/>
                </a:lnTo>
                <a:lnTo>
                  <a:pt x="66" y="167"/>
                </a:lnTo>
                <a:lnTo>
                  <a:pt x="69" y="151"/>
                </a:lnTo>
                <a:lnTo>
                  <a:pt x="79" y="139"/>
                </a:lnTo>
                <a:lnTo>
                  <a:pt x="91" y="127"/>
                </a:lnTo>
                <a:lnTo>
                  <a:pt x="108" y="118"/>
                </a:lnTo>
                <a:lnTo>
                  <a:pt x="124" y="108"/>
                </a:lnTo>
                <a:lnTo>
                  <a:pt x="138" y="97"/>
                </a:lnTo>
                <a:lnTo>
                  <a:pt x="150" y="83"/>
                </a:lnTo>
                <a:lnTo>
                  <a:pt x="157" y="68"/>
                </a:lnTo>
                <a:lnTo>
                  <a:pt x="166" y="51"/>
                </a:lnTo>
                <a:lnTo>
                  <a:pt x="178" y="37"/>
                </a:lnTo>
                <a:lnTo>
                  <a:pt x="195" y="28"/>
                </a:lnTo>
                <a:lnTo>
                  <a:pt x="216" y="21"/>
                </a:lnTo>
                <a:lnTo>
                  <a:pt x="239" y="17"/>
                </a:lnTo>
                <a:lnTo>
                  <a:pt x="264" y="12"/>
                </a:lnTo>
                <a:lnTo>
                  <a:pt x="289" y="8"/>
                </a:lnTo>
                <a:lnTo>
                  <a:pt x="315" y="4"/>
                </a:lnTo>
                <a:lnTo>
                  <a:pt x="343" y="0"/>
                </a:lnTo>
                <a:lnTo>
                  <a:pt x="375" y="0"/>
                </a:lnTo>
                <a:lnTo>
                  <a:pt x="408" y="4"/>
                </a:lnTo>
                <a:lnTo>
                  <a:pt x="440" y="12"/>
                </a:lnTo>
                <a:lnTo>
                  <a:pt x="469" y="25"/>
                </a:lnTo>
                <a:lnTo>
                  <a:pt x="495" y="41"/>
                </a:lnTo>
                <a:lnTo>
                  <a:pt x="512" y="63"/>
                </a:lnTo>
                <a:lnTo>
                  <a:pt x="519" y="89"/>
                </a:lnTo>
                <a:lnTo>
                  <a:pt x="524" y="108"/>
                </a:lnTo>
                <a:lnTo>
                  <a:pt x="540" y="124"/>
                </a:lnTo>
                <a:lnTo>
                  <a:pt x="558" y="139"/>
                </a:lnTo>
                <a:lnTo>
                  <a:pt x="578" y="151"/>
                </a:lnTo>
                <a:lnTo>
                  <a:pt x="596" y="163"/>
                </a:lnTo>
                <a:lnTo>
                  <a:pt x="607" y="175"/>
                </a:lnTo>
                <a:lnTo>
                  <a:pt x="610" y="188"/>
                </a:lnTo>
                <a:lnTo>
                  <a:pt x="599" y="20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96200" y="763560"/>
            <a:ext cx="1787400" cy="1225440"/>
          </a:xfrm>
          <a:custGeom>
            <a:avLst/>
            <a:gdLst/>
            <a:ahLst/>
            <a:rect l="l" t="t" r="r" b="b"/>
            <a:pathLst>
              <a:path w="2253" h="1544">
                <a:moveTo>
                  <a:pt x="296" y="204"/>
                </a:moveTo>
                <a:lnTo>
                  <a:pt x="1670" y="5"/>
                </a:lnTo>
                <a:lnTo>
                  <a:pt x="1706" y="1"/>
                </a:lnTo>
                <a:lnTo>
                  <a:pt x="1741" y="0"/>
                </a:lnTo>
                <a:lnTo>
                  <a:pt x="1777" y="2"/>
                </a:lnTo>
                <a:lnTo>
                  <a:pt x="1812" y="8"/>
                </a:lnTo>
                <a:lnTo>
                  <a:pt x="1845" y="15"/>
                </a:lnTo>
                <a:lnTo>
                  <a:pt x="1876" y="25"/>
                </a:lnTo>
                <a:lnTo>
                  <a:pt x="1907" y="38"/>
                </a:lnTo>
                <a:lnTo>
                  <a:pt x="1937" y="53"/>
                </a:lnTo>
                <a:lnTo>
                  <a:pt x="1963" y="70"/>
                </a:lnTo>
                <a:lnTo>
                  <a:pt x="1989" y="90"/>
                </a:lnTo>
                <a:lnTo>
                  <a:pt x="2011" y="112"/>
                </a:lnTo>
                <a:lnTo>
                  <a:pt x="2032" y="135"/>
                </a:lnTo>
                <a:lnTo>
                  <a:pt x="2049" y="159"/>
                </a:lnTo>
                <a:lnTo>
                  <a:pt x="2065" y="185"/>
                </a:lnTo>
                <a:lnTo>
                  <a:pt x="2076" y="214"/>
                </a:lnTo>
                <a:lnTo>
                  <a:pt x="2084" y="243"/>
                </a:lnTo>
                <a:lnTo>
                  <a:pt x="2247" y="1000"/>
                </a:lnTo>
                <a:lnTo>
                  <a:pt x="2251" y="1030"/>
                </a:lnTo>
                <a:lnTo>
                  <a:pt x="2253" y="1060"/>
                </a:lnTo>
                <a:lnTo>
                  <a:pt x="2250" y="1089"/>
                </a:lnTo>
                <a:lnTo>
                  <a:pt x="2243" y="1116"/>
                </a:lnTo>
                <a:lnTo>
                  <a:pt x="2235" y="1144"/>
                </a:lnTo>
                <a:lnTo>
                  <a:pt x="2222" y="1170"/>
                </a:lnTo>
                <a:lnTo>
                  <a:pt x="2207" y="1196"/>
                </a:lnTo>
                <a:lnTo>
                  <a:pt x="2188" y="1220"/>
                </a:lnTo>
                <a:lnTo>
                  <a:pt x="2167" y="1242"/>
                </a:lnTo>
                <a:lnTo>
                  <a:pt x="2143" y="1263"/>
                </a:lnTo>
                <a:lnTo>
                  <a:pt x="2117" y="1281"/>
                </a:lnTo>
                <a:lnTo>
                  <a:pt x="2088" y="1297"/>
                </a:lnTo>
                <a:lnTo>
                  <a:pt x="2059" y="1312"/>
                </a:lnTo>
                <a:lnTo>
                  <a:pt x="2027" y="1324"/>
                </a:lnTo>
                <a:lnTo>
                  <a:pt x="1992" y="1333"/>
                </a:lnTo>
                <a:lnTo>
                  <a:pt x="1956" y="1340"/>
                </a:lnTo>
                <a:lnTo>
                  <a:pt x="581" y="1539"/>
                </a:lnTo>
                <a:lnTo>
                  <a:pt x="544" y="1542"/>
                </a:lnTo>
                <a:lnTo>
                  <a:pt x="509" y="1544"/>
                </a:lnTo>
                <a:lnTo>
                  <a:pt x="474" y="1541"/>
                </a:lnTo>
                <a:lnTo>
                  <a:pt x="440" y="1536"/>
                </a:lnTo>
                <a:lnTo>
                  <a:pt x="407" y="1529"/>
                </a:lnTo>
                <a:lnTo>
                  <a:pt x="374" y="1518"/>
                </a:lnTo>
                <a:lnTo>
                  <a:pt x="345" y="1506"/>
                </a:lnTo>
                <a:lnTo>
                  <a:pt x="315" y="1491"/>
                </a:lnTo>
                <a:lnTo>
                  <a:pt x="288" y="1473"/>
                </a:lnTo>
                <a:lnTo>
                  <a:pt x="263" y="1454"/>
                </a:lnTo>
                <a:lnTo>
                  <a:pt x="241" y="1432"/>
                </a:lnTo>
                <a:lnTo>
                  <a:pt x="221" y="1409"/>
                </a:lnTo>
                <a:lnTo>
                  <a:pt x="203" y="1385"/>
                </a:lnTo>
                <a:lnTo>
                  <a:pt x="189" y="1358"/>
                </a:lnTo>
                <a:lnTo>
                  <a:pt x="177" y="1329"/>
                </a:lnTo>
                <a:lnTo>
                  <a:pt x="169" y="1301"/>
                </a:lnTo>
                <a:lnTo>
                  <a:pt x="6" y="544"/>
                </a:lnTo>
                <a:lnTo>
                  <a:pt x="2" y="514"/>
                </a:lnTo>
                <a:lnTo>
                  <a:pt x="0" y="484"/>
                </a:lnTo>
                <a:lnTo>
                  <a:pt x="3" y="455"/>
                </a:lnTo>
                <a:lnTo>
                  <a:pt x="9" y="427"/>
                </a:lnTo>
                <a:lnTo>
                  <a:pt x="19" y="400"/>
                </a:lnTo>
                <a:lnTo>
                  <a:pt x="31" y="373"/>
                </a:lnTo>
                <a:lnTo>
                  <a:pt x="47" y="348"/>
                </a:lnTo>
                <a:lnTo>
                  <a:pt x="65" y="324"/>
                </a:lnTo>
                <a:lnTo>
                  <a:pt x="86" y="302"/>
                </a:lnTo>
                <a:lnTo>
                  <a:pt x="110" y="281"/>
                </a:lnTo>
                <a:lnTo>
                  <a:pt x="135" y="263"/>
                </a:lnTo>
                <a:lnTo>
                  <a:pt x="163" y="246"/>
                </a:lnTo>
                <a:lnTo>
                  <a:pt x="194" y="231"/>
                </a:lnTo>
                <a:lnTo>
                  <a:pt x="227" y="220"/>
                </a:lnTo>
                <a:lnTo>
                  <a:pt x="260" y="211"/>
                </a:lnTo>
                <a:lnTo>
                  <a:pt x="296" y="204"/>
                </a:lnTo>
                <a:lnTo>
                  <a:pt x="296" y="20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839000" y="1828800"/>
            <a:ext cx="196920" cy="347760"/>
          </a:xfrm>
          <a:custGeom>
            <a:avLst/>
            <a:gdLst/>
            <a:ahLst/>
            <a:rect l="l" t="t" r="r" b="b"/>
            <a:pathLst>
              <a:path w="247" h="439">
                <a:moveTo>
                  <a:pt x="54" y="0"/>
                </a:moveTo>
                <a:lnTo>
                  <a:pt x="0" y="50"/>
                </a:lnTo>
                <a:lnTo>
                  <a:pt x="45" y="439"/>
                </a:lnTo>
                <a:lnTo>
                  <a:pt x="170" y="419"/>
                </a:lnTo>
                <a:lnTo>
                  <a:pt x="247" y="328"/>
                </a:lnTo>
                <a:lnTo>
                  <a:pt x="5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46880" y="723960"/>
            <a:ext cx="1787400" cy="1224000"/>
          </a:xfrm>
          <a:custGeom>
            <a:avLst/>
            <a:gdLst/>
            <a:ahLst/>
            <a:rect l="l" t="t" r="r" b="b"/>
            <a:pathLst>
              <a:path w="2252" h="1543">
                <a:moveTo>
                  <a:pt x="295" y="203"/>
                </a:moveTo>
                <a:lnTo>
                  <a:pt x="1669" y="5"/>
                </a:lnTo>
                <a:lnTo>
                  <a:pt x="1705" y="2"/>
                </a:lnTo>
                <a:lnTo>
                  <a:pt x="1742" y="0"/>
                </a:lnTo>
                <a:lnTo>
                  <a:pt x="1777" y="3"/>
                </a:lnTo>
                <a:lnTo>
                  <a:pt x="1811" y="7"/>
                </a:lnTo>
                <a:lnTo>
                  <a:pt x="1845" y="15"/>
                </a:lnTo>
                <a:lnTo>
                  <a:pt x="1877" y="26"/>
                </a:lnTo>
                <a:lnTo>
                  <a:pt x="1908" y="38"/>
                </a:lnTo>
                <a:lnTo>
                  <a:pt x="1937" y="53"/>
                </a:lnTo>
                <a:lnTo>
                  <a:pt x="1964" y="71"/>
                </a:lnTo>
                <a:lnTo>
                  <a:pt x="1989" y="90"/>
                </a:lnTo>
                <a:lnTo>
                  <a:pt x="2012" y="111"/>
                </a:lnTo>
                <a:lnTo>
                  <a:pt x="2031" y="134"/>
                </a:lnTo>
                <a:lnTo>
                  <a:pt x="2050" y="159"/>
                </a:lnTo>
                <a:lnTo>
                  <a:pt x="2064" y="186"/>
                </a:lnTo>
                <a:lnTo>
                  <a:pt x="2075" y="214"/>
                </a:lnTo>
                <a:lnTo>
                  <a:pt x="2083" y="242"/>
                </a:lnTo>
                <a:lnTo>
                  <a:pt x="2246" y="1000"/>
                </a:lnTo>
                <a:lnTo>
                  <a:pt x="2251" y="1030"/>
                </a:lnTo>
                <a:lnTo>
                  <a:pt x="2252" y="1059"/>
                </a:lnTo>
                <a:lnTo>
                  <a:pt x="2249" y="1088"/>
                </a:lnTo>
                <a:lnTo>
                  <a:pt x="2242" y="1117"/>
                </a:lnTo>
                <a:lnTo>
                  <a:pt x="2234" y="1144"/>
                </a:lnTo>
                <a:lnTo>
                  <a:pt x="2221" y="1170"/>
                </a:lnTo>
                <a:lnTo>
                  <a:pt x="2206" y="1195"/>
                </a:lnTo>
                <a:lnTo>
                  <a:pt x="2187" y="1219"/>
                </a:lnTo>
                <a:lnTo>
                  <a:pt x="2166" y="1241"/>
                </a:lnTo>
                <a:lnTo>
                  <a:pt x="2142" y="1262"/>
                </a:lnTo>
                <a:lnTo>
                  <a:pt x="2116" y="1280"/>
                </a:lnTo>
                <a:lnTo>
                  <a:pt x="2088" y="1298"/>
                </a:lnTo>
                <a:lnTo>
                  <a:pt x="2058" y="1311"/>
                </a:lnTo>
                <a:lnTo>
                  <a:pt x="2026" y="1324"/>
                </a:lnTo>
                <a:lnTo>
                  <a:pt x="1991" y="1333"/>
                </a:lnTo>
                <a:lnTo>
                  <a:pt x="1956" y="1340"/>
                </a:lnTo>
                <a:lnTo>
                  <a:pt x="583" y="1538"/>
                </a:lnTo>
                <a:lnTo>
                  <a:pt x="546" y="1542"/>
                </a:lnTo>
                <a:lnTo>
                  <a:pt x="510" y="1543"/>
                </a:lnTo>
                <a:lnTo>
                  <a:pt x="475" y="1541"/>
                </a:lnTo>
                <a:lnTo>
                  <a:pt x="441" y="1535"/>
                </a:lnTo>
                <a:lnTo>
                  <a:pt x="407" y="1528"/>
                </a:lnTo>
                <a:lnTo>
                  <a:pt x="375" y="1518"/>
                </a:lnTo>
                <a:lnTo>
                  <a:pt x="344" y="1505"/>
                </a:lnTo>
                <a:lnTo>
                  <a:pt x="314" y="1490"/>
                </a:lnTo>
                <a:lnTo>
                  <a:pt x="288" y="1473"/>
                </a:lnTo>
                <a:lnTo>
                  <a:pt x="262" y="1453"/>
                </a:lnTo>
                <a:lnTo>
                  <a:pt x="240" y="1432"/>
                </a:lnTo>
                <a:lnTo>
                  <a:pt x="220" y="1409"/>
                </a:lnTo>
                <a:lnTo>
                  <a:pt x="202" y="1384"/>
                </a:lnTo>
                <a:lnTo>
                  <a:pt x="188" y="1357"/>
                </a:lnTo>
                <a:lnTo>
                  <a:pt x="177" y="1330"/>
                </a:lnTo>
                <a:lnTo>
                  <a:pt x="168" y="1301"/>
                </a:lnTo>
                <a:lnTo>
                  <a:pt x="5" y="543"/>
                </a:lnTo>
                <a:lnTo>
                  <a:pt x="1" y="513"/>
                </a:lnTo>
                <a:lnTo>
                  <a:pt x="0" y="484"/>
                </a:lnTo>
                <a:lnTo>
                  <a:pt x="2" y="455"/>
                </a:lnTo>
                <a:lnTo>
                  <a:pt x="8" y="427"/>
                </a:lnTo>
                <a:lnTo>
                  <a:pt x="18" y="399"/>
                </a:lnTo>
                <a:lnTo>
                  <a:pt x="31" y="374"/>
                </a:lnTo>
                <a:lnTo>
                  <a:pt x="46" y="348"/>
                </a:lnTo>
                <a:lnTo>
                  <a:pt x="64" y="324"/>
                </a:lnTo>
                <a:lnTo>
                  <a:pt x="85" y="302"/>
                </a:lnTo>
                <a:lnTo>
                  <a:pt x="109" y="281"/>
                </a:lnTo>
                <a:lnTo>
                  <a:pt x="135" y="263"/>
                </a:lnTo>
                <a:lnTo>
                  <a:pt x="163" y="246"/>
                </a:lnTo>
                <a:lnTo>
                  <a:pt x="194" y="232"/>
                </a:lnTo>
                <a:lnTo>
                  <a:pt x="226" y="219"/>
                </a:lnTo>
                <a:lnTo>
                  <a:pt x="260" y="210"/>
                </a:lnTo>
                <a:lnTo>
                  <a:pt x="295" y="203"/>
                </a:lnTo>
                <a:lnTo>
                  <a:pt x="295" y="203"/>
                </a:lnTo>
                <a:close/>
              </a:path>
            </a:pathLst>
          </a:custGeom>
          <a:solidFill>
            <a:srgbClr val="ffc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35880" y="1028880"/>
            <a:ext cx="214200" cy="785520"/>
          </a:xfrm>
          <a:custGeom>
            <a:avLst/>
            <a:gdLst/>
            <a:ahLst/>
            <a:rect l="l" t="t" r="r" b="b"/>
            <a:pathLst>
              <a:path w="270" h="991">
                <a:moveTo>
                  <a:pt x="72" y="30"/>
                </a:moveTo>
                <a:lnTo>
                  <a:pt x="270" y="943"/>
                </a:lnTo>
                <a:lnTo>
                  <a:pt x="218" y="991"/>
                </a:lnTo>
                <a:lnTo>
                  <a:pt x="0" y="0"/>
                </a:lnTo>
                <a:lnTo>
                  <a:pt x="72" y="30"/>
                </a:lnTo>
                <a:close/>
              </a:path>
            </a:pathLst>
          </a:custGeom>
          <a:solidFill>
            <a:srgbClr val="6b3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91320" y="888840"/>
            <a:ext cx="1297080" cy="893880"/>
          </a:xfrm>
          <a:custGeom>
            <a:avLst/>
            <a:gdLst/>
            <a:ahLst/>
            <a:rect l="l" t="t" r="r" b="b"/>
            <a:pathLst>
              <a:path w="1634" h="1125">
                <a:moveTo>
                  <a:pt x="0" y="207"/>
                </a:moveTo>
                <a:lnTo>
                  <a:pt x="1436" y="0"/>
                </a:lnTo>
                <a:lnTo>
                  <a:pt x="1634" y="917"/>
                </a:lnTo>
                <a:lnTo>
                  <a:pt x="196" y="1125"/>
                </a:lnTo>
                <a:lnTo>
                  <a:pt x="0" y="207"/>
                </a:lnTo>
                <a:close/>
              </a:path>
            </a:pathLst>
          </a:custGeom>
          <a:solidFill>
            <a:srgbClr val="001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35880" y="849240"/>
            <a:ext cx="1236600" cy="203400"/>
          </a:xfrm>
          <a:custGeom>
            <a:avLst/>
            <a:gdLst/>
            <a:ahLst/>
            <a:rect l="l" t="t" r="r" b="b"/>
            <a:pathLst>
              <a:path w="1559" h="256">
                <a:moveTo>
                  <a:pt x="72" y="256"/>
                </a:moveTo>
                <a:lnTo>
                  <a:pt x="1508" y="49"/>
                </a:lnTo>
                <a:lnTo>
                  <a:pt x="1559" y="0"/>
                </a:lnTo>
                <a:lnTo>
                  <a:pt x="0" y="226"/>
                </a:lnTo>
                <a:lnTo>
                  <a:pt x="72" y="256"/>
                </a:lnTo>
                <a:close/>
              </a:path>
            </a:pathLst>
          </a:custGeom>
          <a:solidFill>
            <a:srgbClr val="d89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32880" y="849240"/>
            <a:ext cx="212400" cy="787320"/>
          </a:xfrm>
          <a:custGeom>
            <a:avLst/>
            <a:gdLst/>
            <a:ahLst/>
            <a:rect l="l" t="t" r="r" b="b"/>
            <a:pathLst>
              <a:path w="267" h="992">
                <a:moveTo>
                  <a:pt x="200" y="966"/>
                </a:moveTo>
                <a:lnTo>
                  <a:pt x="0" y="49"/>
                </a:lnTo>
                <a:lnTo>
                  <a:pt x="51" y="0"/>
                </a:lnTo>
                <a:lnTo>
                  <a:pt x="267" y="992"/>
                </a:lnTo>
                <a:lnTo>
                  <a:pt x="200" y="966"/>
                </a:lnTo>
                <a:close/>
              </a:path>
            </a:pathLst>
          </a:custGeom>
          <a:solidFill>
            <a:srgbClr val="ff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07240" y="1616040"/>
            <a:ext cx="1235160" cy="203400"/>
          </a:xfrm>
          <a:custGeom>
            <a:avLst/>
            <a:gdLst/>
            <a:ahLst/>
            <a:rect l="l" t="t" r="r" b="b"/>
            <a:pathLst>
              <a:path w="1557" h="255">
                <a:moveTo>
                  <a:pt x="54" y="208"/>
                </a:moveTo>
                <a:lnTo>
                  <a:pt x="1491" y="0"/>
                </a:lnTo>
                <a:lnTo>
                  <a:pt x="1557" y="31"/>
                </a:lnTo>
                <a:lnTo>
                  <a:pt x="0" y="255"/>
                </a:lnTo>
                <a:lnTo>
                  <a:pt x="54" y="208"/>
                </a:lnTo>
                <a:close/>
              </a:path>
            </a:pathLst>
          </a:custGeom>
          <a:solidFill>
            <a:srgbClr val="ffe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36000" y="1149480"/>
            <a:ext cx="288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1"/>
                </a:move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97600" y="1236600"/>
            <a:ext cx="417600" cy="405000"/>
          </a:xfrm>
          <a:custGeom>
            <a:avLst/>
            <a:gdLst/>
            <a:ahLst/>
            <a:rect l="l" t="t" r="r" b="b"/>
            <a:pathLst>
              <a:path w="525" h="509">
                <a:moveTo>
                  <a:pt x="390" y="282"/>
                </a:moveTo>
                <a:lnTo>
                  <a:pt x="395" y="290"/>
                </a:lnTo>
                <a:lnTo>
                  <a:pt x="399" y="297"/>
                </a:lnTo>
                <a:lnTo>
                  <a:pt x="406" y="303"/>
                </a:lnTo>
                <a:lnTo>
                  <a:pt x="411" y="307"/>
                </a:lnTo>
                <a:lnTo>
                  <a:pt x="418" y="311"/>
                </a:lnTo>
                <a:lnTo>
                  <a:pt x="425" y="312"/>
                </a:lnTo>
                <a:lnTo>
                  <a:pt x="431" y="311"/>
                </a:lnTo>
                <a:lnTo>
                  <a:pt x="437" y="307"/>
                </a:lnTo>
                <a:lnTo>
                  <a:pt x="449" y="291"/>
                </a:lnTo>
                <a:lnTo>
                  <a:pt x="459" y="275"/>
                </a:lnTo>
                <a:lnTo>
                  <a:pt x="466" y="258"/>
                </a:lnTo>
                <a:lnTo>
                  <a:pt x="472" y="240"/>
                </a:lnTo>
                <a:lnTo>
                  <a:pt x="473" y="223"/>
                </a:lnTo>
                <a:lnTo>
                  <a:pt x="472" y="206"/>
                </a:lnTo>
                <a:lnTo>
                  <a:pt x="468" y="187"/>
                </a:lnTo>
                <a:lnTo>
                  <a:pt x="461" y="169"/>
                </a:lnTo>
                <a:lnTo>
                  <a:pt x="449" y="149"/>
                </a:lnTo>
                <a:lnTo>
                  <a:pt x="437" y="131"/>
                </a:lnTo>
                <a:lnTo>
                  <a:pt x="420" y="114"/>
                </a:lnTo>
                <a:lnTo>
                  <a:pt x="402" y="98"/>
                </a:lnTo>
                <a:lnTo>
                  <a:pt x="382" y="84"/>
                </a:lnTo>
                <a:lnTo>
                  <a:pt x="359" y="71"/>
                </a:lnTo>
                <a:lnTo>
                  <a:pt x="337" y="61"/>
                </a:lnTo>
                <a:lnTo>
                  <a:pt x="313" y="53"/>
                </a:lnTo>
                <a:lnTo>
                  <a:pt x="288" y="46"/>
                </a:lnTo>
                <a:lnTo>
                  <a:pt x="262" y="42"/>
                </a:lnTo>
                <a:lnTo>
                  <a:pt x="237" y="40"/>
                </a:lnTo>
                <a:lnTo>
                  <a:pt x="212" y="41"/>
                </a:lnTo>
                <a:lnTo>
                  <a:pt x="187" y="45"/>
                </a:lnTo>
                <a:lnTo>
                  <a:pt x="161" y="50"/>
                </a:lnTo>
                <a:lnTo>
                  <a:pt x="139" y="58"/>
                </a:lnTo>
                <a:lnTo>
                  <a:pt x="116" y="70"/>
                </a:lnTo>
                <a:lnTo>
                  <a:pt x="94" y="87"/>
                </a:lnTo>
                <a:lnTo>
                  <a:pt x="78" y="106"/>
                </a:lnTo>
                <a:lnTo>
                  <a:pt x="66" y="125"/>
                </a:lnTo>
                <a:lnTo>
                  <a:pt x="59" y="147"/>
                </a:lnTo>
                <a:lnTo>
                  <a:pt x="54" y="170"/>
                </a:lnTo>
                <a:lnTo>
                  <a:pt x="52" y="194"/>
                </a:lnTo>
                <a:lnTo>
                  <a:pt x="52" y="219"/>
                </a:lnTo>
                <a:lnTo>
                  <a:pt x="52" y="245"/>
                </a:lnTo>
                <a:lnTo>
                  <a:pt x="50" y="281"/>
                </a:lnTo>
                <a:lnTo>
                  <a:pt x="49" y="313"/>
                </a:lnTo>
                <a:lnTo>
                  <a:pt x="56" y="343"/>
                </a:lnTo>
                <a:lnTo>
                  <a:pt x="74" y="372"/>
                </a:lnTo>
                <a:lnTo>
                  <a:pt x="91" y="388"/>
                </a:lnTo>
                <a:lnTo>
                  <a:pt x="109" y="404"/>
                </a:lnTo>
                <a:lnTo>
                  <a:pt x="129" y="418"/>
                </a:lnTo>
                <a:lnTo>
                  <a:pt x="150" y="429"/>
                </a:lnTo>
                <a:lnTo>
                  <a:pt x="173" y="441"/>
                </a:lnTo>
                <a:lnTo>
                  <a:pt x="195" y="450"/>
                </a:lnTo>
                <a:lnTo>
                  <a:pt x="219" y="457"/>
                </a:lnTo>
                <a:lnTo>
                  <a:pt x="243" y="463"/>
                </a:lnTo>
                <a:lnTo>
                  <a:pt x="267" y="466"/>
                </a:lnTo>
                <a:lnTo>
                  <a:pt x="292" y="467"/>
                </a:lnTo>
                <a:lnTo>
                  <a:pt x="316" y="467"/>
                </a:lnTo>
                <a:lnTo>
                  <a:pt x="338" y="464"/>
                </a:lnTo>
                <a:lnTo>
                  <a:pt x="362" y="458"/>
                </a:lnTo>
                <a:lnTo>
                  <a:pt x="383" y="450"/>
                </a:lnTo>
                <a:lnTo>
                  <a:pt x="404" y="439"/>
                </a:lnTo>
                <a:lnTo>
                  <a:pt x="424" y="425"/>
                </a:lnTo>
                <a:lnTo>
                  <a:pt x="434" y="419"/>
                </a:lnTo>
                <a:lnTo>
                  <a:pt x="444" y="418"/>
                </a:lnTo>
                <a:lnTo>
                  <a:pt x="452" y="420"/>
                </a:lnTo>
                <a:lnTo>
                  <a:pt x="461" y="425"/>
                </a:lnTo>
                <a:lnTo>
                  <a:pt x="465" y="430"/>
                </a:lnTo>
                <a:lnTo>
                  <a:pt x="468" y="439"/>
                </a:lnTo>
                <a:lnTo>
                  <a:pt x="466" y="447"/>
                </a:lnTo>
                <a:lnTo>
                  <a:pt x="459" y="455"/>
                </a:lnTo>
                <a:lnTo>
                  <a:pt x="435" y="472"/>
                </a:lnTo>
                <a:lnTo>
                  <a:pt x="410" y="485"/>
                </a:lnTo>
                <a:lnTo>
                  <a:pt x="383" y="495"/>
                </a:lnTo>
                <a:lnTo>
                  <a:pt x="357" y="503"/>
                </a:lnTo>
                <a:lnTo>
                  <a:pt x="327" y="508"/>
                </a:lnTo>
                <a:lnTo>
                  <a:pt x="298" y="509"/>
                </a:lnTo>
                <a:lnTo>
                  <a:pt x="268" y="508"/>
                </a:lnTo>
                <a:lnTo>
                  <a:pt x="239" y="504"/>
                </a:lnTo>
                <a:lnTo>
                  <a:pt x="210" y="498"/>
                </a:lnTo>
                <a:lnTo>
                  <a:pt x="181" y="489"/>
                </a:lnTo>
                <a:lnTo>
                  <a:pt x="153" y="479"/>
                </a:lnTo>
                <a:lnTo>
                  <a:pt x="126" y="466"/>
                </a:lnTo>
                <a:lnTo>
                  <a:pt x="101" y="451"/>
                </a:lnTo>
                <a:lnTo>
                  <a:pt x="77" y="435"/>
                </a:lnTo>
                <a:lnTo>
                  <a:pt x="54" y="417"/>
                </a:lnTo>
                <a:lnTo>
                  <a:pt x="35" y="397"/>
                </a:lnTo>
                <a:lnTo>
                  <a:pt x="21" y="380"/>
                </a:lnTo>
                <a:lnTo>
                  <a:pt x="11" y="363"/>
                </a:lnTo>
                <a:lnTo>
                  <a:pt x="5" y="344"/>
                </a:lnTo>
                <a:lnTo>
                  <a:pt x="1" y="326"/>
                </a:lnTo>
                <a:lnTo>
                  <a:pt x="0" y="307"/>
                </a:lnTo>
                <a:lnTo>
                  <a:pt x="0" y="288"/>
                </a:lnTo>
                <a:lnTo>
                  <a:pt x="1" y="267"/>
                </a:lnTo>
                <a:lnTo>
                  <a:pt x="1" y="245"/>
                </a:lnTo>
                <a:lnTo>
                  <a:pt x="1" y="214"/>
                </a:lnTo>
                <a:lnTo>
                  <a:pt x="3" y="184"/>
                </a:lnTo>
                <a:lnTo>
                  <a:pt x="7" y="155"/>
                </a:lnTo>
                <a:lnTo>
                  <a:pt x="14" y="129"/>
                </a:lnTo>
                <a:lnTo>
                  <a:pt x="24" y="102"/>
                </a:lnTo>
                <a:lnTo>
                  <a:pt x="39" y="79"/>
                </a:lnTo>
                <a:lnTo>
                  <a:pt x="59" y="56"/>
                </a:lnTo>
                <a:lnTo>
                  <a:pt x="85" y="37"/>
                </a:lnTo>
                <a:lnTo>
                  <a:pt x="112" y="23"/>
                </a:lnTo>
                <a:lnTo>
                  <a:pt x="142" y="11"/>
                </a:lnTo>
                <a:lnTo>
                  <a:pt x="171" y="4"/>
                </a:lnTo>
                <a:lnTo>
                  <a:pt x="202" y="0"/>
                </a:lnTo>
                <a:lnTo>
                  <a:pt x="233" y="0"/>
                </a:lnTo>
                <a:lnTo>
                  <a:pt x="264" y="1"/>
                </a:lnTo>
                <a:lnTo>
                  <a:pt x="296" y="5"/>
                </a:lnTo>
                <a:lnTo>
                  <a:pt x="327" y="13"/>
                </a:lnTo>
                <a:lnTo>
                  <a:pt x="357" y="23"/>
                </a:lnTo>
                <a:lnTo>
                  <a:pt x="385" y="35"/>
                </a:lnTo>
                <a:lnTo>
                  <a:pt x="411" y="50"/>
                </a:lnTo>
                <a:lnTo>
                  <a:pt x="437" y="68"/>
                </a:lnTo>
                <a:lnTo>
                  <a:pt x="459" y="86"/>
                </a:lnTo>
                <a:lnTo>
                  <a:pt x="479" y="107"/>
                </a:lnTo>
                <a:lnTo>
                  <a:pt x="496" y="130"/>
                </a:lnTo>
                <a:lnTo>
                  <a:pt x="510" y="154"/>
                </a:lnTo>
                <a:lnTo>
                  <a:pt x="518" y="177"/>
                </a:lnTo>
                <a:lnTo>
                  <a:pt x="524" y="201"/>
                </a:lnTo>
                <a:lnTo>
                  <a:pt x="525" y="224"/>
                </a:lnTo>
                <a:lnTo>
                  <a:pt x="522" y="246"/>
                </a:lnTo>
                <a:lnTo>
                  <a:pt x="517" y="268"/>
                </a:lnTo>
                <a:lnTo>
                  <a:pt x="507" y="290"/>
                </a:lnTo>
                <a:lnTo>
                  <a:pt x="494" y="312"/>
                </a:lnTo>
                <a:lnTo>
                  <a:pt x="477" y="333"/>
                </a:lnTo>
                <a:lnTo>
                  <a:pt x="468" y="341"/>
                </a:lnTo>
                <a:lnTo>
                  <a:pt x="456" y="344"/>
                </a:lnTo>
                <a:lnTo>
                  <a:pt x="444" y="345"/>
                </a:lnTo>
                <a:lnTo>
                  <a:pt x="430" y="344"/>
                </a:lnTo>
                <a:lnTo>
                  <a:pt x="414" y="339"/>
                </a:lnTo>
                <a:lnTo>
                  <a:pt x="400" y="334"/>
                </a:lnTo>
                <a:lnTo>
                  <a:pt x="385" y="325"/>
                </a:lnTo>
                <a:lnTo>
                  <a:pt x="372" y="315"/>
                </a:lnTo>
                <a:lnTo>
                  <a:pt x="365" y="329"/>
                </a:lnTo>
                <a:lnTo>
                  <a:pt x="358" y="342"/>
                </a:lnTo>
                <a:lnTo>
                  <a:pt x="348" y="354"/>
                </a:lnTo>
                <a:lnTo>
                  <a:pt x="338" y="365"/>
                </a:lnTo>
                <a:lnTo>
                  <a:pt x="326" y="374"/>
                </a:lnTo>
                <a:lnTo>
                  <a:pt x="312" y="382"/>
                </a:lnTo>
                <a:lnTo>
                  <a:pt x="296" y="388"/>
                </a:lnTo>
                <a:lnTo>
                  <a:pt x="278" y="392"/>
                </a:lnTo>
                <a:lnTo>
                  <a:pt x="251" y="394"/>
                </a:lnTo>
                <a:lnTo>
                  <a:pt x="226" y="390"/>
                </a:lnTo>
                <a:lnTo>
                  <a:pt x="202" y="381"/>
                </a:lnTo>
                <a:lnTo>
                  <a:pt x="181" y="368"/>
                </a:lnTo>
                <a:lnTo>
                  <a:pt x="163" y="352"/>
                </a:lnTo>
                <a:lnTo>
                  <a:pt x="147" y="334"/>
                </a:lnTo>
                <a:lnTo>
                  <a:pt x="136" y="312"/>
                </a:lnTo>
                <a:lnTo>
                  <a:pt x="130" y="290"/>
                </a:lnTo>
                <a:lnTo>
                  <a:pt x="129" y="266"/>
                </a:lnTo>
                <a:lnTo>
                  <a:pt x="132" y="242"/>
                </a:lnTo>
                <a:lnTo>
                  <a:pt x="140" y="220"/>
                </a:lnTo>
                <a:lnTo>
                  <a:pt x="151" y="199"/>
                </a:lnTo>
                <a:lnTo>
                  <a:pt x="168" y="181"/>
                </a:lnTo>
                <a:lnTo>
                  <a:pt x="188" y="167"/>
                </a:lnTo>
                <a:lnTo>
                  <a:pt x="213" y="156"/>
                </a:lnTo>
                <a:lnTo>
                  <a:pt x="240" y="153"/>
                </a:lnTo>
                <a:lnTo>
                  <a:pt x="269" y="155"/>
                </a:lnTo>
                <a:lnTo>
                  <a:pt x="298" y="161"/>
                </a:lnTo>
                <a:lnTo>
                  <a:pt x="323" y="171"/>
                </a:lnTo>
                <a:lnTo>
                  <a:pt x="347" y="184"/>
                </a:lnTo>
                <a:lnTo>
                  <a:pt x="366" y="201"/>
                </a:lnTo>
                <a:lnTo>
                  <a:pt x="380" y="221"/>
                </a:lnTo>
                <a:lnTo>
                  <a:pt x="392" y="243"/>
                </a:lnTo>
                <a:lnTo>
                  <a:pt x="396" y="267"/>
                </a:lnTo>
                <a:lnTo>
                  <a:pt x="396" y="272"/>
                </a:lnTo>
                <a:lnTo>
                  <a:pt x="396" y="276"/>
                </a:lnTo>
                <a:lnTo>
                  <a:pt x="393" y="280"/>
                </a:lnTo>
                <a:lnTo>
                  <a:pt x="390" y="282"/>
                </a:lnTo>
                <a:close/>
                <a:moveTo>
                  <a:pt x="390" y="253"/>
                </a:moveTo>
                <a:lnTo>
                  <a:pt x="390" y="257"/>
                </a:lnTo>
                <a:lnTo>
                  <a:pt x="390" y="255"/>
                </a:lnTo>
                <a:lnTo>
                  <a:pt x="390" y="254"/>
                </a:lnTo>
                <a:lnTo>
                  <a:pt x="390" y="254"/>
                </a:lnTo>
                <a:lnTo>
                  <a:pt x="390" y="253"/>
                </a:lnTo>
                <a:close/>
                <a:moveTo>
                  <a:pt x="340" y="247"/>
                </a:moveTo>
                <a:lnTo>
                  <a:pt x="333" y="236"/>
                </a:lnTo>
                <a:lnTo>
                  <a:pt x="324" y="225"/>
                </a:lnTo>
                <a:lnTo>
                  <a:pt x="314" y="217"/>
                </a:lnTo>
                <a:lnTo>
                  <a:pt x="302" y="209"/>
                </a:lnTo>
                <a:lnTo>
                  <a:pt x="288" y="204"/>
                </a:lnTo>
                <a:lnTo>
                  <a:pt x="274" y="199"/>
                </a:lnTo>
                <a:lnTo>
                  <a:pt x="257" y="197"/>
                </a:lnTo>
                <a:lnTo>
                  <a:pt x="241" y="195"/>
                </a:lnTo>
                <a:lnTo>
                  <a:pt x="225" y="198"/>
                </a:lnTo>
                <a:lnTo>
                  <a:pt x="210" y="205"/>
                </a:lnTo>
                <a:lnTo>
                  <a:pt x="199" y="214"/>
                </a:lnTo>
                <a:lnTo>
                  <a:pt x="191" y="225"/>
                </a:lnTo>
                <a:lnTo>
                  <a:pt x="184" y="239"/>
                </a:lnTo>
                <a:lnTo>
                  <a:pt x="181" y="254"/>
                </a:lnTo>
                <a:lnTo>
                  <a:pt x="180" y="269"/>
                </a:lnTo>
                <a:lnTo>
                  <a:pt x="181" y="284"/>
                </a:lnTo>
                <a:lnTo>
                  <a:pt x="185" y="298"/>
                </a:lnTo>
                <a:lnTo>
                  <a:pt x="191" y="311"/>
                </a:lnTo>
                <a:lnTo>
                  <a:pt x="199" y="323"/>
                </a:lnTo>
                <a:lnTo>
                  <a:pt x="210" y="334"/>
                </a:lnTo>
                <a:lnTo>
                  <a:pt x="222" y="343"/>
                </a:lnTo>
                <a:lnTo>
                  <a:pt x="236" y="349"/>
                </a:lnTo>
                <a:lnTo>
                  <a:pt x="251" y="352"/>
                </a:lnTo>
                <a:lnTo>
                  <a:pt x="267" y="351"/>
                </a:lnTo>
                <a:lnTo>
                  <a:pt x="285" y="346"/>
                </a:lnTo>
                <a:lnTo>
                  <a:pt x="299" y="338"/>
                </a:lnTo>
                <a:lnTo>
                  <a:pt x="310" y="329"/>
                </a:lnTo>
                <a:lnTo>
                  <a:pt x="319" y="316"/>
                </a:lnTo>
                <a:lnTo>
                  <a:pt x="326" y="304"/>
                </a:lnTo>
                <a:lnTo>
                  <a:pt x="330" y="289"/>
                </a:lnTo>
                <a:lnTo>
                  <a:pt x="334" y="273"/>
                </a:lnTo>
                <a:lnTo>
                  <a:pt x="338" y="257"/>
                </a:lnTo>
                <a:lnTo>
                  <a:pt x="338" y="254"/>
                </a:lnTo>
                <a:lnTo>
                  <a:pt x="338" y="252"/>
                </a:lnTo>
                <a:lnTo>
                  <a:pt x="338" y="250"/>
                </a:lnTo>
                <a:lnTo>
                  <a:pt x="340" y="2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15360" y="1308240"/>
            <a:ext cx="360360" cy="191880"/>
          </a:xfrm>
          <a:custGeom>
            <a:avLst/>
            <a:gdLst/>
            <a:ahLst/>
            <a:rect l="l" t="t" r="r" b="b"/>
            <a:pathLst>
              <a:path w="454" h="240">
                <a:moveTo>
                  <a:pt x="7" y="182"/>
                </a:moveTo>
                <a:lnTo>
                  <a:pt x="19" y="169"/>
                </a:lnTo>
                <a:lnTo>
                  <a:pt x="33" y="157"/>
                </a:lnTo>
                <a:lnTo>
                  <a:pt x="46" y="145"/>
                </a:lnTo>
                <a:lnTo>
                  <a:pt x="60" y="132"/>
                </a:lnTo>
                <a:lnTo>
                  <a:pt x="74" y="119"/>
                </a:lnTo>
                <a:lnTo>
                  <a:pt x="88" y="107"/>
                </a:lnTo>
                <a:lnTo>
                  <a:pt x="104" y="95"/>
                </a:lnTo>
                <a:lnTo>
                  <a:pt x="118" y="84"/>
                </a:lnTo>
                <a:lnTo>
                  <a:pt x="123" y="73"/>
                </a:lnTo>
                <a:lnTo>
                  <a:pt x="129" y="64"/>
                </a:lnTo>
                <a:lnTo>
                  <a:pt x="136" y="54"/>
                </a:lnTo>
                <a:lnTo>
                  <a:pt x="144" y="46"/>
                </a:lnTo>
                <a:lnTo>
                  <a:pt x="153" y="36"/>
                </a:lnTo>
                <a:lnTo>
                  <a:pt x="163" y="29"/>
                </a:lnTo>
                <a:lnTo>
                  <a:pt x="174" y="23"/>
                </a:lnTo>
                <a:lnTo>
                  <a:pt x="187" y="16"/>
                </a:lnTo>
                <a:lnTo>
                  <a:pt x="209" y="6"/>
                </a:lnTo>
                <a:lnTo>
                  <a:pt x="233" y="2"/>
                </a:lnTo>
                <a:lnTo>
                  <a:pt x="258" y="0"/>
                </a:lnTo>
                <a:lnTo>
                  <a:pt x="282" y="2"/>
                </a:lnTo>
                <a:lnTo>
                  <a:pt x="306" y="6"/>
                </a:lnTo>
                <a:lnTo>
                  <a:pt x="330" y="13"/>
                </a:lnTo>
                <a:lnTo>
                  <a:pt x="352" y="24"/>
                </a:lnTo>
                <a:lnTo>
                  <a:pt x="374" y="36"/>
                </a:lnTo>
                <a:lnTo>
                  <a:pt x="378" y="39"/>
                </a:lnTo>
                <a:lnTo>
                  <a:pt x="383" y="46"/>
                </a:lnTo>
                <a:lnTo>
                  <a:pt x="386" y="52"/>
                </a:lnTo>
                <a:lnTo>
                  <a:pt x="385" y="59"/>
                </a:lnTo>
                <a:lnTo>
                  <a:pt x="381" y="65"/>
                </a:lnTo>
                <a:lnTo>
                  <a:pt x="375" y="70"/>
                </a:lnTo>
                <a:lnTo>
                  <a:pt x="366" y="73"/>
                </a:lnTo>
                <a:lnTo>
                  <a:pt x="358" y="73"/>
                </a:lnTo>
                <a:lnTo>
                  <a:pt x="348" y="71"/>
                </a:lnTo>
                <a:lnTo>
                  <a:pt x="324" y="61"/>
                </a:lnTo>
                <a:lnTo>
                  <a:pt x="299" y="55"/>
                </a:lnTo>
                <a:lnTo>
                  <a:pt x="277" y="54"/>
                </a:lnTo>
                <a:lnTo>
                  <a:pt x="253" y="56"/>
                </a:lnTo>
                <a:lnTo>
                  <a:pt x="230" y="63"/>
                </a:lnTo>
                <a:lnTo>
                  <a:pt x="209" y="72"/>
                </a:lnTo>
                <a:lnTo>
                  <a:pt x="187" y="85"/>
                </a:lnTo>
                <a:lnTo>
                  <a:pt x="166" y="99"/>
                </a:lnTo>
                <a:lnTo>
                  <a:pt x="161" y="112"/>
                </a:lnTo>
                <a:lnTo>
                  <a:pt x="160" y="127"/>
                </a:lnTo>
                <a:lnTo>
                  <a:pt x="161" y="144"/>
                </a:lnTo>
                <a:lnTo>
                  <a:pt x="166" y="158"/>
                </a:lnTo>
                <a:lnTo>
                  <a:pt x="171" y="171"/>
                </a:lnTo>
                <a:lnTo>
                  <a:pt x="181" y="182"/>
                </a:lnTo>
                <a:lnTo>
                  <a:pt x="192" y="191"/>
                </a:lnTo>
                <a:lnTo>
                  <a:pt x="208" y="196"/>
                </a:lnTo>
                <a:lnTo>
                  <a:pt x="223" y="201"/>
                </a:lnTo>
                <a:lnTo>
                  <a:pt x="240" y="205"/>
                </a:lnTo>
                <a:lnTo>
                  <a:pt x="260" y="206"/>
                </a:lnTo>
                <a:lnTo>
                  <a:pt x="278" y="206"/>
                </a:lnTo>
                <a:lnTo>
                  <a:pt x="298" y="203"/>
                </a:lnTo>
                <a:lnTo>
                  <a:pt x="317" y="200"/>
                </a:lnTo>
                <a:lnTo>
                  <a:pt x="336" y="194"/>
                </a:lnTo>
                <a:lnTo>
                  <a:pt x="354" y="187"/>
                </a:lnTo>
                <a:lnTo>
                  <a:pt x="371" y="179"/>
                </a:lnTo>
                <a:lnTo>
                  <a:pt x="385" y="170"/>
                </a:lnTo>
                <a:lnTo>
                  <a:pt x="397" y="160"/>
                </a:lnTo>
                <a:lnTo>
                  <a:pt x="407" y="147"/>
                </a:lnTo>
                <a:lnTo>
                  <a:pt x="414" y="140"/>
                </a:lnTo>
                <a:lnTo>
                  <a:pt x="423" y="137"/>
                </a:lnTo>
                <a:lnTo>
                  <a:pt x="433" y="137"/>
                </a:lnTo>
                <a:lnTo>
                  <a:pt x="441" y="139"/>
                </a:lnTo>
                <a:lnTo>
                  <a:pt x="448" y="144"/>
                </a:lnTo>
                <a:lnTo>
                  <a:pt x="452" y="150"/>
                </a:lnTo>
                <a:lnTo>
                  <a:pt x="454" y="157"/>
                </a:lnTo>
                <a:lnTo>
                  <a:pt x="451" y="167"/>
                </a:lnTo>
                <a:lnTo>
                  <a:pt x="438" y="183"/>
                </a:lnTo>
                <a:lnTo>
                  <a:pt x="420" y="198"/>
                </a:lnTo>
                <a:lnTo>
                  <a:pt x="400" y="210"/>
                </a:lnTo>
                <a:lnTo>
                  <a:pt x="378" y="221"/>
                </a:lnTo>
                <a:lnTo>
                  <a:pt x="354" y="229"/>
                </a:lnTo>
                <a:lnTo>
                  <a:pt x="327" y="235"/>
                </a:lnTo>
                <a:lnTo>
                  <a:pt x="300" y="239"/>
                </a:lnTo>
                <a:lnTo>
                  <a:pt x="274" y="240"/>
                </a:lnTo>
                <a:lnTo>
                  <a:pt x="247" y="240"/>
                </a:lnTo>
                <a:lnTo>
                  <a:pt x="222" y="237"/>
                </a:lnTo>
                <a:lnTo>
                  <a:pt x="196" y="232"/>
                </a:lnTo>
                <a:lnTo>
                  <a:pt x="174" y="224"/>
                </a:lnTo>
                <a:lnTo>
                  <a:pt x="154" y="214"/>
                </a:lnTo>
                <a:lnTo>
                  <a:pt x="137" y="202"/>
                </a:lnTo>
                <a:lnTo>
                  <a:pt x="125" y="186"/>
                </a:lnTo>
                <a:lnTo>
                  <a:pt x="116" y="169"/>
                </a:lnTo>
                <a:lnTo>
                  <a:pt x="115" y="163"/>
                </a:lnTo>
                <a:lnTo>
                  <a:pt x="114" y="156"/>
                </a:lnTo>
                <a:lnTo>
                  <a:pt x="112" y="150"/>
                </a:lnTo>
                <a:lnTo>
                  <a:pt x="111" y="145"/>
                </a:lnTo>
                <a:lnTo>
                  <a:pt x="102" y="153"/>
                </a:lnTo>
                <a:lnTo>
                  <a:pt x="94" y="161"/>
                </a:lnTo>
                <a:lnTo>
                  <a:pt x="85" y="169"/>
                </a:lnTo>
                <a:lnTo>
                  <a:pt x="77" y="177"/>
                </a:lnTo>
                <a:lnTo>
                  <a:pt x="69" y="185"/>
                </a:lnTo>
                <a:lnTo>
                  <a:pt x="60" y="193"/>
                </a:lnTo>
                <a:lnTo>
                  <a:pt x="53" y="200"/>
                </a:lnTo>
                <a:lnTo>
                  <a:pt x="45" y="208"/>
                </a:lnTo>
                <a:lnTo>
                  <a:pt x="36" y="214"/>
                </a:lnTo>
                <a:lnTo>
                  <a:pt x="26" y="216"/>
                </a:lnTo>
                <a:lnTo>
                  <a:pt x="17" y="214"/>
                </a:lnTo>
                <a:lnTo>
                  <a:pt x="10" y="210"/>
                </a:lnTo>
                <a:lnTo>
                  <a:pt x="3" y="205"/>
                </a:lnTo>
                <a:lnTo>
                  <a:pt x="0" y="198"/>
                </a:lnTo>
                <a:lnTo>
                  <a:pt x="1" y="190"/>
                </a:lnTo>
                <a:lnTo>
                  <a:pt x="7" y="1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54880" y="1839960"/>
            <a:ext cx="546120" cy="433440"/>
          </a:xfrm>
          <a:custGeom>
            <a:avLst/>
            <a:gdLst/>
            <a:ahLst/>
            <a:rect l="l" t="t" r="r" b="b"/>
            <a:pathLst>
              <a:path w="687" h="545">
                <a:moveTo>
                  <a:pt x="599" y="200"/>
                </a:moveTo>
                <a:lnTo>
                  <a:pt x="618" y="218"/>
                </a:lnTo>
                <a:lnTo>
                  <a:pt x="638" y="233"/>
                </a:lnTo>
                <a:lnTo>
                  <a:pt x="655" y="246"/>
                </a:lnTo>
                <a:lnTo>
                  <a:pt x="670" y="259"/>
                </a:lnTo>
                <a:lnTo>
                  <a:pt x="681" y="274"/>
                </a:lnTo>
                <a:lnTo>
                  <a:pt x="687" y="289"/>
                </a:lnTo>
                <a:lnTo>
                  <a:pt x="687" y="306"/>
                </a:lnTo>
                <a:lnTo>
                  <a:pt x="680" y="326"/>
                </a:lnTo>
                <a:lnTo>
                  <a:pt x="672" y="344"/>
                </a:lnTo>
                <a:lnTo>
                  <a:pt x="662" y="362"/>
                </a:lnTo>
                <a:lnTo>
                  <a:pt x="650" y="378"/>
                </a:lnTo>
                <a:lnTo>
                  <a:pt x="639" y="392"/>
                </a:lnTo>
                <a:lnTo>
                  <a:pt x="625" y="402"/>
                </a:lnTo>
                <a:lnTo>
                  <a:pt x="610" y="409"/>
                </a:lnTo>
                <a:lnTo>
                  <a:pt x="593" y="410"/>
                </a:lnTo>
                <a:lnTo>
                  <a:pt x="572" y="404"/>
                </a:lnTo>
                <a:lnTo>
                  <a:pt x="570" y="420"/>
                </a:lnTo>
                <a:lnTo>
                  <a:pt x="569" y="432"/>
                </a:lnTo>
                <a:lnTo>
                  <a:pt x="565" y="442"/>
                </a:lnTo>
                <a:lnTo>
                  <a:pt x="559" y="450"/>
                </a:lnTo>
                <a:lnTo>
                  <a:pt x="552" y="458"/>
                </a:lnTo>
                <a:lnTo>
                  <a:pt x="545" y="467"/>
                </a:lnTo>
                <a:lnTo>
                  <a:pt x="535" y="477"/>
                </a:lnTo>
                <a:lnTo>
                  <a:pt x="524" y="491"/>
                </a:lnTo>
                <a:lnTo>
                  <a:pt x="513" y="502"/>
                </a:lnTo>
                <a:lnTo>
                  <a:pt x="499" y="511"/>
                </a:lnTo>
                <a:lnTo>
                  <a:pt x="483" y="517"/>
                </a:lnTo>
                <a:lnTo>
                  <a:pt x="468" y="521"/>
                </a:lnTo>
                <a:lnTo>
                  <a:pt x="450" y="523"/>
                </a:lnTo>
                <a:lnTo>
                  <a:pt x="431" y="522"/>
                </a:lnTo>
                <a:lnTo>
                  <a:pt x="413" y="520"/>
                </a:lnTo>
                <a:lnTo>
                  <a:pt x="395" y="516"/>
                </a:lnTo>
                <a:lnTo>
                  <a:pt x="376" y="513"/>
                </a:lnTo>
                <a:lnTo>
                  <a:pt x="360" y="513"/>
                </a:lnTo>
                <a:lnTo>
                  <a:pt x="341" y="513"/>
                </a:lnTo>
                <a:lnTo>
                  <a:pt x="325" y="516"/>
                </a:lnTo>
                <a:lnTo>
                  <a:pt x="308" y="520"/>
                </a:lnTo>
                <a:lnTo>
                  <a:pt x="291" y="524"/>
                </a:lnTo>
                <a:lnTo>
                  <a:pt x="275" y="529"/>
                </a:lnTo>
                <a:lnTo>
                  <a:pt x="258" y="533"/>
                </a:lnTo>
                <a:lnTo>
                  <a:pt x="243" y="538"/>
                </a:lnTo>
                <a:lnTo>
                  <a:pt x="228" y="541"/>
                </a:lnTo>
                <a:lnTo>
                  <a:pt x="212" y="544"/>
                </a:lnTo>
                <a:lnTo>
                  <a:pt x="197" y="545"/>
                </a:lnTo>
                <a:lnTo>
                  <a:pt x="181" y="545"/>
                </a:lnTo>
                <a:lnTo>
                  <a:pt x="166" y="543"/>
                </a:lnTo>
                <a:lnTo>
                  <a:pt x="152" y="537"/>
                </a:lnTo>
                <a:lnTo>
                  <a:pt x="136" y="529"/>
                </a:lnTo>
                <a:lnTo>
                  <a:pt x="121" y="520"/>
                </a:lnTo>
                <a:lnTo>
                  <a:pt x="105" y="510"/>
                </a:lnTo>
                <a:lnTo>
                  <a:pt x="91" y="500"/>
                </a:lnTo>
                <a:lnTo>
                  <a:pt x="80" y="491"/>
                </a:lnTo>
                <a:lnTo>
                  <a:pt x="69" y="479"/>
                </a:lnTo>
                <a:lnTo>
                  <a:pt x="62" y="468"/>
                </a:lnTo>
                <a:lnTo>
                  <a:pt x="56" y="454"/>
                </a:lnTo>
                <a:lnTo>
                  <a:pt x="55" y="439"/>
                </a:lnTo>
                <a:lnTo>
                  <a:pt x="52" y="422"/>
                </a:lnTo>
                <a:lnTo>
                  <a:pt x="43" y="407"/>
                </a:lnTo>
                <a:lnTo>
                  <a:pt x="32" y="393"/>
                </a:lnTo>
                <a:lnTo>
                  <a:pt x="20" y="380"/>
                </a:lnTo>
                <a:lnTo>
                  <a:pt x="10" y="367"/>
                </a:lnTo>
                <a:lnTo>
                  <a:pt x="1" y="354"/>
                </a:lnTo>
                <a:lnTo>
                  <a:pt x="0" y="341"/>
                </a:lnTo>
                <a:lnTo>
                  <a:pt x="6" y="326"/>
                </a:lnTo>
                <a:lnTo>
                  <a:pt x="15" y="303"/>
                </a:lnTo>
                <a:lnTo>
                  <a:pt x="20" y="278"/>
                </a:lnTo>
                <a:lnTo>
                  <a:pt x="20" y="252"/>
                </a:lnTo>
                <a:lnTo>
                  <a:pt x="20" y="227"/>
                </a:lnTo>
                <a:lnTo>
                  <a:pt x="21" y="205"/>
                </a:lnTo>
                <a:lnTo>
                  <a:pt x="28" y="185"/>
                </a:lnTo>
                <a:lnTo>
                  <a:pt x="42" y="173"/>
                </a:lnTo>
                <a:lnTo>
                  <a:pt x="66" y="166"/>
                </a:lnTo>
                <a:lnTo>
                  <a:pt x="69" y="150"/>
                </a:lnTo>
                <a:lnTo>
                  <a:pt x="79" y="137"/>
                </a:lnTo>
                <a:lnTo>
                  <a:pt x="91" y="126"/>
                </a:lnTo>
                <a:lnTo>
                  <a:pt x="108" y="116"/>
                </a:lnTo>
                <a:lnTo>
                  <a:pt x="124" y="106"/>
                </a:lnTo>
                <a:lnTo>
                  <a:pt x="138" y="96"/>
                </a:lnTo>
                <a:lnTo>
                  <a:pt x="150" y="82"/>
                </a:lnTo>
                <a:lnTo>
                  <a:pt x="157" y="67"/>
                </a:lnTo>
                <a:lnTo>
                  <a:pt x="166" y="50"/>
                </a:lnTo>
                <a:lnTo>
                  <a:pt x="178" y="36"/>
                </a:lnTo>
                <a:lnTo>
                  <a:pt x="195" y="26"/>
                </a:lnTo>
                <a:lnTo>
                  <a:pt x="216" y="20"/>
                </a:lnTo>
                <a:lnTo>
                  <a:pt x="239" y="15"/>
                </a:lnTo>
                <a:lnTo>
                  <a:pt x="264" y="11"/>
                </a:lnTo>
                <a:lnTo>
                  <a:pt x="289" y="8"/>
                </a:lnTo>
                <a:lnTo>
                  <a:pt x="315" y="3"/>
                </a:lnTo>
                <a:lnTo>
                  <a:pt x="343" y="0"/>
                </a:lnTo>
                <a:lnTo>
                  <a:pt x="375" y="0"/>
                </a:lnTo>
                <a:lnTo>
                  <a:pt x="409" y="3"/>
                </a:lnTo>
                <a:lnTo>
                  <a:pt x="441" y="11"/>
                </a:lnTo>
                <a:lnTo>
                  <a:pt x="471" y="23"/>
                </a:lnTo>
                <a:lnTo>
                  <a:pt x="495" y="40"/>
                </a:lnTo>
                <a:lnTo>
                  <a:pt x="511" y="62"/>
                </a:lnTo>
                <a:lnTo>
                  <a:pt x="518" y="89"/>
                </a:lnTo>
                <a:lnTo>
                  <a:pt x="524" y="107"/>
                </a:lnTo>
                <a:lnTo>
                  <a:pt x="539" y="123"/>
                </a:lnTo>
                <a:lnTo>
                  <a:pt x="558" y="138"/>
                </a:lnTo>
                <a:lnTo>
                  <a:pt x="577" y="151"/>
                </a:lnTo>
                <a:lnTo>
                  <a:pt x="596" y="162"/>
                </a:lnTo>
                <a:lnTo>
                  <a:pt x="607" y="175"/>
                </a:lnTo>
                <a:lnTo>
                  <a:pt x="610" y="187"/>
                </a:lnTo>
                <a:lnTo>
                  <a:pt x="599" y="200"/>
                </a:lnTo>
                <a:close/>
              </a:path>
            </a:pathLst>
          </a:custGeom>
          <a:solidFill>
            <a:srgbClr val="ef7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70800" y="2171880"/>
            <a:ext cx="77760" cy="52200"/>
          </a:xfrm>
          <a:custGeom>
            <a:avLst/>
            <a:gdLst/>
            <a:ahLst/>
            <a:rect l="l" t="t" r="r" b="b"/>
            <a:pathLst>
              <a:path w="98" h="66">
                <a:moveTo>
                  <a:pt x="0" y="28"/>
                </a:moveTo>
                <a:lnTo>
                  <a:pt x="3" y="17"/>
                </a:lnTo>
                <a:lnTo>
                  <a:pt x="11" y="8"/>
                </a:lnTo>
                <a:lnTo>
                  <a:pt x="23" y="2"/>
                </a:lnTo>
                <a:lnTo>
                  <a:pt x="38" y="0"/>
                </a:lnTo>
                <a:lnTo>
                  <a:pt x="46" y="1"/>
                </a:lnTo>
                <a:lnTo>
                  <a:pt x="56" y="6"/>
                </a:lnTo>
                <a:lnTo>
                  <a:pt x="66" y="12"/>
                </a:lnTo>
                <a:lnTo>
                  <a:pt x="76" y="18"/>
                </a:lnTo>
                <a:lnTo>
                  <a:pt x="84" y="25"/>
                </a:lnTo>
                <a:lnTo>
                  <a:pt x="91" y="33"/>
                </a:lnTo>
                <a:lnTo>
                  <a:pt x="97" y="41"/>
                </a:lnTo>
                <a:lnTo>
                  <a:pt x="98" y="47"/>
                </a:lnTo>
                <a:lnTo>
                  <a:pt x="96" y="53"/>
                </a:lnTo>
                <a:lnTo>
                  <a:pt x="90" y="58"/>
                </a:lnTo>
                <a:lnTo>
                  <a:pt x="80" y="62"/>
                </a:lnTo>
                <a:lnTo>
                  <a:pt x="70" y="64"/>
                </a:lnTo>
                <a:lnTo>
                  <a:pt x="59" y="66"/>
                </a:lnTo>
                <a:lnTo>
                  <a:pt x="49" y="64"/>
                </a:lnTo>
                <a:lnTo>
                  <a:pt x="42" y="62"/>
                </a:lnTo>
                <a:lnTo>
                  <a:pt x="38" y="56"/>
                </a:lnTo>
                <a:lnTo>
                  <a:pt x="31" y="47"/>
                </a:lnTo>
                <a:lnTo>
                  <a:pt x="17" y="41"/>
                </a:lnTo>
                <a:lnTo>
                  <a:pt x="6" y="37"/>
                </a:lnTo>
                <a:lnTo>
                  <a:pt x="0" y="2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29560" y="2149560"/>
            <a:ext cx="56880" cy="31680"/>
          </a:xfrm>
          <a:custGeom>
            <a:avLst/>
            <a:gdLst/>
            <a:ahLst/>
            <a:rect l="l" t="t" r="r" b="b"/>
            <a:pathLst>
              <a:path w="71" h="41">
                <a:moveTo>
                  <a:pt x="0" y="18"/>
                </a:moveTo>
                <a:lnTo>
                  <a:pt x="2" y="11"/>
                </a:lnTo>
                <a:lnTo>
                  <a:pt x="8" y="5"/>
                </a:lnTo>
                <a:lnTo>
                  <a:pt x="16" y="1"/>
                </a:lnTo>
                <a:lnTo>
                  <a:pt x="26" y="0"/>
                </a:lnTo>
                <a:lnTo>
                  <a:pt x="33" y="1"/>
                </a:lnTo>
                <a:lnTo>
                  <a:pt x="40" y="4"/>
                </a:lnTo>
                <a:lnTo>
                  <a:pt x="47" y="7"/>
                </a:lnTo>
                <a:lnTo>
                  <a:pt x="54" y="12"/>
                </a:lnTo>
                <a:lnTo>
                  <a:pt x="61" y="16"/>
                </a:lnTo>
                <a:lnTo>
                  <a:pt x="67" y="22"/>
                </a:lnTo>
                <a:lnTo>
                  <a:pt x="70" y="27"/>
                </a:lnTo>
                <a:lnTo>
                  <a:pt x="71" y="30"/>
                </a:lnTo>
                <a:lnTo>
                  <a:pt x="70" y="34"/>
                </a:lnTo>
                <a:lnTo>
                  <a:pt x="64" y="36"/>
                </a:lnTo>
                <a:lnTo>
                  <a:pt x="59" y="38"/>
                </a:lnTo>
                <a:lnTo>
                  <a:pt x="50" y="41"/>
                </a:lnTo>
                <a:lnTo>
                  <a:pt x="42" y="41"/>
                </a:lnTo>
                <a:lnTo>
                  <a:pt x="35" y="41"/>
                </a:lnTo>
                <a:lnTo>
                  <a:pt x="29" y="38"/>
                </a:lnTo>
                <a:lnTo>
                  <a:pt x="26" y="35"/>
                </a:lnTo>
                <a:lnTo>
                  <a:pt x="21" y="30"/>
                </a:lnTo>
                <a:lnTo>
                  <a:pt x="12" y="27"/>
                </a:lnTo>
                <a:lnTo>
                  <a:pt x="4" y="23"/>
                </a:lnTo>
                <a:lnTo>
                  <a:pt x="0" y="1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34160" y="2013120"/>
            <a:ext cx="87480" cy="52200"/>
          </a:xfrm>
          <a:custGeom>
            <a:avLst/>
            <a:gdLst/>
            <a:ahLst/>
            <a:rect l="l" t="t" r="r" b="b"/>
            <a:pathLst>
              <a:path w="110" h="65">
                <a:moveTo>
                  <a:pt x="0" y="28"/>
                </a:moveTo>
                <a:lnTo>
                  <a:pt x="2" y="23"/>
                </a:lnTo>
                <a:lnTo>
                  <a:pt x="3" y="17"/>
                </a:lnTo>
                <a:lnTo>
                  <a:pt x="7" y="12"/>
                </a:lnTo>
                <a:lnTo>
                  <a:pt x="13" y="8"/>
                </a:lnTo>
                <a:lnTo>
                  <a:pt x="18" y="4"/>
                </a:lnTo>
                <a:lnTo>
                  <a:pt x="27" y="2"/>
                </a:lnTo>
                <a:lnTo>
                  <a:pt x="34" y="0"/>
                </a:lnTo>
                <a:lnTo>
                  <a:pt x="42" y="0"/>
                </a:lnTo>
                <a:lnTo>
                  <a:pt x="52" y="1"/>
                </a:lnTo>
                <a:lnTo>
                  <a:pt x="63" y="5"/>
                </a:lnTo>
                <a:lnTo>
                  <a:pt x="75" y="11"/>
                </a:lnTo>
                <a:lnTo>
                  <a:pt x="84" y="18"/>
                </a:lnTo>
                <a:lnTo>
                  <a:pt x="94" y="25"/>
                </a:lnTo>
                <a:lnTo>
                  <a:pt x="103" y="33"/>
                </a:lnTo>
                <a:lnTo>
                  <a:pt x="108" y="41"/>
                </a:lnTo>
                <a:lnTo>
                  <a:pt x="110" y="47"/>
                </a:lnTo>
                <a:lnTo>
                  <a:pt x="107" y="53"/>
                </a:lnTo>
                <a:lnTo>
                  <a:pt x="100" y="57"/>
                </a:lnTo>
                <a:lnTo>
                  <a:pt x="90" y="62"/>
                </a:lnTo>
                <a:lnTo>
                  <a:pt x="79" y="64"/>
                </a:lnTo>
                <a:lnTo>
                  <a:pt x="66" y="65"/>
                </a:lnTo>
                <a:lnTo>
                  <a:pt x="56" y="64"/>
                </a:lnTo>
                <a:lnTo>
                  <a:pt x="47" y="62"/>
                </a:lnTo>
                <a:lnTo>
                  <a:pt x="42" y="56"/>
                </a:lnTo>
                <a:lnTo>
                  <a:pt x="39" y="50"/>
                </a:lnTo>
                <a:lnTo>
                  <a:pt x="34" y="47"/>
                </a:lnTo>
                <a:lnTo>
                  <a:pt x="27" y="45"/>
                </a:lnTo>
                <a:lnTo>
                  <a:pt x="20" y="42"/>
                </a:lnTo>
                <a:lnTo>
                  <a:pt x="11" y="40"/>
                </a:lnTo>
                <a:lnTo>
                  <a:pt x="6" y="37"/>
                </a:lnTo>
                <a:lnTo>
                  <a:pt x="2" y="33"/>
                </a:lnTo>
                <a:lnTo>
                  <a:pt x="0" y="2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18240" y="1994040"/>
            <a:ext cx="44640" cy="29880"/>
          </a:xfrm>
          <a:custGeom>
            <a:avLst/>
            <a:gdLst/>
            <a:ahLst/>
            <a:rect l="l" t="t" r="r" b="b"/>
            <a:pathLst>
              <a:path w="56" h="37">
                <a:moveTo>
                  <a:pt x="0" y="17"/>
                </a:moveTo>
                <a:lnTo>
                  <a:pt x="1" y="10"/>
                </a:lnTo>
                <a:lnTo>
                  <a:pt x="7" y="5"/>
                </a:lnTo>
                <a:lnTo>
                  <a:pt x="14" y="2"/>
                </a:lnTo>
                <a:lnTo>
                  <a:pt x="22" y="0"/>
                </a:lnTo>
                <a:lnTo>
                  <a:pt x="32" y="4"/>
                </a:lnTo>
                <a:lnTo>
                  <a:pt x="44" y="11"/>
                </a:lnTo>
                <a:lnTo>
                  <a:pt x="52" y="20"/>
                </a:lnTo>
                <a:lnTo>
                  <a:pt x="56" y="28"/>
                </a:lnTo>
                <a:lnTo>
                  <a:pt x="52" y="34"/>
                </a:lnTo>
                <a:lnTo>
                  <a:pt x="41" y="37"/>
                </a:lnTo>
                <a:lnTo>
                  <a:pt x="30" y="37"/>
                </a:lnTo>
                <a:lnTo>
                  <a:pt x="22" y="33"/>
                </a:lnTo>
                <a:lnTo>
                  <a:pt x="17" y="28"/>
                </a:lnTo>
                <a:lnTo>
                  <a:pt x="10" y="25"/>
                </a:lnTo>
                <a:lnTo>
                  <a:pt x="3" y="21"/>
                </a:lnTo>
                <a:lnTo>
                  <a:pt x="0" y="17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61320" y="2038320"/>
            <a:ext cx="63360" cy="47520"/>
          </a:xfrm>
          <a:custGeom>
            <a:avLst/>
            <a:gdLst/>
            <a:ahLst/>
            <a:rect l="l" t="t" r="r" b="b"/>
            <a:pathLst>
              <a:path w="80" h="61">
                <a:moveTo>
                  <a:pt x="0" y="14"/>
                </a:moveTo>
                <a:lnTo>
                  <a:pt x="3" y="8"/>
                </a:lnTo>
                <a:lnTo>
                  <a:pt x="9" y="4"/>
                </a:lnTo>
                <a:lnTo>
                  <a:pt x="17" y="2"/>
                </a:lnTo>
                <a:lnTo>
                  <a:pt x="28" y="1"/>
                </a:lnTo>
                <a:lnTo>
                  <a:pt x="40" y="0"/>
                </a:lnTo>
                <a:lnTo>
                  <a:pt x="52" y="0"/>
                </a:lnTo>
                <a:lnTo>
                  <a:pt x="64" y="0"/>
                </a:lnTo>
                <a:lnTo>
                  <a:pt x="72" y="0"/>
                </a:lnTo>
                <a:lnTo>
                  <a:pt x="80" y="2"/>
                </a:lnTo>
                <a:lnTo>
                  <a:pt x="78" y="9"/>
                </a:lnTo>
                <a:lnTo>
                  <a:pt x="71" y="18"/>
                </a:lnTo>
                <a:lnTo>
                  <a:pt x="66" y="30"/>
                </a:lnTo>
                <a:lnTo>
                  <a:pt x="64" y="36"/>
                </a:lnTo>
                <a:lnTo>
                  <a:pt x="58" y="42"/>
                </a:lnTo>
                <a:lnTo>
                  <a:pt x="50" y="49"/>
                </a:lnTo>
                <a:lnTo>
                  <a:pt x="40" y="54"/>
                </a:lnTo>
                <a:lnTo>
                  <a:pt x="28" y="59"/>
                </a:lnTo>
                <a:lnTo>
                  <a:pt x="19" y="61"/>
                </a:lnTo>
                <a:lnTo>
                  <a:pt x="12" y="60"/>
                </a:lnTo>
                <a:lnTo>
                  <a:pt x="7" y="55"/>
                </a:lnTo>
                <a:lnTo>
                  <a:pt x="5" y="44"/>
                </a:lnTo>
                <a:lnTo>
                  <a:pt x="2" y="34"/>
                </a:lnTo>
                <a:lnTo>
                  <a:pt x="0" y="24"/>
                </a:lnTo>
                <a:lnTo>
                  <a:pt x="0" y="14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35680" y="2066760"/>
            <a:ext cx="50760" cy="39960"/>
          </a:xfrm>
          <a:custGeom>
            <a:avLst/>
            <a:gdLst/>
            <a:ahLst/>
            <a:rect l="l" t="t" r="r" b="b"/>
            <a:pathLst>
              <a:path w="63" h="48">
                <a:moveTo>
                  <a:pt x="0" y="22"/>
                </a:moveTo>
                <a:lnTo>
                  <a:pt x="1" y="13"/>
                </a:lnTo>
                <a:lnTo>
                  <a:pt x="7" y="7"/>
                </a:lnTo>
                <a:lnTo>
                  <a:pt x="15" y="2"/>
                </a:lnTo>
                <a:lnTo>
                  <a:pt x="25" y="0"/>
                </a:lnTo>
                <a:lnTo>
                  <a:pt x="37" y="3"/>
                </a:lnTo>
                <a:lnTo>
                  <a:pt x="49" y="13"/>
                </a:lnTo>
                <a:lnTo>
                  <a:pt x="59" y="25"/>
                </a:lnTo>
                <a:lnTo>
                  <a:pt x="63" y="35"/>
                </a:lnTo>
                <a:lnTo>
                  <a:pt x="58" y="43"/>
                </a:lnTo>
                <a:lnTo>
                  <a:pt x="45" y="48"/>
                </a:lnTo>
                <a:lnTo>
                  <a:pt x="32" y="48"/>
                </a:lnTo>
                <a:lnTo>
                  <a:pt x="25" y="42"/>
                </a:lnTo>
                <a:lnTo>
                  <a:pt x="20" y="35"/>
                </a:lnTo>
                <a:lnTo>
                  <a:pt x="11" y="32"/>
                </a:lnTo>
                <a:lnTo>
                  <a:pt x="3" y="27"/>
                </a:lnTo>
                <a:lnTo>
                  <a:pt x="0" y="22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35880" y="2101680"/>
            <a:ext cx="39600" cy="38160"/>
          </a:xfrm>
          <a:custGeom>
            <a:avLst/>
            <a:gdLst/>
            <a:ahLst/>
            <a:rect l="l" t="t" r="r" b="b"/>
            <a:pathLst>
              <a:path w="51" h="50">
                <a:moveTo>
                  <a:pt x="0" y="22"/>
                </a:moveTo>
                <a:lnTo>
                  <a:pt x="1" y="13"/>
                </a:lnTo>
                <a:lnTo>
                  <a:pt x="6" y="6"/>
                </a:lnTo>
                <a:lnTo>
                  <a:pt x="11" y="1"/>
                </a:lnTo>
                <a:lnTo>
                  <a:pt x="20" y="0"/>
                </a:lnTo>
                <a:lnTo>
                  <a:pt x="30" y="4"/>
                </a:lnTo>
                <a:lnTo>
                  <a:pt x="39" y="14"/>
                </a:lnTo>
                <a:lnTo>
                  <a:pt x="48" y="26"/>
                </a:lnTo>
                <a:lnTo>
                  <a:pt x="51" y="36"/>
                </a:lnTo>
                <a:lnTo>
                  <a:pt x="46" y="44"/>
                </a:lnTo>
                <a:lnTo>
                  <a:pt x="37" y="50"/>
                </a:lnTo>
                <a:lnTo>
                  <a:pt x="25" y="50"/>
                </a:lnTo>
                <a:lnTo>
                  <a:pt x="20" y="43"/>
                </a:lnTo>
                <a:lnTo>
                  <a:pt x="16" y="36"/>
                </a:lnTo>
                <a:lnTo>
                  <a:pt x="9" y="33"/>
                </a:lnTo>
                <a:lnTo>
                  <a:pt x="3" y="28"/>
                </a:lnTo>
                <a:lnTo>
                  <a:pt x="0" y="22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1941480"/>
            <a:ext cx="28440" cy="41400"/>
          </a:xfrm>
          <a:custGeom>
            <a:avLst/>
            <a:gdLst/>
            <a:ahLst/>
            <a:rect l="l" t="t" r="r" b="b"/>
            <a:pathLst>
              <a:path w="35" h="52">
                <a:moveTo>
                  <a:pt x="0" y="23"/>
                </a:moveTo>
                <a:lnTo>
                  <a:pt x="2" y="14"/>
                </a:lnTo>
                <a:lnTo>
                  <a:pt x="4" y="7"/>
                </a:lnTo>
                <a:lnTo>
                  <a:pt x="7" y="2"/>
                </a:lnTo>
                <a:lnTo>
                  <a:pt x="13" y="0"/>
                </a:lnTo>
                <a:lnTo>
                  <a:pt x="20" y="4"/>
                </a:lnTo>
                <a:lnTo>
                  <a:pt x="27" y="14"/>
                </a:lnTo>
                <a:lnTo>
                  <a:pt x="32" y="26"/>
                </a:lnTo>
                <a:lnTo>
                  <a:pt x="35" y="38"/>
                </a:lnTo>
                <a:lnTo>
                  <a:pt x="32" y="46"/>
                </a:lnTo>
                <a:lnTo>
                  <a:pt x="25" y="52"/>
                </a:lnTo>
                <a:lnTo>
                  <a:pt x="17" y="52"/>
                </a:lnTo>
                <a:lnTo>
                  <a:pt x="13" y="45"/>
                </a:lnTo>
                <a:lnTo>
                  <a:pt x="10" y="38"/>
                </a:lnTo>
                <a:lnTo>
                  <a:pt x="6" y="33"/>
                </a:lnTo>
                <a:lnTo>
                  <a:pt x="2" y="30"/>
                </a:lnTo>
                <a:lnTo>
                  <a:pt x="0" y="23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29480" y="1897200"/>
            <a:ext cx="41040" cy="37800"/>
          </a:xfrm>
          <a:custGeom>
            <a:avLst/>
            <a:gdLst/>
            <a:ahLst/>
            <a:rect l="l" t="t" r="r" b="b"/>
            <a:pathLst>
              <a:path w="52" h="49">
                <a:moveTo>
                  <a:pt x="0" y="21"/>
                </a:moveTo>
                <a:lnTo>
                  <a:pt x="2" y="13"/>
                </a:lnTo>
                <a:lnTo>
                  <a:pt x="6" y="6"/>
                </a:lnTo>
                <a:lnTo>
                  <a:pt x="13" y="1"/>
                </a:lnTo>
                <a:lnTo>
                  <a:pt x="20" y="0"/>
                </a:lnTo>
                <a:lnTo>
                  <a:pt x="30" y="4"/>
                </a:lnTo>
                <a:lnTo>
                  <a:pt x="41" y="14"/>
                </a:lnTo>
                <a:lnTo>
                  <a:pt x="49" y="26"/>
                </a:lnTo>
                <a:lnTo>
                  <a:pt x="52" y="36"/>
                </a:lnTo>
                <a:lnTo>
                  <a:pt x="48" y="44"/>
                </a:lnTo>
                <a:lnTo>
                  <a:pt x="37" y="49"/>
                </a:lnTo>
                <a:lnTo>
                  <a:pt x="25" y="49"/>
                </a:lnTo>
                <a:lnTo>
                  <a:pt x="20" y="42"/>
                </a:lnTo>
                <a:lnTo>
                  <a:pt x="16" y="35"/>
                </a:lnTo>
                <a:lnTo>
                  <a:pt x="10" y="31"/>
                </a:lnTo>
                <a:lnTo>
                  <a:pt x="3" y="28"/>
                </a:lnTo>
                <a:lnTo>
                  <a:pt x="0" y="21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72240" y="1557360"/>
            <a:ext cx="252720" cy="411120"/>
          </a:xfrm>
          <a:custGeom>
            <a:avLst/>
            <a:gdLst/>
            <a:ahLst/>
            <a:rect l="l" t="t" r="r" b="b"/>
            <a:pathLst>
              <a:path w="319" h="518">
                <a:moveTo>
                  <a:pt x="102" y="306"/>
                </a:moveTo>
                <a:lnTo>
                  <a:pt x="6" y="80"/>
                </a:lnTo>
                <a:lnTo>
                  <a:pt x="0" y="17"/>
                </a:lnTo>
                <a:lnTo>
                  <a:pt x="34" y="0"/>
                </a:lnTo>
                <a:lnTo>
                  <a:pt x="103" y="37"/>
                </a:lnTo>
                <a:lnTo>
                  <a:pt x="319" y="476"/>
                </a:lnTo>
                <a:lnTo>
                  <a:pt x="210" y="518"/>
                </a:lnTo>
                <a:lnTo>
                  <a:pt x="102" y="3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9240" y="1542960"/>
            <a:ext cx="277920" cy="392040"/>
          </a:xfrm>
          <a:custGeom>
            <a:avLst/>
            <a:gdLst/>
            <a:ahLst/>
            <a:rect l="l" t="t" r="r" b="b"/>
            <a:pathLst>
              <a:path w="351" h="495">
                <a:moveTo>
                  <a:pt x="243" y="286"/>
                </a:moveTo>
                <a:lnTo>
                  <a:pt x="135" y="58"/>
                </a:lnTo>
                <a:lnTo>
                  <a:pt x="55" y="0"/>
                </a:lnTo>
                <a:lnTo>
                  <a:pt x="0" y="19"/>
                </a:lnTo>
                <a:lnTo>
                  <a:pt x="69" y="56"/>
                </a:lnTo>
                <a:lnTo>
                  <a:pt x="285" y="495"/>
                </a:lnTo>
                <a:lnTo>
                  <a:pt x="351" y="478"/>
                </a:lnTo>
                <a:lnTo>
                  <a:pt x="243" y="286"/>
                </a:lnTo>
                <a:close/>
              </a:path>
            </a:pathLst>
          </a:custGeom>
          <a:solidFill>
            <a:srgbClr val="e5e5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3200" y="1862280"/>
            <a:ext cx="247320" cy="293400"/>
          </a:xfrm>
          <a:custGeom>
            <a:avLst/>
            <a:gdLst/>
            <a:ahLst/>
            <a:rect l="l" t="t" r="r" b="b"/>
            <a:pathLst>
              <a:path w="314" h="368">
                <a:moveTo>
                  <a:pt x="0" y="40"/>
                </a:moveTo>
                <a:lnTo>
                  <a:pt x="122" y="0"/>
                </a:lnTo>
                <a:lnTo>
                  <a:pt x="314" y="334"/>
                </a:lnTo>
                <a:lnTo>
                  <a:pt x="176" y="368"/>
                </a:lnTo>
                <a:lnTo>
                  <a:pt x="0" y="40"/>
                </a:lnTo>
                <a:close/>
              </a:path>
            </a:pathLst>
          </a:custGeom>
          <a:solidFill>
            <a:srgbClr val="f2e5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90040" y="1824120"/>
            <a:ext cx="195120" cy="303120"/>
          </a:xfrm>
          <a:custGeom>
            <a:avLst/>
            <a:gdLst/>
            <a:ahLst/>
            <a:rect l="l" t="t" r="r" b="b"/>
            <a:pathLst>
              <a:path w="248" h="383">
                <a:moveTo>
                  <a:pt x="54" y="0"/>
                </a:moveTo>
                <a:lnTo>
                  <a:pt x="0" y="49"/>
                </a:lnTo>
                <a:lnTo>
                  <a:pt x="192" y="383"/>
                </a:lnTo>
                <a:lnTo>
                  <a:pt x="248" y="329"/>
                </a:lnTo>
                <a:lnTo>
                  <a:pt x="54" y="0"/>
                </a:lnTo>
                <a:close/>
              </a:path>
            </a:pathLst>
          </a:custGeom>
          <a:solidFill>
            <a:srgbClr val="e2c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59760" y="961920"/>
            <a:ext cx="415800" cy="360360"/>
          </a:xfrm>
          <a:custGeom>
            <a:avLst/>
            <a:gdLst/>
            <a:ahLst/>
            <a:rect l="l" t="t" r="r" b="b"/>
            <a:pathLst>
              <a:path w="524" h="454">
                <a:moveTo>
                  <a:pt x="219" y="198"/>
                </a:moveTo>
                <a:lnTo>
                  <a:pt x="233" y="187"/>
                </a:lnTo>
                <a:lnTo>
                  <a:pt x="246" y="175"/>
                </a:lnTo>
                <a:lnTo>
                  <a:pt x="260" y="163"/>
                </a:lnTo>
                <a:lnTo>
                  <a:pt x="273" y="151"/>
                </a:lnTo>
                <a:lnTo>
                  <a:pt x="285" y="138"/>
                </a:lnTo>
                <a:lnTo>
                  <a:pt x="299" y="124"/>
                </a:lnTo>
                <a:lnTo>
                  <a:pt x="312" y="109"/>
                </a:lnTo>
                <a:lnTo>
                  <a:pt x="326" y="94"/>
                </a:lnTo>
                <a:lnTo>
                  <a:pt x="333" y="76"/>
                </a:lnTo>
                <a:lnTo>
                  <a:pt x="330" y="54"/>
                </a:lnTo>
                <a:lnTo>
                  <a:pt x="320" y="39"/>
                </a:lnTo>
                <a:lnTo>
                  <a:pt x="306" y="38"/>
                </a:lnTo>
                <a:lnTo>
                  <a:pt x="291" y="49"/>
                </a:lnTo>
                <a:lnTo>
                  <a:pt x="278" y="62"/>
                </a:lnTo>
                <a:lnTo>
                  <a:pt x="271" y="76"/>
                </a:lnTo>
                <a:lnTo>
                  <a:pt x="266" y="91"/>
                </a:lnTo>
                <a:lnTo>
                  <a:pt x="261" y="107"/>
                </a:lnTo>
                <a:lnTo>
                  <a:pt x="257" y="123"/>
                </a:lnTo>
                <a:lnTo>
                  <a:pt x="251" y="140"/>
                </a:lnTo>
                <a:lnTo>
                  <a:pt x="243" y="158"/>
                </a:lnTo>
                <a:lnTo>
                  <a:pt x="237" y="168"/>
                </a:lnTo>
                <a:lnTo>
                  <a:pt x="232" y="177"/>
                </a:lnTo>
                <a:lnTo>
                  <a:pt x="225" y="188"/>
                </a:lnTo>
                <a:lnTo>
                  <a:pt x="219" y="198"/>
                </a:lnTo>
                <a:close/>
                <a:moveTo>
                  <a:pt x="15" y="304"/>
                </a:moveTo>
                <a:lnTo>
                  <a:pt x="34" y="298"/>
                </a:lnTo>
                <a:lnTo>
                  <a:pt x="52" y="291"/>
                </a:lnTo>
                <a:lnTo>
                  <a:pt x="69" y="284"/>
                </a:lnTo>
                <a:lnTo>
                  <a:pt x="86" y="278"/>
                </a:lnTo>
                <a:lnTo>
                  <a:pt x="101" y="271"/>
                </a:lnTo>
                <a:lnTo>
                  <a:pt x="117" y="264"/>
                </a:lnTo>
                <a:lnTo>
                  <a:pt x="131" y="257"/>
                </a:lnTo>
                <a:lnTo>
                  <a:pt x="145" y="249"/>
                </a:lnTo>
                <a:lnTo>
                  <a:pt x="150" y="235"/>
                </a:lnTo>
                <a:lnTo>
                  <a:pt x="156" y="221"/>
                </a:lnTo>
                <a:lnTo>
                  <a:pt x="163" y="208"/>
                </a:lnTo>
                <a:lnTo>
                  <a:pt x="170" y="195"/>
                </a:lnTo>
                <a:lnTo>
                  <a:pt x="176" y="181"/>
                </a:lnTo>
                <a:lnTo>
                  <a:pt x="184" y="167"/>
                </a:lnTo>
                <a:lnTo>
                  <a:pt x="191" y="153"/>
                </a:lnTo>
                <a:lnTo>
                  <a:pt x="198" y="140"/>
                </a:lnTo>
                <a:lnTo>
                  <a:pt x="208" y="121"/>
                </a:lnTo>
                <a:lnTo>
                  <a:pt x="215" y="101"/>
                </a:lnTo>
                <a:lnTo>
                  <a:pt x="222" y="83"/>
                </a:lnTo>
                <a:lnTo>
                  <a:pt x="228" y="64"/>
                </a:lnTo>
                <a:lnTo>
                  <a:pt x="235" y="48"/>
                </a:lnTo>
                <a:lnTo>
                  <a:pt x="244" y="32"/>
                </a:lnTo>
                <a:lnTo>
                  <a:pt x="259" y="17"/>
                </a:lnTo>
                <a:lnTo>
                  <a:pt x="278" y="5"/>
                </a:lnTo>
                <a:lnTo>
                  <a:pt x="298" y="0"/>
                </a:lnTo>
                <a:lnTo>
                  <a:pt x="318" y="5"/>
                </a:lnTo>
                <a:lnTo>
                  <a:pt x="337" y="17"/>
                </a:lnTo>
                <a:lnTo>
                  <a:pt x="354" y="34"/>
                </a:lnTo>
                <a:lnTo>
                  <a:pt x="367" y="56"/>
                </a:lnTo>
                <a:lnTo>
                  <a:pt x="374" y="78"/>
                </a:lnTo>
                <a:lnTo>
                  <a:pt x="374" y="99"/>
                </a:lnTo>
                <a:lnTo>
                  <a:pt x="365" y="117"/>
                </a:lnTo>
                <a:lnTo>
                  <a:pt x="343" y="142"/>
                </a:lnTo>
                <a:lnTo>
                  <a:pt x="322" y="166"/>
                </a:lnTo>
                <a:lnTo>
                  <a:pt x="299" y="187"/>
                </a:lnTo>
                <a:lnTo>
                  <a:pt x="278" y="207"/>
                </a:lnTo>
                <a:lnTo>
                  <a:pt x="256" y="227"/>
                </a:lnTo>
                <a:lnTo>
                  <a:pt x="232" y="244"/>
                </a:lnTo>
                <a:lnTo>
                  <a:pt x="208" y="260"/>
                </a:lnTo>
                <a:lnTo>
                  <a:pt x="183" y="276"/>
                </a:lnTo>
                <a:lnTo>
                  <a:pt x="177" y="296"/>
                </a:lnTo>
                <a:lnTo>
                  <a:pt x="173" y="316"/>
                </a:lnTo>
                <a:lnTo>
                  <a:pt x="173" y="334"/>
                </a:lnTo>
                <a:lnTo>
                  <a:pt x="174" y="351"/>
                </a:lnTo>
                <a:lnTo>
                  <a:pt x="180" y="369"/>
                </a:lnTo>
                <a:lnTo>
                  <a:pt x="190" y="384"/>
                </a:lnTo>
                <a:lnTo>
                  <a:pt x="204" y="397"/>
                </a:lnTo>
                <a:lnTo>
                  <a:pt x="223" y="410"/>
                </a:lnTo>
                <a:lnTo>
                  <a:pt x="250" y="417"/>
                </a:lnTo>
                <a:lnTo>
                  <a:pt x="277" y="412"/>
                </a:lnTo>
                <a:lnTo>
                  <a:pt x="303" y="397"/>
                </a:lnTo>
                <a:lnTo>
                  <a:pt x="326" y="377"/>
                </a:lnTo>
                <a:lnTo>
                  <a:pt x="346" y="351"/>
                </a:lnTo>
                <a:lnTo>
                  <a:pt x="357" y="324"/>
                </a:lnTo>
                <a:lnTo>
                  <a:pt x="360" y="296"/>
                </a:lnTo>
                <a:lnTo>
                  <a:pt x="353" y="273"/>
                </a:lnTo>
                <a:lnTo>
                  <a:pt x="344" y="268"/>
                </a:lnTo>
                <a:lnTo>
                  <a:pt x="340" y="261"/>
                </a:lnTo>
                <a:lnTo>
                  <a:pt x="337" y="253"/>
                </a:lnTo>
                <a:lnTo>
                  <a:pt x="340" y="244"/>
                </a:lnTo>
                <a:lnTo>
                  <a:pt x="347" y="233"/>
                </a:lnTo>
                <a:lnTo>
                  <a:pt x="357" y="227"/>
                </a:lnTo>
                <a:lnTo>
                  <a:pt x="370" y="228"/>
                </a:lnTo>
                <a:lnTo>
                  <a:pt x="381" y="236"/>
                </a:lnTo>
                <a:lnTo>
                  <a:pt x="388" y="243"/>
                </a:lnTo>
                <a:lnTo>
                  <a:pt x="393" y="251"/>
                </a:lnTo>
                <a:lnTo>
                  <a:pt x="398" y="258"/>
                </a:lnTo>
                <a:lnTo>
                  <a:pt x="400" y="266"/>
                </a:lnTo>
                <a:lnTo>
                  <a:pt x="410" y="264"/>
                </a:lnTo>
                <a:lnTo>
                  <a:pt x="420" y="259"/>
                </a:lnTo>
                <a:lnTo>
                  <a:pt x="431" y="254"/>
                </a:lnTo>
                <a:lnTo>
                  <a:pt x="443" y="249"/>
                </a:lnTo>
                <a:lnTo>
                  <a:pt x="454" y="242"/>
                </a:lnTo>
                <a:lnTo>
                  <a:pt x="465" y="235"/>
                </a:lnTo>
                <a:lnTo>
                  <a:pt x="474" y="228"/>
                </a:lnTo>
                <a:lnTo>
                  <a:pt x="481" y="221"/>
                </a:lnTo>
                <a:lnTo>
                  <a:pt x="489" y="215"/>
                </a:lnTo>
                <a:lnTo>
                  <a:pt x="497" y="212"/>
                </a:lnTo>
                <a:lnTo>
                  <a:pt x="506" y="213"/>
                </a:lnTo>
                <a:lnTo>
                  <a:pt x="514" y="216"/>
                </a:lnTo>
                <a:lnTo>
                  <a:pt x="521" y="221"/>
                </a:lnTo>
                <a:lnTo>
                  <a:pt x="524" y="228"/>
                </a:lnTo>
                <a:lnTo>
                  <a:pt x="524" y="236"/>
                </a:lnTo>
                <a:lnTo>
                  <a:pt x="520" y="244"/>
                </a:lnTo>
                <a:lnTo>
                  <a:pt x="510" y="252"/>
                </a:lnTo>
                <a:lnTo>
                  <a:pt x="499" y="260"/>
                </a:lnTo>
                <a:lnTo>
                  <a:pt x="485" y="267"/>
                </a:lnTo>
                <a:lnTo>
                  <a:pt x="471" y="272"/>
                </a:lnTo>
                <a:lnTo>
                  <a:pt x="454" y="276"/>
                </a:lnTo>
                <a:lnTo>
                  <a:pt x="437" y="280"/>
                </a:lnTo>
                <a:lnTo>
                  <a:pt x="420" y="281"/>
                </a:lnTo>
                <a:lnTo>
                  <a:pt x="403" y="282"/>
                </a:lnTo>
                <a:lnTo>
                  <a:pt x="399" y="316"/>
                </a:lnTo>
                <a:lnTo>
                  <a:pt x="385" y="350"/>
                </a:lnTo>
                <a:lnTo>
                  <a:pt x="362" y="384"/>
                </a:lnTo>
                <a:lnTo>
                  <a:pt x="333" y="412"/>
                </a:lnTo>
                <a:lnTo>
                  <a:pt x="299" y="435"/>
                </a:lnTo>
                <a:lnTo>
                  <a:pt x="264" y="450"/>
                </a:lnTo>
                <a:lnTo>
                  <a:pt x="229" y="454"/>
                </a:lnTo>
                <a:lnTo>
                  <a:pt x="197" y="445"/>
                </a:lnTo>
                <a:lnTo>
                  <a:pt x="176" y="431"/>
                </a:lnTo>
                <a:lnTo>
                  <a:pt x="159" y="416"/>
                </a:lnTo>
                <a:lnTo>
                  <a:pt x="146" y="400"/>
                </a:lnTo>
                <a:lnTo>
                  <a:pt x="136" y="382"/>
                </a:lnTo>
                <a:lnTo>
                  <a:pt x="131" y="364"/>
                </a:lnTo>
                <a:lnTo>
                  <a:pt x="128" y="345"/>
                </a:lnTo>
                <a:lnTo>
                  <a:pt x="128" y="325"/>
                </a:lnTo>
                <a:lnTo>
                  <a:pt x="129" y="304"/>
                </a:lnTo>
                <a:lnTo>
                  <a:pt x="118" y="309"/>
                </a:lnTo>
                <a:lnTo>
                  <a:pt x="107" y="314"/>
                </a:lnTo>
                <a:lnTo>
                  <a:pt x="96" y="319"/>
                </a:lnTo>
                <a:lnTo>
                  <a:pt x="84" y="324"/>
                </a:lnTo>
                <a:lnTo>
                  <a:pt x="72" y="328"/>
                </a:lnTo>
                <a:lnTo>
                  <a:pt x="59" y="332"/>
                </a:lnTo>
                <a:lnTo>
                  <a:pt x="46" y="336"/>
                </a:lnTo>
                <a:lnTo>
                  <a:pt x="34" y="341"/>
                </a:lnTo>
                <a:lnTo>
                  <a:pt x="24" y="343"/>
                </a:lnTo>
                <a:lnTo>
                  <a:pt x="14" y="341"/>
                </a:lnTo>
                <a:lnTo>
                  <a:pt x="7" y="336"/>
                </a:lnTo>
                <a:lnTo>
                  <a:pt x="3" y="331"/>
                </a:lnTo>
                <a:lnTo>
                  <a:pt x="0" y="322"/>
                </a:lnTo>
                <a:lnTo>
                  <a:pt x="1" y="316"/>
                </a:lnTo>
                <a:lnTo>
                  <a:pt x="7" y="309"/>
                </a:lnTo>
                <a:lnTo>
                  <a:pt x="15" y="3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4292640"/>
            <a:ext cx="676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바탕"/>
              </a:rPr>
              <a:t>Corso base per operatori delle residenze”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B90-8FC1-4380-BD32-38387D9D09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730080"/>
            <a:ext cx="72518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 malattie cardiovascolari (1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 malattie cardiovascolari quali l’arterosclerosi, l’infarto molte volte sono il risultato di un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eccessivo livello di grassi circolanti nel sangu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olesterolo e trigliceridi ( nell’anziano si accettano valori leggermente superiori a 200 ml) che si depositano  a livello delle pareti arteriose rovinandole e riducendone il calib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ducendo gli alimenti di origine animale si abbassa l’assunzione di grassi saturi e quindi anche la comparsa di danni vascolari legati alla deposizione di colesterolo a livello dei vasi sanguig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58672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549-DE42-49E5-9B71-017179638C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333000"/>
            <a:ext cx="6870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 malattie cardiovascolari (2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ei soggetti affetti da ipercolesterolemi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sono concess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: latte magro o screm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 uova vanno consumate 1-2 volte la settima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 carni devono essere scelte fra le parti più mag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pesce di mare fresco o surgelato andrebbe consumato almeno 2-3 volte la settimana- con moderazione vanno consumati sardine sott’olio, molluschi, crostace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594360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DB6-B2C9-442A-854D-AD5D3B7A84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364680"/>
            <a:ext cx="68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Ipercolesterolemia:</a:t>
            </a:r>
            <a:br>
              <a:rPr sz="4400"/>
            </a:b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suggerimenti (1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alumi e insaccati vanno privati del gras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ormaggi e latticini max 2 volte la settimana – ricotta, mozzarella robiola, certos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asta, riso, pane e altri cereali si possono consumare liberamente, a meno che non ci sia in contemporanea un incremento dei triglicerid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erdure e ortaggi, si possono consumare liberamente (la loro ricchezza in fibre riduce l’assorbimento di colesterolo a livello intestinal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rutta fresca di stagione si può consumare liber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59356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91C7-1213-41A2-B5D8-60839FB56E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000" y="247680"/>
            <a:ext cx="68706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Ipercolesterolemia:</a:t>
            </a:r>
            <a:br>
              <a:rPr sz="4000"/>
            </a:b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uggerimenti (2)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imenti da evitar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ni:salami, cotechino, pancetta, coppa, salsiccia, pat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tte e derivati: formaggi stagionati, latte intero, panna, mascarpone, bur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5715000" y="608796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C79-66D0-4F8A-8E13-231AC9FEF7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Ipertrigliceridemia</a:t>
            </a:r>
            <a:br>
              <a:rPr sz="4400"/>
            </a:b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suggerimenti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n presenza di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ipertrigliceridemi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si deve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ridurre l’assunzion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i zuccheri semplici e della frutta più zuccherina come banane, fichi, cachi, uva, mandarini  e frutta secca in genere, e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abolir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l’alc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585936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59436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A23-69C7-4D45-BD5D-6CD5580BE4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’osteoporos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’osteoporosi, pur essendo il risultato di una rarefazione dell’osso per perdita di calcio, può essere peggiorata dall’alimentazione troppo ricca in proteine e in sale, che facilitano il processo di decalcificazione dell’os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624060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872F-6567-41BB-B244-06DD14DE15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l diabet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l diabete non insulino dipendente (quello che non viene curato con le iniezioni di insulina ma con farmaci per bocca) normalmente compare nelle persone adulte  e in sovrappeso. Questa condizione induce una minore efficacia  a livello dei recettori cellulari dell’insulina prodotta dal pancre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59436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0022-3E25-4591-9652-7F23189B57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l diabete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ggerimenti alimentari (1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approccio dietetico dei soggetti diabetici non è diverso dall’alimentazione di un individuo normale: vanno valutate le necessità caloriche della persona, per contrastare il sovrappeso, e vanno ridotti solo gli zuccheri semplici a rapido assorbimento ( zucchero, miele, bevande zuccherate). Un loro eventuale consumo andrebbe fatto alla fine del pasto, per evitare un troppo rapido passaggio di zuccheri nel sa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58672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CC6-061D-47A6-9005-0F5BB904A9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l diabete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ggerimenti alimentari (2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i diabetici sarebbe meglio utilizzare pane, pasta, riso integrali, perché le fibre rallentano l’assorbimento degli zuccheri determinando un minor picco glicemic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a anche la modalità di preparazione degli alimenti: quindi le patate possono essere consumate, ma non come purè ma intere e schiacciate grossolanam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5867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794-B144-427D-A3D7-E14C044C97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1280" y="8377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imentazione e tumo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 elevato apporto di grassi totali e grassi saturi è associato ad un aumento del rischio di ammalarsi di cancro al  colon, alla prostata e al se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 contrario regimi ricchi di alimenti di origine vegetale, ortaggi gialli, a foglia verde e di agrumi si associano a minor incidenza di cancro al polmone, all’esofago e allo stoma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6164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D3E-746F-431B-91D0-FE0636BB3D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tologie correlate all’alimentazion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lnutrizione per ecces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lnutrizione per difet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943600" y="152280"/>
            <a:ext cx="2990880" cy="2756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7200" y="6248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V mod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5EA8-0126-4F8F-AC41-22ADE6590D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42920" y="765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avoro di grup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05120" y="1981080"/>
            <a:ext cx="60195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703dff"/>
                </a:solidFill>
                <a:latin typeface="Comic Sans MS"/>
              </a:rPr>
              <a:t>A piccoli gruppi provate a modificare il menù di base settimanale in uso presso la vostra struttura, in base alle seguenti pat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pertensione arteri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percolesterol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iab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692280"/>
            <a:ext cx="33642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C808-50DA-438D-BD80-D709ECE31E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133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60948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ndo l’alimentazione diventa terapi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133720"/>
            <a:ext cx="312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gli anziani è abbastanza frequente una riduzione della secrezione gastrica e un allungamento del tempo di permanenza del cibo nello stom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2057400"/>
            <a:ext cx="4419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 tempi di permanenza del cibo nello stomaco sono correlati al tipo di nutriente ingerito: proteine, alcool, massa alimentare voluminosa aumentano la produzione di gastrina e accelerano lo svuotamento gastrico, mentre i piccoli pasti e i grassi lo rallent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133720"/>
            <a:ext cx="3353040" cy="33526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2057400"/>
            <a:ext cx="4572000" cy="373392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034-68C2-447F-B9A8-59FC0CF713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1760" y="18216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Le malattie dell’esofago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Reflusso gastroesofage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dicazioni alimenta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itare pasti abbondanti, cibi grassi, brodi di carne, cipolle, bevande gassate, succo di pompelmo, di arancia e di pomodoro, limonate, menta, cioccola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durre l’assunzione di liquidi durante i pasti, cibi grossolani come carne fibrosa, verdure cru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4952880" y="61642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133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568B-0F00-4730-A9BF-E08D5C20CE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Le malattie dell’esofago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sofagi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ndicazioni alimentar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eta semiliquida a base di latte, semolino, carne tritata, purè di patate, uova alla coque, mela grattugiata, formaggi magri e cremosi, pesce, biscotti teneri ec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571500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133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22D-A245-4B1D-8CDD-F67A2BB521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dispeps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i pazienti con difficoltà digestive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spepsi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conviene segui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mplici reg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ane ben cot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 raffermo e riscaldato e pasta non troppo al dente sono più digeribili se confezionati con farina raffin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124080" y="6172200"/>
            <a:ext cx="46008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E69B-F665-4542-94D6-EE2A961FBA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dispeps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brodi di car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 quelli troppo ricchi di sale stimolano la secrezione e la motilità gastr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rebbe consigliabile evitare cotture troppo prolungate dell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arn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uo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no più digeribili alla coq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BEE-9026-4812-8D6A-30D35061BF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dispepsia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verd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ono più o meno digeribili a seconda del contenuto in cellulosa – meglio la verdura in purè o trit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rutta matu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è ben tollerata ad eccezione della frutta secca e oleosa per la loro ricchezza di grassi e cellulo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6F3-FB30-4E72-944C-17D20E73FB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dispepsia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at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è più digeribile se scremato o come latte acido, tipo yogurt, che formano nello stomaco un coagulo più soffice del latte inte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caso di iposecrezione gastrica latte e latticini sono poco tollerati per l’azione tamponante della casei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02F-6FEC-4782-972F-79F88E17C6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dispepsia (5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ormagg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ono tanto più digeribili quanto meno sono grass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acao e cioccola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ono poco digeribili per l’alto contenuto in grassi; il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gela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 il freddo rallenta la secrezione e lo svuotamento gastr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4CBF-7CCA-45B4-9067-45196040F9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strite/ulce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l trattamento dietetico ha perso molto della sua importanza visto il trattamento farmacolog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Si consiglian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iccoli pasti frequenti, costituiti da cibi non troppo zuccherati e non troppo salati (evitare ad esempio i brodi salati e le bevande zuccherat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Attenzione 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bevande nervine e gasate, e alle spezie in ecces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52A-8286-4E50-A1E0-31A0AAA163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alnutrizio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762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Brainstorming s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2438280"/>
            <a:ext cx="548640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357-F429-4BD0-A74F-DBCDB6659E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1760" y="517320"/>
            <a:ext cx="6870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diverticoli del col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i tratta di estroflessioni della mucosa del colon che provocano ristagno di materiale fecale a livello del sig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’infiammazione dei diverticoli causa la diverticolite, che provoca dolore al fianco sinistro, alterazioni dell’alvo (stipsi o diarre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8CD-97DE-40CF-AF34-21C3744589D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La diverticol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La stipsi è una condizione che favorisce la comparsa di questa patologi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lcuni suggeriment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ei periodi acuti l’alimentazione dovrà essere a basso residuo e poi gradualmente dovrà essere reintrodotta la fibra insolubile (quella che c’è nella crusc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alcuni casi si usano le fibre solubili come lo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psilliu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cuni alimenti, anche se ricchi in fibre, vanno evitati per la presenza di semi: pomodori, fichi, cetrioli, uva, fragole, lamp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90DD-5FEB-4526-B971-54A3252EEE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stips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tratta di eliminazione dei residui fecali in quantità ridotta, eccessivamente disidratato, con meno di tre evacuazioni per settima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lla stipsi cronica primitiva va posta particolare attenzione alla quantità di liquidi assunta, dovrà essere seguita un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eta ad alto residu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3F2-9EC9-440E-A6A5-ADEACF82DF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 malattie del fega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n condizioni di danno epatico (epatiti acute, croniche, steatosi) la cosa principale è l’eliminazione dell’alc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L’alimentazione dovrà essere equilibrat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, con un buon apporto in calor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FE5-3277-4777-A0F6-CCFD755D8C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irros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838080"/>
            <a:ext cx="7467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Nella cirrosi si ha una riduzione della funzionalità epatica, soprattutto della sua capacità di detossificare le prote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lcuni suggeriment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4000" y="2565360"/>
            <a:ext cx="85341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e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vrà garantire il mantenimento di un buon apporto di proteine ad alto valore biologico,  e un sufficiente apporto calo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do compare ascite va ridotto l’apporto di sodio, si dovranno limitare i liquidi e si dovranno scegliere le proteine ad alto valore bi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caso di varici esofagee dovranno essere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scelti alimenti facilmente deglutibili, non dur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n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oppo cal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352680" y="6477120"/>
            <a:ext cx="4800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1B2-D4EB-4B03-BE47-176B586E7D7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258920" y="2421000"/>
            <a:ext cx="59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dff"/>
                </a:solidFill>
                <a:latin typeface="Comic Sans MS"/>
              </a:rPr>
              <a:t>Secondo voi quali sono i Sali minerali, e quali malattie possono verificarsi in caso di caren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752480"/>
            <a:ext cx="6551640" cy="3353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2FC-D9DC-4475-8681-E7457E7EBE2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669600"/>
            <a:ext cx="6870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renza di Sali mineral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alcio (1)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ha funzione nell’eccitabilità muscolare, del cuore e dei nerv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l livello di calcio è regolato dalla vit. D, dal paratormone e dalla calcitoni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’assorbimento del calcio è favorito dal lattosio, da alcuni aminoacidi, dalla vit. D, mentre è ridotto dalla presenza di ossalati e fita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EB7-B5BA-47DD-B33C-367B1532B5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000" y="5331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renza di Sali mineral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io (2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i alimenti più ricchi di calcio sono i formaggi. Sono una buona fonte di calcio anche i broccoli, le nocciole, le mandorle, i fichi secchi, il tuorlo d’uovo. Buone fonti di calcio sono anche le acque minera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B55-F90D-43B9-87D7-4C4C7B9AFD8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renza di Sali minerali  ferro (1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l ferro viene assorbito nell’intestino tenue, duodeno e digiuno sotto forma di ferro ferro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’ negativamente influenzato dall’acloridria gastrica, dall’assunzione di bicarbona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35A-528A-4F4E-BF49-3339ABCD8B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renza di ferro (2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ferro più facilmente assimilabile è quello contenuto nella carne, mentre quello contenuto in altri alimenti come i cereali, i legumi, i vegetali è più difficilmente utilizza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dietoterapia può servire solo nelle forme di carenza di ferro liev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1C12-5C8F-494A-96C8-826F3C2C7C1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lte patologie cronico degenerative dipendono da un eccesso di alimentazio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teroscleros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slipidem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 cardiopatie ischemiche e le malattie cerebrovascola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diabete mellito non insulino dipend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ovrappeso e obesit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eoplas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A4B-505B-4070-AF68-9C75704C7C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lattie del ren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ll’insufficienza  renale cronica la dieta varia a seconda della funzionalità residu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ando il rene non funziona è compromessa l’eliminazione dei prodotti di demolizione delle proteine e del fosfor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579-69A6-429A-AEC4-1B6019FB2E6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lattie del ren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cuni suggeriment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a riduzione nell’assunzione di proteine e di fosforo con la dieta riduce il danno renal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Quindi vanno privilegiate le proteine ad alto valore biologico e ridotte quelle che si ottengono da pasta, pane e riso – per questo si usano prodotti aproteic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D98-01EA-42B3-A19B-A784A389AFF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37880"/>
            <a:ext cx="6870600" cy="19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</a:t>
            </a:r>
            <a:br>
              <a:rPr sz="44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efinizion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ene così definita la difficoltà o il disagio nel degluti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istono diversi livelli di disfagia: si va da un lieve disagio  ad una condizione di assoluta incapacità a degluti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460-A9AD-4CFE-B50E-D7D71F75CAB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 disturbi che devono insospettire so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sa di colpi di tosse involontaria, anche leggeri, subito dopo o comunque entro 2-3 minuti dalla deglutizione di un boccon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sa di velatura della voce o raucedine dopo la deglutizione di un bocc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oriuscita di liquido o cibo dal na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nza di febbre, anche non elevata, senza causa evid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C25-D481-495A-A225-C067749E057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: come riconoscerla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er riuscire ad intervenire efficacemente è importante capire a quale livello il disturbo comp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ortante è l’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namnes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ovvero capire il tipo di sintomi: perdita di appetito, di peso, blocco del cibo in gola, fastidio alla gola o al torace nella degluti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033-D4F2-4505-B418-A55D8F58F69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: come riconoscerla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difficoltà di deglutire liquidi rimanda a disturbi neurologici o è più evidente conseguenza dell’invecchia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icoltà a deglutire cibi solidi rimanda ad anomalie strutturali che colpisce i muscoli faringe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rigurgito può far pensare ad una tasca faring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E6C-5114-463A-8ED7-E10D66BE1DD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 condizioni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nno disfagi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Esistono molte condizioni che danno disfagi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i possono verificare condizioni infiammatorie della bocca, come ulcere aftose, tonsilliti, faringiti, oppure più frequentemente alterazioni neurologiche come nei pazienti affetti da ictus, Parkinson,  sclerosi multip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83A-27DD-4A96-BDD2-47459285D0C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deglutizione (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a deglutizione avviene in più momen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se inizia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i cibi e i liquidi vengono portati alla bocca, le labbra  e le mascelle si serrano . La vista del cibo stimola la secrezione di sali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se ora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il cibo viene masticato, miscelato con la saliva,e viene spinto dalla lingua verso la farin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EC58-F301-4F2E-9C0E-7B1F40CB50A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deglutizione (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se faringe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il cibo viene spinto nella faringe, vengono chiuse le vie aeree dall’epiglottide e dalla chiusura delle corde voca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se esofage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il cibo passa nell’esofago e arriva allo stoma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025-799E-4FEA-BD0E-655A013AC59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gli generali (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casi di difficoltà a deglutire è necessario modificare la consistenza  dell’alimentazi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dieta potrà essere liquida, semiliquida o cremo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B7C-27C9-43AF-AF45-ACDDBF9DE58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ologie dovute a un difetto di alimentazio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lnutrizione globale (malnutrizione proteico-energetic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dotto apporto nutrizion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mento dispendio energet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dita di nutrie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0" y="22050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lnutrizione selettiva (sindromi carenzial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a deficit di vitam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a deficit di Sali minera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a deficit di oligoeleme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a altre cause nutriziona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61A-BD51-42D7-8026-185661C209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sfagia 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sigli generali (2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 valutare la densità si introduce un cucchiaino in un bicchiere colmo del composto e si valuta la velocità di disce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quido: immedi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mi-liquido: rallent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misolida:  lentissima o nul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E4C-34EF-4B63-8389-EFE1D098DE2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04400"/>
            <a:ext cx="6870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gli generali (3)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ome modificare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a consistenza dei cibi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sistenza e compattezza: addensanti come gelatina, fecola, addensante o diluenti come acqua, brodo, lat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mogeneità: frullare, passare omogeizz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civolosità: olio, salse, ec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74B-E4FF-4E8B-9880-5FAAA636401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gli generali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ompagnare sempre il pranzo c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qua fred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tenere separate le diverse port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itare cibi in cui sono mescolati liquidi a parti solide (es. minestrina con pastin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C81-D289-4ADA-A1BC-0F2DE3BE8CB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gli generali (5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vitare minestrone con verdure a pezzi o filaccio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vitare zuppe di pane o con fette biscot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vitare verdure filamentose, cibi appiccicosi, legumi non omogeneizzati e filtrati, frutta secca, riso, carne filacciosa o asciut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9A7-3996-4559-9F3D-190B3BD69AC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sfagia 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sigli generali (6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 aumentare la percezione del boccone durante tutta la deglutizione è bene che i cibi non siano tiepidi, ovvero che non abbiano una temperatura vicina a quella corporea (36 – 37°), ma più caldi o fredd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3D2-715D-4D7F-B5FB-64338EA9A2F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332000" y="1628640"/>
            <a:ext cx="53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703dff"/>
                </a:solidFill>
                <a:latin typeface="Comic Sans MS"/>
              </a:rPr>
              <a:t>Come dovrebbe comportarsi un operatore che deve dar da mangiare ad un anziano disfag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2286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ACCIAMO UNA “SIMULAZIONE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1280" y="990720"/>
            <a:ext cx="6840360" cy="33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944-B073-4DC8-AA78-AF9F8BCE55F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ecauzioni comportamentali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ospite deve mangiare in posizione seduta, con avambracci appoggiati e, salvo specifiche indicazioni della logopedista, con il capo in as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ar procedere lentamente l’alimentazione con piccole quantità alla volta e solo se il boccone precedente è stato degluti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far parlare l’ospite durante il pasto, se non dopo aver fatto pulire la gola con qualche colpo di tosse e far deglutire a vuoto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B92-EA17-477F-B7EA-22B3E5F1C06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24000" y="1125360"/>
            <a:ext cx="856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enni di nutrizione artificiale nell'anzian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3600360" cy="342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A87-29F1-4F68-AEF5-442AC47E54B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627280" y="1268280"/>
            <a:ext cx="3889440" cy="1202040"/>
          </a:xfrm>
          <a:prstGeom prst="downArrowCallout">
            <a:avLst>
              <a:gd name="adj1" fmla="val 80900"/>
              <a:gd name="adj2" fmla="val 80892"/>
              <a:gd name="adj3" fmla="val 16667"/>
              <a:gd name="adj4" fmla="val 66667"/>
            </a:avLst>
          </a:prstGeom>
          <a:gradFill rotWithShape="0">
            <a:gsLst>
              <a:gs pos="0">
                <a:srgbClr val="ff3300"/>
              </a:gs>
              <a:gs pos="100000">
                <a:srgbClr val="fe9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84360" y="3429000"/>
            <a:ext cx="7777080" cy="1512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2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nutrizione artificiale costituisce una pratica altern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’alimentazione orale nei pazienti che non sono in  g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  assumere  calorie  e  nutrienti  in  modo  temporaneo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manente, sufficienti a coprire le loro necess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3486-F988-4351-B53A-E92EF0F0F22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68360" y="907920"/>
            <a:ext cx="6480000" cy="719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2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icazioni alla N.A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32000" y="2781360"/>
            <a:ext cx="5761080" cy="43164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ziente c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 pu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imenta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8360" y="2852640"/>
            <a:ext cx="361800" cy="3603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7c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32000" y="3645000"/>
            <a:ext cx="5761080" cy="43164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ziente c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 vuo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imenta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8360" y="3716280"/>
            <a:ext cx="361800" cy="3603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7c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32000" y="4365720"/>
            <a:ext cx="5761080" cy="43164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ziente c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 de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imenta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8360" y="4437000"/>
            <a:ext cx="361800" cy="3603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7c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32000" y="5157720"/>
            <a:ext cx="5761080" cy="50328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hiesta di fabbisogni di energia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trienti aumen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229360"/>
            <a:ext cx="361800" cy="3603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7c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7093080" y="692280"/>
            <a:ext cx="2050920" cy="506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7F8-F530-46E6-A9BC-71855931FED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98240"/>
            <a:ext cx="687096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rumenti per la valutazione della malnutrizione per difet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F90-E4AB-43B5-ADFF-D26F6E5343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211640" y="1197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00"/>
              </a:gs>
              <a:gs pos="100000">
                <a:srgbClr val="fefe0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0000" y="692280"/>
            <a:ext cx="4319640" cy="647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2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pologie di N.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9640" y="2708280"/>
            <a:ext cx="3886200" cy="5047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9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trizione parente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19280" y="3573360"/>
            <a:ext cx="6191280" cy="36036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lude l’utilizzo della via gastrointest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378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19280" y="4221000"/>
            <a:ext cx="6191280" cy="50328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uppone un accesso venoso (vena centrale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ifer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1280" y="4437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3357-8FA7-4FF8-8457-DE004A4FB24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211640" y="98100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gradFill rotWithShape="0">
            <a:gsLst>
              <a:gs pos="0">
                <a:srgbClr val="ffff00"/>
              </a:gs>
              <a:gs pos="100000">
                <a:srgbClr val="fefe0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340000" y="476280"/>
            <a:ext cx="4319640" cy="647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2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pologie di N.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700280"/>
            <a:ext cx="3886200" cy="5047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9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Nutrizione ente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47640" y="2565360"/>
            <a:ext cx="6191280" cy="36036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ilizza la via gastrointest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964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547640" y="3213000"/>
            <a:ext cx="7129800" cy="151128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esupp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utilizzo di un sondino per nutrizion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(30-40 gr massi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fezionamento PEG (nutrizione oltre i 30 gior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utilizzo di miscele nutrizionali fornite dall’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utilizzo di apposita PO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64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4000" y="5300640"/>
            <a:ext cx="8496000" cy="10810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9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TENZI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no da evitare le preparazion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tigia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rullati, succhi  di  frutta,  latte e biscot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ati, semolino, minestrine, ec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A47-A94D-44B3-948E-57DF82BB21B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268360" y="620640"/>
            <a:ext cx="4753080" cy="719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9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 t t e n z i o n 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26920" y="1916280"/>
            <a:ext cx="7488360" cy="187164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 manovre di gestione della nutri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tificiale   dovrebbero   essere   semp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ffidate   a   personale    competente   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alizz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780000" y="4076640"/>
            <a:ext cx="1725480" cy="244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2BD-4267-44E0-9E16-E86C4DBE972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61920"/>
            <a:ext cx="9144000" cy="68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CHEDA PER LO SCREENING DEL RISCHIO DI MALNUTRIZIONE PER DIF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GNOME______________________________NOME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tà______Sesso_____Peso kg ___________Altezza cm ___________BMI*__BMI:  peso (in kg) : altezza</a:t>
            </a:r>
            <a:r>
              <a:rPr b="1" lang="it-IT" sz="1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n metr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it-IT" sz="1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A)</a:t>
            </a:r>
            <a:r>
              <a:rPr b="1" lang="it-IT" sz="12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   </a:t>
            </a:r>
            <a:r>
              <a:rPr b="1" lang="it-IT" sz="1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 </a:t>
            </a:r>
            <a:r>
              <a:rPr b="1" lang="it-IT" sz="14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B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gt; 25: vedi re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 punti se: tra 20 e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punto se: tra 18 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 punti se: inferiore a 18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punteggio =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B)</a:t>
            </a:r>
            <a:r>
              <a:rPr b="1" lang="it-IT" sz="1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    </a:t>
            </a:r>
            <a:r>
              <a:rPr b="1" lang="it-IT" sz="14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Si è verificato un calo di peso involontario negli ultimi 3 me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 punti se: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punto se: fino a 3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 punti se: superiore a 3 kg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punteggio =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it-IT" sz="14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C)</a:t>
            </a:r>
            <a:r>
              <a:rPr b="1" lang="it-IT" sz="1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    </a:t>
            </a:r>
            <a:r>
              <a:rPr b="1" lang="it-IT" sz="14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L’introito di cibo è diminuito nell’ultimo me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 punti se: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 punti se: SI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nteggio = 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it-IT" sz="14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D)</a:t>
            </a:r>
            <a:r>
              <a:rPr b="1" lang="it-IT" sz="1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    </a:t>
            </a:r>
            <a:r>
              <a:rPr b="1" lang="it-IT" sz="14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Severità della malatt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 punti se: nessuna severit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punto se: moderata (infezioni lievi, malattie croniche, ulcere da decubito, malattie 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stinali,cirrosi   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patica,insufficienza renale, broncopneumopatia cronica, diab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 punti se: severa (multiple ulcere da decubito, neoplasie, disfag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nteggio = 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RISULTATO SCREENING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PUNTEGGIO TOTALE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punteggio tra 0 e 2 = nessun interv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punteggio tra 3 e 4 = monitorizzare, ricontrollare dopo una settimana, diario aliment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punteggio = 5 o &gt;5 = interv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24382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35053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434340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579132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858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DCE-9C28-43A6-8AB9-042DED0CBA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212760"/>
            <a:ext cx="68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’ipertensione arteriosa (1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ò ess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trollat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eglio se si riduce il peso corporeo, si limita l’assunzione di sodio (contenuto nel normale sale da cucina), si aumenta la quota di frutta e verdura assunta con la dieta (che apportano potassio, magnesio e fibr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5791320"/>
            <a:ext cx="495288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477-1F0B-40B5-8CB2-D7D9BB7B04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60480"/>
            <a:ext cx="68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’ipertensione arteriosa (2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ridurre l’apporto di sodi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vanno evitati/ridotti  gli alimenti che ne sono ricchi naturalmente o per processi di conservazione, come olive conservate o in salamoia, pane e grissini salati, noccioline salate, crackers salati, prosciutto e insaccati in genere, cibi inscatolati, formaggi sala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ra la verdura ricordare che carciofi, spinaci, sedano, rape,  ravanelli, carote, bietole e cavoli ne contengono in discreta quantit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624060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193-88B9-4959-8859-893C4A9E1A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16:32:47Z</dcterms:created>
  <dc:creator>Standard</dc:creator>
  <dc:description/>
  <dc:language>en-US</dc:language>
  <cp:lastModifiedBy>cristina</cp:lastModifiedBy>
  <dcterms:modified xsi:type="dcterms:W3CDTF">2005-05-26T13:36:35Z</dcterms:modified>
  <cp:revision>44</cp:revision>
  <dc:subject/>
  <dc:title>Patologie correlate all’alimentazione</dc:title>
</cp:coreProperties>
</file>