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4.jpeg" ContentType="image/jpeg"/>
  <Override PartName="/ppt/media/image14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A210-3CD2-4F0F-9A8A-58760781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EAFB-D627-4A7B-AB27-FAA25226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6274-9F83-4C6B-96B0-327B39EE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9225-75B5-465C-BC5E-01105856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6044-DF92-4E4C-AF83-2B679D7B7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E6CE-0DA9-43D7-ABDB-81AB427D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D5AA-2E6B-4D26-B5D4-161BC9AE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E027-ECB2-490C-A2F7-ACC22253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6290-DEAE-4CEB-99C3-779DAD59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93E0-D016-49F8-8408-A9780F1B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CB4C-1A27-43F8-9283-9E6CC096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360B-42BB-4E0D-8FD1-B7E59C54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3714-AF53-4E39-9EDE-D71F418C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2A1B-A0C8-4F6A-9725-41EFF4FE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FF9C-FFDE-4ADD-A404-F7DE7788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A8D8-BF27-4B89-9894-BEF90827C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68C4-799F-480F-9624-7CE217A0E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81DD-827B-4537-91C6-842A0E85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0CD3-348D-4FF9-8B31-3CB00513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CCD4-234B-44D1-9C8F-D951C7E3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D46D-8BE9-4FF5-99EF-83AF8413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C044-30EF-43A4-95DD-6ED9DCE9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B7F7-8712-4918-87A6-AED37D02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300C-ACA1-48AA-808B-0B7DC04F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c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df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36c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c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9df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df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9292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9292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9292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31D7-7813-42CC-A6E5-133A5DE5E28E}" type="datetime">
              <a:rPr b="0" lang="it-IT" sz="1400" spc="-1" strike="noStrike">
                <a:solidFill>
                  <a:srgbClr val="292929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4E22-833F-4CC8-9480-CB70CA0FF4AA}" type="slidenum">
              <a:rPr b="0" lang="it-IT" sz="14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c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df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36c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c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9df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df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7221-C1BF-4930-941A-1C07D61C9875}" type="datetime">
              <a:rPr b="0" lang="it-IT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0310-91A3-4CA4-AFFA-3ADF2C47866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9292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9292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9292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9292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9292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it/imgres?imgurl=http://www.cub.it/images/bilancia.gif&amp;imgrefurl=http://www.cub.it/&amp;h=333&amp;w=447&amp;sz=3&amp;tbnid=ozwGZZmN3C0J:&amp;tbnh=92&amp;tbnw=123&amp;hl=it&amp;start=65&amp;prev=/images%3Fq%3Dbilancia%26start%3D60%26hl%3Dit%26lr%3D%26sa%3DN" TargetMode="External"/><Relationship Id="rId2" Type="http://schemas.openxmlformats.org/officeDocument/2006/relationships/hyperlink" Target="http://images.google.it/imgres?imgurl=http://www.cub.it/images/bilancia.gif&amp;imgrefurl=http://www.cub.it/&amp;h=333&amp;w=447&amp;sz=3&amp;tbnid=ozwGZZmN3C0J:&amp;tbnh=92&amp;tbnw=123&amp;hl=it&amp;start=65&amp;prev=/images%3Fq%3Dbilancia%26start%3D60%26hl%3Dit%26lr%3D%26sa%3DN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66680" y="2971800"/>
            <a:ext cx="7391520" cy="1219320"/>
          </a:xfrm>
          <a:prstGeom prst="rect">
            <a:avLst/>
          </a:prstGeom>
          <a:solidFill>
            <a:srgbClr val="faeb60"/>
          </a:solidFill>
          <a:ln w="9360">
            <a:solidFill>
              <a:srgbClr val="292929"/>
            </a:solidFill>
            <a:miter/>
          </a:ln>
          <a:effectLst>
            <a:outerShdw dist="107932" dir="2700000" blurRad="0" rotWithShape="0">
              <a:srgbClr val="36c6a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2157120" cy="1525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116000" y="3141720"/>
            <a:ext cx="74995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292929"/>
                </a:solidFill>
                <a:latin typeface="Comic Sans MS"/>
                <a:ea typeface="바탕"/>
              </a:rPr>
              <a:t>“</a:t>
            </a:r>
            <a:r>
              <a:rPr b="1" i="1" lang="it-IT" sz="2800" spc="-1" strike="noStrike">
                <a:solidFill>
                  <a:srgbClr val="292929"/>
                </a:solidFill>
                <a:latin typeface="Comic Sans MS"/>
                <a:ea typeface="바탕"/>
              </a:rPr>
              <a:t>Come favorire un corretto approccio alimentare </a:t>
            </a:r>
            <a:r>
              <a:rPr b="1" i="1" lang="it-IT" sz="2800" spc="-1" strike="noStrike">
                <a:solidFill>
                  <a:srgbClr val="292929"/>
                </a:solidFill>
                <a:latin typeface="Comic Sans MS"/>
                <a:ea typeface="Times New Roman"/>
              </a:rPr>
              <a:t>nell’anziano istituzionalizzato</a:t>
            </a:r>
            <a:r>
              <a:rPr b="0" i="1" lang="it-IT" sz="2400" spc="-1" strike="noStrike">
                <a:solidFill>
                  <a:srgbClr val="292929"/>
                </a:solidFill>
                <a:latin typeface="Comic Sans MS"/>
              </a:rPr>
              <a:t>“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24000" y="5950080"/>
            <a:ext cx="532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0" y="530064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Lucida Sans Unicode"/>
              </a:rPr>
              <a:t>A cura dell’ASL 13 - S.I.A.N. </a:t>
            </a:r>
            <a:br>
              <a:rPr sz="2400"/>
            </a:br>
            <a:r>
              <a:rPr b="0" lang="it-IT" sz="2400" spc="-1" strike="noStrike">
                <a:solidFill>
                  <a:srgbClr val="292929"/>
                </a:solidFill>
                <a:latin typeface="Lucida Sans Unicode"/>
              </a:rPr>
              <a:t>(Servizio Igiene Alimenti e Nutrizione)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24720" y="1855800"/>
            <a:ext cx="544320" cy="433440"/>
          </a:xfrm>
          <a:custGeom>
            <a:avLst/>
            <a:gdLst/>
            <a:ahLst/>
            <a:rect l="l" t="t" r="r" b="b"/>
            <a:pathLst>
              <a:path w="687" h="546">
                <a:moveTo>
                  <a:pt x="599" y="202"/>
                </a:moveTo>
                <a:lnTo>
                  <a:pt x="618" y="218"/>
                </a:lnTo>
                <a:lnTo>
                  <a:pt x="638" y="233"/>
                </a:lnTo>
                <a:lnTo>
                  <a:pt x="655" y="247"/>
                </a:lnTo>
                <a:lnTo>
                  <a:pt x="670" y="261"/>
                </a:lnTo>
                <a:lnTo>
                  <a:pt x="682" y="275"/>
                </a:lnTo>
                <a:lnTo>
                  <a:pt x="687" y="291"/>
                </a:lnTo>
                <a:lnTo>
                  <a:pt x="687" y="308"/>
                </a:lnTo>
                <a:lnTo>
                  <a:pt x="680" y="328"/>
                </a:lnTo>
                <a:lnTo>
                  <a:pt x="672" y="346"/>
                </a:lnTo>
                <a:lnTo>
                  <a:pt x="662" y="363"/>
                </a:lnTo>
                <a:lnTo>
                  <a:pt x="651" y="379"/>
                </a:lnTo>
                <a:lnTo>
                  <a:pt x="639" y="393"/>
                </a:lnTo>
                <a:lnTo>
                  <a:pt x="625" y="404"/>
                </a:lnTo>
                <a:lnTo>
                  <a:pt x="610" y="409"/>
                </a:lnTo>
                <a:lnTo>
                  <a:pt x="593" y="411"/>
                </a:lnTo>
                <a:lnTo>
                  <a:pt x="572" y="405"/>
                </a:lnTo>
                <a:lnTo>
                  <a:pt x="571" y="421"/>
                </a:lnTo>
                <a:lnTo>
                  <a:pt x="569" y="432"/>
                </a:lnTo>
                <a:lnTo>
                  <a:pt x="565" y="443"/>
                </a:lnTo>
                <a:lnTo>
                  <a:pt x="559" y="451"/>
                </a:lnTo>
                <a:lnTo>
                  <a:pt x="552" y="459"/>
                </a:lnTo>
                <a:lnTo>
                  <a:pt x="545" y="467"/>
                </a:lnTo>
                <a:lnTo>
                  <a:pt x="535" y="477"/>
                </a:lnTo>
                <a:lnTo>
                  <a:pt x="524" y="491"/>
                </a:lnTo>
                <a:lnTo>
                  <a:pt x="513" y="503"/>
                </a:lnTo>
                <a:lnTo>
                  <a:pt x="499" y="512"/>
                </a:lnTo>
                <a:lnTo>
                  <a:pt x="483" y="518"/>
                </a:lnTo>
                <a:lnTo>
                  <a:pt x="467" y="521"/>
                </a:lnTo>
                <a:lnTo>
                  <a:pt x="450" y="523"/>
                </a:lnTo>
                <a:lnTo>
                  <a:pt x="430" y="523"/>
                </a:lnTo>
                <a:lnTo>
                  <a:pt x="412" y="521"/>
                </a:lnTo>
                <a:lnTo>
                  <a:pt x="393" y="518"/>
                </a:lnTo>
                <a:lnTo>
                  <a:pt x="375" y="514"/>
                </a:lnTo>
                <a:lnTo>
                  <a:pt x="358" y="513"/>
                </a:lnTo>
                <a:lnTo>
                  <a:pt x="341" y="514"/>
                </a:lnTo>
                <a:lnTo>
                  <a:pt x="325" y="516"/>
                </a:lnTo>
                <a:lnTo>
                  <a:pt x="308" y="520"/>
                </a:lnTo>
                <a:lnTo>
                  <a:pt x="291" y="525"/>
                </a:lnTo>
                <a:lnTo>
                  <a:pt x="274" y="529"/>
                </a:lnTo>
                <a:lnTo>
                  <a:pt x="259" y="534"/>
                </a:lnTo>
                <a:lnTo>
                  <a:pt x="243" y="538"/>
                </a:lnTo>
                <a:lnTo>
                  <a:pt x="228" y="542"/>
                </a:lnTo>
                <a:lnTo>
                  <a:pt x="212" y="545"/>
                </a:lnTo>
                <a:lnTo>
                  <a:pt x="197" y="546"/>
                </a:lnTo>
                <a:lnTo>
                  <a:pt x="181" y="546"/>
                </a:lnTo>
                <a:lnTo>
                  <a:pt x="166" y="543"/>
                </a:lnTo>
                <a:lnTo>
                  <a:pt x="152" y="538"/>
                </a:lnTo>
                <a:lnTo>
                  <a:pt x="136" y="530"/>
                </a:lnTo>
                <a:lnTo>
                  <a:pt x="121" y="521"/>
                </a:lnTo>
                <a:lnTo>
                  <a:pt x="105" y="511"/>
                </a:lnTo>
                <a:lnTo>
                  <a:pt x="91" y="502"/>
                </a:lnTo>
                <a:lnTo>
                  <a:pt x="80" y="491"/>
                </a:lnTo>
                <a:lnTo>
                  <a:pt x="69" y="481"/>
                </a:lnTo>
                <a:lnTo>
                  <a:pt x="62" y="468"/>
                </a:lnTo>
                <a:lnTo>
                  <a:pt x="56" y="454"/>
                </a:lnTo>
                <a:lnTo>
                  <a:pt x="55" y="439"/>
                </a:lnTo>
                <a:lnTo>
                  <a:pt x="52" y="423"/>
                </a:lnTo>
                <a:lnTo>
                  <a:pt x="44" y="408"/>
                </a:lnTo>
                <a:lnTo>
                  <a:pt x="32" y="394"/>
                </a:lnTo>
                <a:lnTo>
                  <a:pt x="20" y="381"/>
                </a:lnTo>
                <a:lnTo>
                  <a:pt x="10" y="368"/>
                </a:lnTo>
                <a:lnTo>
                  <a:pt x="1" y="355"/>
                </a:lnTo>
                <a:lnTo>
                  <a:pt x="0" y="341"/>
                </a:lnTo>
                <a:lnTo>
                  <a:pt x="6" y="328"/>
                </a:lnTo>
                <a:lnTo>
                  <a:pt x="15" y="305"/>
                </a:lnTo>
                <a:lnTo>
                  <a:pt x="20" y="279"/>
                </a:lnTo>
                <a:lnTo>
                  <a:pt x="20" y="254"/>
                </a:lnTo>
                <a:lnTo>
                  <a:pt x="20" y="228"/>
                </a:lnTo>
                <a:lnTo>
                  <a:pt x="21" y="205"/>
                </a:lnTo>
                <a:lnTo>
                  <a:pt x="28" y="187"/>
                </a:lnTo>
                <a:lnTo>
                  <a:pt x="42" y="173"/>
                </a:lnTo>
                <a:lnTo>
                  <a:pt x="66" y="167"/>
                </a:lnTo>
                <a:lnTo>
                  <a:pt x="69" y="151"/>
                </a:lnTo>
                <a:lnTo>
                  <a:pt x="79" y="139"/>
                </a:lnTo>
                <a:lnTo>
                  <a:pt x="91" y="127"/>
                </a:lnTo>
                <a:lnTo>
                  <a:pt x="108" y="118"/>
                </a:lnTo>
                <a:lnTo>
                  <a:pt x="124" y="108"/>
                </a:lnTo>
                <a:lnTo>
                  <a:pt x="138" y="97"/>
                </a:lnTo>
                <a:lnTo>
                  <a:pt x="150" y="83"/>
                </a:lnTo>
                <a:lnTo>
                  <a:pt x="157" y="68"/>
                </a:lnTo>
                <a:lnTo>
                  <a:pt x="166" y="51"/>
                </a:lnTo>
                <a:lnTo>
                  <a:pt x="178" y="37"/>
                </a:lnTo>
                <a:lnTo>
                  <a:pt x="195" y="28"/>
                </a:lnTo>
                <a:lnTo>
                  <a:pt x="216" y="21"/>
                </a:lnTo>
                <a:lnTo>
                  <a:pt x="239" y="17"/>
                </a:lnTo>
                <a:lnTo>
                  <a:pt x="264" y="12"/>
                </a:lnTo>
                <a:lnTo>
                  <a:pt x="289" y="8"/>
                </a:lnTo>
                <a:lnTo>
                  <a:pt x="315" y="4"/>
                </a:lnTo>
                <a:lnTo>
                  <a:pt x="343" y="0"/>
                </a:lnTo>
                <a:lnTo>
                  <a:pt x="375" y="0"/>
                </a:lnTo>
                <a:lnTo>
                  <a:pt x="408" y="4"/>
                </a:lnTo>
                <a:lnTo>
                  <a:pt x="440" y="12"/>
                </a:lnTo>
                <a:lnTo>
                  <a:pt x="469" y="25"/>
                </a:lnTo>
                <a:lnTo>
                  <a:pt x="495" y="41"/>
                </a:lnTo>
                <a:lnTo>
                  <a:pt x="512" y="63"/>
                </a:lnTo>
                <a:lnTo>
                  <a:pt x="519" y="89"/>
                </a:lnTo>
                <a:lnTo>
                  <a:pt x="524" y="108"/>
                </a:lnTo>
                <a:lnTo>
                  <a:pt x="540" y="124"/>
                </a:lnTo>
                <a:lnTo>
                  <a:pt x="558" y="139"/>
                </a:lnTo>
                <a:lnTo>
                  <a:pt x="578" y="151"/>
                </a:lnTo>
                <a:lnTo>
                  <a:pt x="596" y="163"/>
                </a:lnTo>
                <a:lnTo>
                  <a:pt x="607" y="175"/>
                </a:lnTo>
                <a:lnTo>
                  <a:pt x="610" y="188"/>
                </a:lnTo>
                <a:lnTo>
                  <a:pt x="599" y="20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96200" y="763560"/>
            <a:ext cx="1787400" cy="1225440"/>
          </a:xfrm>
          <a:custGeom>
            <a:avLst/>
            <a:gdLst/>
            <a:ahLst/>
            <a:rect l="l" t="t" r="r" b="b"/>
            <a:pathLst>
              <a:path w="2253" h="1544">
                <a:moveTo>
                  <a:pt x="296" y="204"/>
                </a:moveTo>
                <a:lnTo>
                  <a:pt x="1670" y="5"/>
                </a:lnTo>
                <a:lnTo>
                  <a:pt x="1706" y="1"/>
                </a:lnTo>
                <a:lnTo>
                  <a:pt x="1741" y="0"/>
                </a:lnTo>
                <a:lnTo>
                  <a:pt x="1777" y="2"/>
                </a:lnTo>
                <a:lnTo>
                  <a:pt x="1812" y="8"/>
                </a:lnTo>
                <a:lnTo>
                  <a:pt x="1845" y="15"/>
                </a:lnTo>
                <a:lnTo>
                  <a:pt x="1876" y="25"/>
                </a:lnTo>
                <a:lnTo>
                  <a:pt x="1907" y="38"/>
                </a:lnTo>
                <a:lnTo>
                  <a:pt x="1937" y="53"/>
                </a:lnTo>
                <a:lnTo>
                  <a:pt x="1963" y="70"/>
                </a:lnTo>
                <a:lnTo>
                  <a:pt x="1989" y="90"/>
                </a:lnTo>
                <a:lnTo>
                  <a:pt x="2011" y="112"/>
                </a:lnTo>
                <a:lnTo>
                  <a:pt x="2032" y="135"/>
                </a:lnTo>
                <a:lnTo>
                  <a:pt x="2049" y="159"/>
                </a:lnTo>
                <a:lnTo>
                  <a:pt x="2065" y="185"/>
                </a:lnTo>
                <a:lnTo>
                  <a:pt x="2076" y="214"/>
                </a:lnTo>
                <a:lnTo>
                  <a:pt x="2084" y="243"/>
                </a:lnTo>
                <a:lnTo>
                  <a:pt x="2247" y="1000"/>
                </a:lnTo>
                <a:lnTo>
                  <a:pt x="2251" y="1030"/>
                </a:lnTo>
                <a:lnTo>
                  <a:pt x="2253" y="1060"/>
                </a:lnTo>
                <a:lnTo>
                  <a:pt x="2250" y="1089"/>
                </a:lnTo>
                <a:lnTo>
                  <a:pt x="2243" y="1116"/>
                </a:lnTo>
                <a:lnTo>
                  <a:pt x="2235" y="1144"/>
                </a:lnTo>
                <a:lnTo>
                  <a:pt x="2222" y="1170"/>
                </a:lnTo>
                <a:lnTo>
                  <a:pt x="2207" y="1196"/>
                </a:lnTo>
                <a:lnTo>
                  <a:pt x="2188" y="1220"/>
                </a:lnTo>
                <a:lnTo>
                  <a:pt x="2167" y="1242"/>
                </a:lnTo>
                <a:lnTo>
                  <a:pt x="2143" y="1263"/>
                </a:lnTo>
                <a:lnTo>
                  <a:pt x="2117" y="1281"/>
                </a:lnTo>
                <a:lnTo>
                  <a:pt x="2088" y="1297"/>
                </a:lnTo>
                <a:lnTo>
                  <a:pt x="2059" y="1312"/>
                </a:lnTo>
                <a:lnTo>
                  <a:pt x="2027" y="1324"/>
                </a:lnTo>
                <a:lnTo>
                  <a:pt x="1992" y="1333"/>
                </a:lnTo>
                <a:lnTo>
                  <a:pt x="1956" y="1340"/>
                </a:lnTo>
                <a:lnTo>
                  <a:pt x="581" y="1539"/>
                </a:lnTo>
                <a:lnTo>
                  <a:pt x="544" y="1542"/>
                </a:lnTo>
                <a:lnTo>
                  <a:pt x="509" y="1544"/>
                </a:lnTo>
                <a:lnTo>
                  <a:pt x="474" y="1541"/>
                </a:lnTo>
                <a:lnTo>
                  <a:pt x="440" y="1536"/>
                </a:lnTo>
                <a:lnTo>
                  <a:pt x="407" y="1529"/>
                </a:lnTo>
                <a:lnTo>
                  <a:pt x="374" y="1518"/>
                </a:lnTo>
                <a:lnTo>
                  <a:pt x="345" y="1506"/>
                </a:lnTo>
                <a:lnTo>
                  <a:pt x="315" y="1491"/>
                </a:lnTo>
                <a:lnTo>
                  <a:pt x="288" y="1473"/>
                </a:lnTo>
                <a:lnTo>
                  <a:pt x="263" y="1454"/>
                </a:lnTo>
                <a:lnTo>
                  <a:pt x="241" y="1432"/>
                </a:lnTo>
                <a:lnTo>
                  <a:pt x="221" y="1409"/>
                </a:lnTo>
                <a:lnTo>
                  <a:pt x="203" y="1385"/>
                </a:lnTo>
                <a:lnTo>
                  <a:pt x="189" y="1358"/>
                </a:lnTo>
                <a:lnTo>
                  <a:pt x="177" y="1329"/>
                </a:lnTo>
                <a:lnTo>
                  <a:pt x="169" y="1301"/>
                </a:lnTo>
                <a:lnTo>
                  <a:pt x="6" y="544"/>
                </a:lnTo>
                <a:lnTo>
                  <a:pt x="2" y="514"/>
                </a:lnTo>
                <a:lnTo>
                  <a:pt x="0" y="484"/>
                </a:lnTo>
                <a:lnTo>
                  <a:pt x="3" y="455"/>
                </a:lnTo>
                <a:lnTo>
                  <a:pt x="9" y="427"/>
                </a:lnTo>
                <a:lnTo>
                  <a:pt x="19" y="400"/>
                </a:lnTo>
                <a:lnTo>
                  <a:pt x="31" y="373"/>
                </a:lnTo>
                <a:lnTo>
                  <a:pt x="47" y="348"/>
                </a:lnTo>
                <a:lnTo>
                  <a:pt x="65" y="324"/>
                </a:lnTo>
                <a:lnTo>
                  <a:pt x="86" y="302"/>
                </a:lnTo>
                <a:lnTo>
                  <a:pt x="110" y="281"/>
                </a:lnTo>
                <a:lnTo>
                  <a:pt x="135" y="263"/>
                </a:lnTo>
                <a:lnTo>
                  <a:pt x="163" y="246"/>
                </a:lnTo>
                <a:lnTo>
                  <a:pt x="194" y="231"/>
                </a:lnTo>
                <a:lnTo>
                  <a:pt x="227" y="220"/>
                </a:lnTo>
                <a:lnTo>
                  <a:pt x="260" y="211"/>
                </a:lnTo>
                <a:lnTo>
                  <a:pt x="296" y="204"/>
                </a:lnTo>
                <a:lnTo>
                  <a:pt x="296" y="20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839000" y="1828800"/>
            <a:ext cx="196920" cy="347760"/>
          </a:xfrm>
          <a:custGeom>
            <a:avLst/>
            <a:gdLst/>
            <a:ahLst/>
            <a:rect l="l" t="t" r="r" b="b"/>
            <a:pathLst>
              <a:path w="247" h="439">
                <a:moveTo>
                  <a:pt x="54" y="0"/>
                </a:moveTo>
                <a:lnTo>
                  <a:pt x="0" y="50"/>
                </a:lnTo>
                <a:lnTo>
                  <a:pt x="45" y="439"/>
                </a:lnTo>
                <a:lnTo>
                  <a:pt x="170" y="419"/>
                </a:lnTo>
                <a:lnTo>
                  <a:pt x="247" y="328"/>
                </a:lnTo>
                <a:lnTo>
                  <a:pt x="5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46880" y="723960"/>
            <a:ext cx="1787400" cy="1224000"/>
          </a:xfrm>
          <a:custGeom>
            <a:avLst/>
            <a:gdLst/>
            <a:ahLst/>
            <a:rect l="l" t="t" r="r" b="b"/>
            <a:pathLst>
              <a:path w="2252" h="1543">
                <a:moveTo>
                  <a:pt x="295" y="203"/>
                </a:moveTo>
                <a:lnTo>
                  <a:pt x="1669" y="5"/>
                </a:lnTo>
                <a:lnTo>
                  <a:pt x="1705" y="2"/>
                </a:lnTo>
                <a:lnTo>
                  <a:pt x="1742" y="0"/>
                </a:lnTo>
                <a:lnTo>
                  <a:pt x="1777" y="3"/>
                </a:lnTo>
                <a:lnTo>
                  <a:pt x="1811" y="7"/>
                </a:lnTo>
                <a:lnTo>
                  <a:pt x="1845" y="15"/>
                </a:lnTo>
                <a:lnTo>
                  <a:pt x="1877" y="26"/>
                </a:lnTo>
                <a:lnTo>
                  <a:pt x="1908" y="38"/>
                </a:lnTo>
                <a:lnTo>
                  <a:pt x="1937" y="53"/>
                </a:lnTo>
                <a:lnTo>
                  <a:pt x="1964" y="71"/>
                </a:lnTo>
                <a:lnTo>
                  <a:pt x="1989" y="90"/>
                </a:lnTo>
                <a:lnTo>
                  <a:pt x="2012" y="111"/>
                </a:lnTo>
                <a:lnTo>
                  <a:pt x="2031" y="134"/>
                </a:lnTo>
                <a:lnTo>
                  <a:pt x="2050" y="159"/>
                </a:lnTo>
                <a:lnTo>
                  <a:pt x="2064" y="186"/>
                </a:lnTo>
                <a:lnTo>
                  <a:pt x="2075" y="214"/>
                </a:lnTo>
                <a:lnTo>
                  <a:pt x="2083" y="242"/>
                </a:lnTo>
                <a:lnTo>
                  <a:pt x="2246" y="1000"/>
                </a:lnTo>
                <a:lnTo>
                  <a:pt x="2251" y="1030"/>
                </a:lnTo>
                <a:lnTo>
                  <a:pt x="2252" y="1059"/>
                </a:lnTo>
                <a:lnTo>
                  <a:pt x="2249" y="1088"/>
                </a:lnTo>
                <a:lnTo>
                  <a:pt x="2242" y="1117"/>
                </a:lnTo>
                <a:lnTo>
                  <a:pt x="2234" y="1144"/>
                </a:lnTo>
                <a:lnTo>
                  <a:pt x="2221" y="1170"/>
                </a:lnTo>
                <a:lnTo>
                  <a:pt x="2206" y="1195"/>
                </a:lnTo>
                <a:lnTo>
                  <a:pt x="2187" y="1219"/>
                </a:lnTo>
                <a:lnTo>
                  <a:pt x="2166" y="1241"/>
                </a:lnTo>
                <a:lnTo>
                  <a:pt x="2142" y="1262"/>
                </a:lnTo>
                <a:lnTo>
                  <a:pt x="2116" y="1280"/>
                </a:lnTo>
                <a:lnTo>
                  <a:pt x="2088" y="1298"/>
                </a:lnTo>
                <a:lnTo>
                  <a:pt x="2058" y="1311"/>
                </a:lnTo>
                <a:lnTo>
                  <a:pt x="2026" y="1324"/>
                </a:lnTo>
                <a:lnTo>
                  <a:pt x="1991" y="1333"/>
                </a:lnTo>
                <a:lnTo>
                  <a:pt x="1956" y="1340"/>
                </a:lnTo>
                <a:lnTo>
                  <a:pt x="583" y="1538"/>
                </a:lnTo>
                <a:lnTo>
                  <a:pt x="546" y="1542"/>
                </a:lnTo>
                <a:lnTo>
                  <a:pt x="510" y="1543"/>
                </a:lnTo>
                <a:lnTo>
                  <a:pt x="475" y="1541"/>
                </a:lnTo>
                <a:lnTo>
                  <a:pt x="441" y="1535"/>
                </a:lnTo>
                <a:lnTo>
                  <a:pt x="407" y="1528"/>
                </a:lnTo>
                <a:lnTo>
                  <a:pt x="375" y="1518"/>
                </a:lnTo>
                <a:lnTo>
                  <a:pt x="344" y="1505"/>
                </a:lnTo>
                <a:lnTo>
                  <a:pt x="314" y="1490"/>
                </a:lnTo>
                <a:lnTo>
                  <a:pt x="288" y="1473"/>
                </a:lnTo>
                <a:lnTo>
                  <a:pt x="262" y="1453"/>
                </a:lnTo>
                <a:lnTo>
                  <a:pt x="240" y="1432"/>
                </a:lnTo>
                <a:lnTo>
                  <a:pt x="220" y="1409"/>
                </a:lnTo>
                <a:lnTo>
                  <a:pt x="202" y="1384"/>
                </a:lnTo>
                <a:lnTo>
                  <a:pt x="188" y="1357"/>
                </a:lnTo>
                <a:lnTo>
                  <a:pt x="177" y="1330"/>
                </a:lnTo>
                <a:lnTo>
                  <a:pt x="168" y="1301"/>
                </a:lnTo>
                <a:lnTo>
                  <a:pt x="5" y="543"/>
                </a:lnTo>
                <a:lnTo>
                  <a:pt x="1" y="513"/>
                </a:lnTo>
                <a:lnTo>
                  <a:pt x="0" y="484"/>
                </a:lnTo>
                <a:lnTo>
                  <a:pt x="2" y="455"/>
                </a:lnTo>
                <a:lnTo>
                  <a:pt x="8" y="427"/>
                </a:lnTo>
                <a:lnTo>
                  <a:pt x="18" y="399"/>
                </a:lnTo>
                <a:lnTo>
                  <a:pt x="31" y="374"/>
                </a:lnTo>
                <a:lnTo>
                  <a:pt x="46" y="348"/>
                </a:lnTo>
                <a:lnTo>
                  <a:pt x="64" y="324"/>
                </a:lnTo>
                <a:lnTo>
                  <a:pt x="85" y="302"/>
                </a:lnTo>
                <a:lnTo>
                  <a:pt x="109" y="281"/>
                </a:lnTo>
                <a:lnTo>
                  <a:pt x="135" y="263"/>
                </a:lnTo>
                <a:lnTo>
                  <a:pt x="163" y="246"/>
                </a:lnTo>
                <a:lnTo>
                  <a:pt x="194" y="232"/>
                </a:lnTo>
                <a:lnTo>
                  <a:pt x="226" y="219"/>
                </a:lnTo>
                <a:lnTo>
                  <a:pt x="260" y="210"/>
                </a:lnTo>
                <a:lnTo>
                  <a:pt x="295" y="203"/>
                </a:lnTo>
                <a:lnTo>
                  <a:pt x="295" y="203"/>
                </a:lnTo>
                <a:close/>
              </a:path>
            </a:pathLst>
          </a:custGeom>
          <a:solidFill>
            <a:srgbClr val="ffc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35880" y="1028880"/>
            <a:ext cx="214200" cy="785520"/>
          </a:xfrm>
          <a:custGeom>
            <a:avLst/>
            <a:gdLst/>
            <a:ahLst/>
            <a:rect l="l" t="t" r="r" b="b"/>
            <a:pathLst>
              <a:path w="270" h="991">
                <a:moveTo>
                  <a:pt x="72" y="30"/>
                </a:moveTo>
                <a:lnTo>
                  <a:pt x="270" y="943"/>
                </a:lnTo>
                <a:lnTo>
                  <a:pt x="218" y="991"/>
                </a:lnTo>
                <a:lnTo>
                  <a:pt x="0" y="0"/>
                </a:lnTo>
                <a:lnTo>
                  <a:pt x="72" y="30"/>
                </a:lnTo>
                <a:close/>
              </a:path>
            </a:pathLst>
          </a:custGeom>
          <a:solidFill>
            <a:srgbClr val="6b3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91320" y="888840"/>
            <a:ext cx="1297080" cy="893880"/>
          </a:xfrm>
          <a:custGeom>
            <a:avLst/>
            <a:gdLst/>
            <a:ahLst/>
            <a:rect l="l" t="t" r="r" b="b"/>
            <a:pathLst>
              <a:path w="1634" h="1125">
                <a:moveTo>
                  <a:pt x="0" y="207"/>
                </a:moveTo>
                <a:lnTo>
                  <a:pt x="1436" y="0"/>
                </a:lnTo>
                <a:lnTo>
                  <a:pt x="1634" y="917"/>
                </a:lnTo>
                <a:lnTo>
                  <a:pt x="196" y="1125"/>
                </a:lnTo>
                <a:lnTo>
                  <a:pt x="0" y="207"/>
                </a:lnTo>
                <a:close/>
              </a:path>
            </a:pathLst>
          </a:custGeom>
          <a:solidFill>
            <a:srgbClr val="001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35880" y="849240"/>
            <a:ext cx="1236600" cy="203400"/>
          </a:xfrm>
          <a:custGeom>
            <a:avLst/>
            <a:gdLst/>
            <a:ahLst/>
            <a:rect l="l" t="t" r="r" b="b"/>
            <a:pathLst>
              <a:path w="1559" h="256">
                <a:moveTo>
                  <a:pt x="72" y="256"/>
                </a:moveTo>
                <a:lnTo>
                  <a:pt x="1508" y="49"/>
                </a:lnTo>
                <a:lnTo>
                  <a:pt x="1559" y="0"/>
                </a:lnTo>
                <a:lnTo>
                  <a:pt x="0" y="226"/>
                </a:lnTo>
                <a:lnTo>
                  <a:pt x="72" y="256"/>
                </a:lnTo>
                <a:close/>
              </a:path>
            </a:pathLst>
          </a:custGeom>
          <a:solidFill>
            <a:srgbClr val="d89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832880" y="849240"/>
            <a:ext cx="212400" cy="787320"/>
          </a:xfrm>
          <a:custGeom>
            <a:avLst/>
            <a:gdLst/>
            <a:ahLst/>
            <a:rect l="l" t="t" r="r" b="b"/>
            <a:pathLst>
              <a:path w="267" h="992">
                <a:moveTo>
                  <a:pt x="200" y="966"/>
                </a:moveTo>
                <a:lnTo>
                  <a:pt x="0" y="49"/>
                </a:lnTo>
                <a:lnTo>
                  <a:pt x="51" y="0"/>
                </a:lnTo>
                <a:lnTo>
                  <a:pt x="267" y="992"/>
                </a:lnTo>
                <a:lnTo>
                  <a:pt x="200" y="966"/>
                </a:lnTo>
                <a:close/>
              </a:path>
            </a:pathLst>
          </a:custGeom>
          <a:solidFill>
            <a:srgbClr val="ff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07240" y="1616040"/>
            <a:ext cx="1235160" cy="203400"/>
          </a:xfrm>
          <a:custGeom>
            <a:avLst/>
            <a:gdLst/>
            <a:ahLst/>
            <a:rect l="l" t="t" r="r" b="b"/>
            <a:pathLst>
              <a:path w="1557" h="255">
                <a:moveTo>
                  <a:pt x="54" y="208"/>
                </a:moveTo>
                <a:lnTo>
                  <a:pt x="1491" y="0"/>
                </a:lnTo>
                <a:lnTo>
                  <a:pt x="1557" y="31"/>
                </a:lnTo>
                <a:lnTo>
                  <a:pt x="0" y="255"/>
                </a:lnTo>
                <a:lnTo>
                  <a:pt x="54" y="208"/>
                </a:lnTo>
                <a:close/>
              </a:path>
            </a:pathLst>
          </a:custGeom>
          <a:solidFill>
            <a:srgbClr val="ffe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36000" y="1149480"/>
            <a:ext cx="2880" cy="1440"/>
          </a:xfrm>
          <a:custGeom>
            <a:avLst/>
            <a:gdLst/>
            <a:ahLst/>
            <a:rect l="l" t="t" r="r" b="b"/>
            <a:pathLst>
              <a:path w="5" h="1">
                <a:moveTo>
                  <a:pt x="0" y="1"/>
                </a:move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97600" y="1236600"/>
            <a:ext cx="417600" cy="405000"/>
          </a:xfrm>
          <a:custGeom>
            <a:avLst/>
            <a:gdLst/>
            <a:ahLst/>
            <a:rect l="l" t="t" r="r" b="b"/>
            <a:pathLst>
              <a:path w="525" h="509">
                <a:moveTo>
                  <a:pt x="390" y="282"/>
                </a:moveTo>
                <a:lnTo>
                  <a:pt x="395" y="290"/>
                </a:lnTo>
                <a:lnTo>
                  <a:pt x="399" y="297"/>
                </a:lnTo>
                <a:lnTo>
                  <a:pt x="406" y="303"/>
                </a:lnTo>
                <a:lnTo>
                  <a:pt x="411" y="307"/>
                </a:lnTo>
                <a:lnTo>
                  <a:pt x="418" y="311"/>
                </a:lnTo>
                <a:lnTo>
                  <a:pt x="425" y="312"/>
                </a:lnTo>
                <a:lnTo>
                  <a:pt x="431" y="311"/>
                </a:lnTo>
                <a:lnTo>
                  <a:pt x="437" y="307"/>
                </a:lnTo>
                <a:lnTo>
                  <a:pt x="449" y="291"/>
                </a:lnTo>
                <a:lnTo>
                  <a:pt x="459" y="275"/>
                </a:lnTo>
                <a:lnTo>
                  <a:pt x="466" y="258"/>
                </a:lnTo>
                <a:lnTo>
                  <a:pt x="472" y="240"/>
                </a:lnTo>
                <a:lnTo>
                  <a:pt x="473" y="223"/>
                </a:lnTo>
                <a:lnTo>
                  <a:pt x="472" y="206"/>
                </a:lnTo>
                <a:lnTo>
                  <a:pt x="468" y="187"/>
                </a:lnTo>
                <a:lnTo>
                  <a:pt x="461" y="169"/>
                </a:lnTo>
                <a:lnTo>
                  <a:pt x="449" y="149"/>
                </a:lnTo>
                <a:lnTo>
                  <a:pt x="437" y="131"/>
                </a:lnTo>
                <a:lnTo>
                  <a:pt x="420" y="114"/>
                </a:lnTo>
                <a:lnTo>
                  <a:pt x="402" y="98"/>
                </a:lnTo>
                <a:lnTo>
                  <a:pt x="382" y="84"/>
                </a:lnTo>
                <a:lnTo>
                  <a:pt x="359" y="71"/>
                </a:lnTo>
                <a:lnTo>
                  <a:pt x="337" y="61"/>
                </a:lnTo>
                <a:lnTo>
                  <a:pt x="313" y="53"/>
                </a:lnTo>
                <a:lnTo>
                  <a:pt x="288" y="46"/>
                </a:lnTo>
                <a:lnTo>
                  <a:pt x="262" y="42"/>
                </a:lnTo>
                <a:lnTo>
                  <a:pt x="237" y="40"/>
                </a:lnTo>
                <a:lnTo>
                  <a:pt x="212" y="41"/>
                </a:lnTo>
                <a:lnTo>
                  <a:pt x="187" y="45"/>
                </a:lnTo>
                <a:lnTo>
                  <a:pt x="161" y="50"/>
                </a:lnTo>
                <a:lnTo>
                  <a:pt x="139" y="58"/>
                </a:lnTo>
                <a:lnTo>
                  <a:pt x="116" y="70"/>
                </a:lnTo>
                <a:lnTo>
                  <a:pt x="94" y="87"/>
                </a:lnTo>
                <a:lnTo>
                  <a:pt x="78" y="106"/>
                </a:lnTo>
                <a:lnTo>
                  <a:pt x="66" y="125"/>
                </a:lnTo>
                <a:lnTo>
                  <a:pt x="59" y="147"/>
                </a:lnTo>
                <a:lnTo>
                  <a:pt x="54" y="170"/>
                </a:lnTo>
                <a:lnTo>
                  <a:pt x="52" y="194"/>
                </a:lnTo>
                <a:lnTo>
                  <a:pt x="52" y="219"/>
                </a:lnTo>
                <a:lnTo>
                  <a:pt x="52" y="245"/>
                </a:lnTo>
                <a:lnTo>
                  <a:pt x="50" y="281"/>
                </a:lnTo>
                <a:lnTo>
                  <a:pt x="49" y="313"/>
                </a:lnTo>
                <a:lnTo>
                  <a:pt x="56" y="343"/>
                </a:lnTo>
                <a:lnTo>
                  <a:pt x="74" y="372"/>
                </a:lnTo>
                <a:lnTo>
                  <a:pt x="91" y="388"/>
                </a:lnTo>
                <a:lnTo>
                  <a:pt x="109" y="404"/>
                </a:lnTo>
                <a:lnTo>
                  <a:pt x="129" y="418"/>
                </a:lnTo>
                <a:lnTo>
                  <a:pt x="150" y="429"/>
                </a:lnTo>
                <a:lnTo>
                  <a:pt x="173" y="441"/>
                </a:lnTo>
                <a:lnTo>
                  <a:pt x="195" y="450"/>
                </a:lnTo>
                <a:lnTo>
                  <a:pt x="219" y="457"/>
                </a:lnTo>
                <a:lnTo>
                  <a:pt x="243" y="463"/>
                </a:lnTo>
                <a:lnTo>
                  <a:pt x="267" y="466"/>
                </a:lnTo>
                <a:lnTo>
                  <a:pt x="292" y="467"/>
                </a:lnTo>
                <a:lnTo>
                  <a:pt x="316" y="467"/>
                </a:lnTo>
                <a:lnTo>
                  <a:pt x="338" y="464"/>
                </a:lnTo>
                <a:lnTo>
                  <a:pt x="362" y="458"/>
                </a:lnTo>
                <a:lnTo>
                  <a:pt x="383" y="450"/>
                </a:lnTo>
                <a:lnTo>
                  <a:pt x="404" y="439"/>
                </a:lnTo>
                <a:lnTo>
                  <a:pt x="424" y="425"/>
                </a:lnTo>
                <a:lnTo>
                  <a:pt x="434" y="419"/>
                </a:lnTo>
                <a:lnTo>
                  <a:pt x="444" y="418"/>
                </a:lnTo>
                <a:lnTo>
                  <a:pt x="452" y="420"/>
                </a:lnTo>
                <a:lnTo>
                  <a:pt x="461" y="425"/>
                </a:lnTo>
                <a:lnTo>
                  <a:pt x="465" y="430"/>
                </a:lnTo>
                <a:lnTo>
                  <a:pt x="468" y="439"/>
                </a:lnTo>
                <a:lnTo>
                  <a:pt x="466" y="447"/>
                </a:lnTo>
                <a:lnTo>
                  <a:pt x="459" y="455"/>
                </a:lnTo>
                <a:lnTo>
                  <a:pt x="435" y="472"/>
                </a:lnTo>
                <a:lnTo>
                  <a:pt x="410" y="485"/>
                </a:lnTo>
                <a:lnTo>
                  <a:pt x="383" y="495"/>
                </a:lnTo>
                <a:lnTo>
                  <a:pt x="357" y="503"/>
                </a:lnTo>
                <a:lnTo>
                  <a:pt x="327" y="508"/>
                </a:lnTo>
                <a:lnTo>
                  <a:pt x="298" y="509"/>
                </a:lnTo>
                <a:lnTo>
                  <a:pt x="268" y="508"/>
                </a:lnTo>
                <a:lnTo>
                  <a:pt x="239" y="504"/>
                </a:lnTo>
                <a:lnTo>
                  <a:pt x="210" y="498"/>
                </a:lnTo>
                <a:lnTo>
                  <a:pt x="181" y="489"/>
                </a:lnTo>
                <a:lnTo>
                  <a:pt x="153" y="479"/>
                </a:lnTo>
                <a:lnTo>
                  <a:pt x="126" y="466"/>
                </a:lnTo>
                <a:lnTo>
                  <a:pt x="101" y="451"/>
                </a:lnTo>
                <a:lnTo>
                  <a:pt x="77" y="435"/>
                </a:lnTo>
                <a:lnTo>
                  <a:pt x="54" y="417"/>
                </a:lnTo>
                <a:lnTo>
                  <a:pt x="35" y="397"/>
                </a:lnTo>
                <a:lnTo>
                  <a:pt x="21" y="380"/>
                </a:lnTo>
                <a:lnTo>
                  <a:pt x="11" y="363"/>
                </a:lnTo>
                <a:lnTo>
                  <a:pt x="5" y="344"/>
                </a:lnTo>
                <a:lnTo>
                  <a:pt x="1" y="326"/>
                </a:lnTo>
                <a:lnTo>
                  <a:pt x="0" y="307"/>
                </a:lnTo>
                <a:lnTo>
                  <a:pt x="0" y="288"/>
                </a:lnTo>
                <a:lnTo>
                  <a:pt x="1" y="267"/>
                </a:lnTo>
                <a:lnTo>
                  <a:pt x="1" y="245"/>
                </a:lnTo>
                <a:lnTo>
                  <a:pt x="1" y="214"/>
                </a:lnTo>
                <a:lnTo>
                  <a:pt x="3" y="184"/>
                </a:lnTo>
                <a:lnTo>
                  <a:pt x="7" y="155"/>
                </a:lnTo>
                <a:lnTo>
                  <a:pt x="14" y="129"/>
                </a:lnTo>
                <a:lnTo>
                  <a:pt x="24" y="102"/>
                </a:lnTo>
                <a:lnTo>
                  <a:pt x="39" y="79"/>
                </a:lnTo>
                <a:lnTo>
                  <a:pt x="59" y="56"/>
                </a:lnTo>
                <a:lnTo>
                  <a:pt x="85" y="37"/>
                </a:lnTo>
                <a:lnTo>
                  <a:pt x="112" y="23"/>
                </a:lnTo>
                <a:lnTo>
                  <a:pt x="142" y="11"/>
                </a:lnTo>
                <a:lnTo>
                  <a:pt x="171" y="4"/>
                </a:lnTo>
                <a:lnTo>
                  <a:pt x="202" y="0"/>
                </a:lnTo>
                <a:lnTo>
                  <a:pt x="233" y="0"/>
                </a:lnTo>
                <a:lnTo>
                  <a:pt x="264" y="1"/>
                </a:lnTo>
                <a:lnTo>
                  <a:pt x="296" y="5"/>
                </a:lnTo>
                <a:lnTo>
                  <a:pt x="327" y="13"/>
                </a:lnTo>
                <a:lnTo>
                  <a:pt x="357" y="23"/>
                </a:lnTo>
                <a:lnTo>
                  <a:pt x="385" y="35"/>
                </a:lnTo>
                <a:lnTo>
                  <a:pt x="411" y="50"/>
                </a:lnTo>
                <a:lnTo>
                  <a:pt x="437" y="68"/>
                </a:lnTo>
                <a:lnTo>
                  <a:pt x="459" y="86"/>
                </a:lnTo>
                <a:lnTo>
                  <a:pt x="479" y="107"/>
                </a:lnTo>
                <a:lnTo>
                  <a:pt x="496" y="130"/>
                </a:lnTo>
                <a:lnTo>
                  <a:pt x="510" y="154"/>
                </a:lnTo>
                <a:lnTo>
                  <a:pt x="518" y="177"/>
                </a:lnTo>
                <a:lnTo>
                  <a:pt x="524" y="201"/>
                </a:lnTo>
                <a:lnTo>
                  <a:pt x="525" y="224"/>
                </a:lnTo>
                <a:lnTo>
                  <a:pt x="522" y="246"/>
                </a:lnTo>
                <a:lnTo>
                  <a:pt x="517" y="268"/>
                </a:lnTo>
                <a:lnTo>
                  <a:pt x="507" y="290"/>
                </a:lnTo>
                <a:lnTo>
                  <a:pt x="494" y="312"/>
                </a:lnTo>
                <a:lnTo>
                  <a:pt x="477" y="333"/>
                </a:lnTo>
                <a:lnTo>
                  <a:pt x="468" y="341"/>
                </a:lnTo>
                <a:lnTo>
                  <a:pt x="456" y="344"/>
                </a:lnTo>
                <a:lnTo>
                  <a:pt x="444" y="345"/>
                </a:lnTo>
                <a:lnTo>
                  <a:pt x="430" y="344"/>
                </a:lnTo>
                <a:lnTo>
                  <a:pt x="414" y="339"/>
                </a:lnTo>
                <a:lnTo>
                  <a:pt x="400" y="334"/>
                </a:lnTo>
                <a:lnTo>
                  <a:pt x="385" y="325"/>
                </a:lnTo>
                <a:lnTo>
                  <a:pt x="372" y="315"/>
                </a:lnTo>
                <a:lnTo>
                  <a:pt x="365" y="329"/>
                </a:lnTo>
                <a:lnTo>
                  <a:pt x="358" y="342"/>
                </a:lnTo>
                <a:lnTo>
                  <a:pt x="348" y="354"/>
                </a:lnTo>
                <a:lnTo>
                  <a:pt x="338" y="365"/>
                </a:lnTo>
                <a:lnTo>
                  <a:pt x="326" y="374"/>
                </a:lnTo>
                <a:lnTo>
                  <a:pt x="312" y="382"/>
                </a:lnTo>
                <a:lnTo>
                  <a:pt x="296" y="388"/>
                </a:lnTo>
                <a:lnTo>
                  <a:pt x="278" y="392"/>
                </a:lnTo>
                <a:lnTo>
                  <a:pt x="251" y="394"/>
                </a:lnTo>
                <a:lnTo>
                  <a:pt x="226" y="390"/>
                </a:lnTo>
                <a:lnTo>
                  <a:pt x="202" y="381"/>
                </a:lnTo>
                <a:lnTo>
                  <a:pt x="181" y="368"/>
                </a:lnTo>
                <a:lnTo>
                  <a:pt x="163" y="352"/>
                </a:lnTo>
                <a:lnTo>
                  <a:pt x="147" y="334"/>
                </a:lnTo>
                <a:lnTo>
                  <a:pt x="136" y="312"/>
                </a:lnTo>
                <a:lnTo>
                  <a:pt x="130" y="290"/>
                </a:lnTo>
                <a:lnTo>
                  <a:pt x="129" y="266"/>
                </a:lnTo>
                <a:lnTo>
                  <a:pt x="132" y="242"/>
                </a:lnTo>
                <a:lnTo>
                  <a:pt x="140" y="220"/>
                </a:lnTo>
                <a:lnTo>
                  <a:pt x="151" y="199"/>
                </a:lnTo>
                <a:lnTo>
                  <a:pt x="168" y="181"/>
                </a:lnTo>
                <a:lnTo>
                  <a:pt x="188" y="167"/>
                </a:lnTo>
                <a:lnTo>
                  <a:pt x="213" y="156"/>
                </a:lnTo>
                <a:lnTo>
                  <a:pt x="240" y="153"/>
                </a:lnTo>
                <a:lnTo>
                  <a:pt x="269" y="155"/>
                </a:lnTo>
                <a:lnTo>
                  <a:pt x="298" y="161"/>
                </a:lnTo>
                <a:lnTo>
                  <a:pt x="323" y="171"/>
                </a:lnTo>
                <a:lnTo>
                  <a:pt x="347" y="184"/>
                </a:lnTo>
                <a:lnTo>
                  <a:pt x="366" y="201"/>
                </a:lnTo>
                <a:lnTo>
                  <a:pt x="380" y="221"/>
                </a:lnTo>
                <a:lnTo>
                  <a:pt x="392" y="243"/>
                </a:lnTo>
                <a:lnTo>
                  <a:pt x="396" y="267"/>
                </a:lnTo>
                <a:lnTo>
                  <a:pt x="396" y="272"/>
                </a:lnTo>
                <a:lnTo>
                  <a:pt x="396" y="276"/>
                </a:lnTo>
                <a:lnTo>
                  <a:pt x="393" y="280"/>
                </a:lnTo>
                <a:lnTo>
                  <a:pt x="390" y="282"/>
                </a:lnTo>
                <a:close/>
                <a:moveTo>
                  <a:pt x="390" y="253"/>
                </a:moveTo>
                <a:lnTo>
                  <a:pt x="390" y="257"/>
                </a:lnTo>
                <a:lnTo>
                  <a:pt x="390" y="255"/>
                </a:lnTo>
                <a:lnTo>
                  <a:pt x="390" y="254"/>
                </a:lnTo>
                <a:lnTo>
                  <a:pt x="390" y="254"/>
                </a:lnTo>
                <a:lnTo>
                  <a:pt x="390" y="253"/>
                </a:lnTo>
                <a:close/>
                <a:moveTo>
                  <a:pt x="340" y="247"/>
                </a:moveTo>
                <a:lnTo>
                  <a:pt x="333" y="236"/>
                </a:lnTo>
                <a:lnTo>
                  <a:pt x="324" y="225"/>
                </a:lnTo>
                <a:lnTo>
                  <a:pt x="314" y="217"/>
                </a:lnTo>
                <a:lnTo>
                  <a:pt x="302" y="209"/>
                </a:lnTo>
                <a:lnTo>
                  <a:pt x="288" y="204"/>
                </a:lnTo>
                <a:lnTo>
                  <a:pt x="274" y="199"/>
                </a:lnTo>
                <a:lnTo>
                  <a:pt x="257" y="197"/>
                </a:lnTo>
                <a:lnTo>
                  <a:pt x="241" y="195"/>
                </a:lnTo>
                <a:lnTo>
                  <a:pt x="225" y="198"/>
                </a:lnTo>
                <a:lnTo>
                  <a:pt x="210" y="205"/>
                </a:lnTo>
                <a:lnTo>
                  <a:pt x="199" y="214"/>
                </a:lnTo>
                <a:lnTo>
                  <a:pt x="191" y="225"/>
                </a:lnTo>
                <a:lnTo>
                  <a:pt x="184" y="239"/>
                </a:lnTo>
                <a:lnTo>
                  <a:pt x="181" y="254"/>
                </a:lnTo>
                <a:lnTo>
                  <a:pt x="180" y="269"/>
                </a:lnTo>
                <a:lnTo>
                  <a:pt x="181" y="284"/>
                </a:lnTo>
                <a:lnTo>
                  <a:pt x="185" y="298"/>
                </a:lnTo>
                <a:lnTo>
                  <a:pt x="191" y="311"/>
                </a:lnTo>
                <a:lnTo>
                  <a:pt x="199" y="323"/>
                </a:lnTo>
                <a:lnTo>
                  <a:pt x="210" y="334"/>
                </a:lnTo>
                <a:lnTo>
                  <a:pt x="222" y="343"/>
                </a:lnTo>
                <a:lnTo>
                  <a:pt x="236" y="349"/>
                </a:lnTo>
                <a:lnTo>
                  <a:pt x="251" y="352"/>
                </a:lnTo>
                <a:lnTo>
                  <a:pt x="267" y="351"/>
                </a:lnTo>
                <a:lnTo>
                  <a:pt x="285" y="346"/>
                </a:lnTo>
                <a:lnTo>
                  <a:pt x="299" y="338"/>
                </a:lnTo>
                <a:lnTo>
                  <a:pt x="310" y="329"/>
                </a:lnTo>
                <a:lnTo>
                  <a:pt x="319" y="316"/>
                </a:lnTo>
                <a:lnTo>
                  <a:pt x="326" y="304"/>
                </a:lnTo>
                <a:lnTo>
                  <a:pt x="330" y="289"/>
                </a:lnTo>
                <a:lnTo>
                  <a:pt x="334" y="273"/>
                </a:lnTo>
                <a:lnTo>
                  <a:pt x="338" y="257"/>
                </a:lnTo>
                <a:lnTo>
                  <a:pt x="338" y="254"/>
                </a:lnTo>
                <a:lnTo>
                  <a:pt x="338" y="252"/>
                </a:lnTo>
                <a:lnTo>
                  <a:pt x="338" y="250"/>
                </a:lnTo>
                <a:lnTo>
                  <a:pt x="340" y="2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15360" y="1308240"/>
            <a:ext cx="360360" cy="191880"/>
          </a:xfrm>
          <a:custGeom>
            <a:avLst/>
            <a:gdLst/>
            <a:ahLst/>
            <a:rect l="l" t="t" r="r" b="b"/>
            <a:pathLst>
              <a:path w="454" h="240">
                <a:moveTo>
                  <a:pt x="7" y="182"/>
                </a:moveTo>
                <a:lnTo>
                  <a:pt x="19" y="169"/>
                </a:lnTo>
                <a:lnTo>
                  <a:pt x="33" y="157"/>
                </a:lnTo>
                <a:lnTo>
                  <a:pt x="46" y="145"/>
                </a:lnTo>
                <a:lnTo>
                  <a:pt x="60" y="132"/>
                </a:lnTo>
                <a:lnTo>
                  <a:pt x="74" y="119"/>
                </a:lnTo>
                <a:lnTo>
                  <a:pt x="88" y="107"/>
                </a:lnTo>
                <a:lnTo>
                  <a:pt x="104" y="95"/>
                </a:lnTo>
                <a:lnTo>
                  <a:pt x="118" y="84"/>
                </a:lnTo>
                <a:lnTo>
                  <a:pt x="123" y="73"/>
                </a:lnTo>
                <a:lnTo>
                  <a:pt x="129" y="64"/>
                </a:lnTo>
                <a:lnTo>
                  <a:pt x="136" y="54"/>
                </a:lnTo>
                <a:lnTo>
                  <a:pt x="144" y="46"/>
                </a:lnTo>
                <a:lnTo>
                  <a:pt x="153" y="36"/>
                </a:lnTo>
                <a:lnTo>
                  <a:pt x="163" y="29"/>
                </a:lnTo>
                <a:lnTo>
                  <a:pt x="174" y="23"/>
                </a:lnTo>
                <a:lnTo>
                  <a:pt x="187" y="16"/>
                </a:lnTo>
                <a:lnTo>
                  <a:pt x="209" y="6"/>
                </a:lnTo>
                <a:lnTo>
                  <a:pt x="233" y="2"/>
                </a:lnTo>
                <a:lnTo>
                  <a:pt x="258" y="0"/>
                </a:lnTo>
                <a:lnTo>
                  <a:pt x="282" y="2"/>
                </a:lnTo>
                <a:lnTo>
                  <a:pt x="306" y="6"/>
                </a:lnTo>
                <a:lnTo>
                  <a:pt x="330" y="13"/>
                </a:lnTo>
                <a:lnTo>
                  <a:pt x="352" y="24"/>
                </a:lnTo>
                <a:lnTo>
                  <a:pt x="374" y="36"/>
                </a:lnTo>
                <a:lnTo>
                  <a:pt x="378" y="39"/>
                </a:lnTo>
                <a:lnTo>
                  <a:pt x="383" y="46"/>
                </a:lnTo>
                <a:lnTo>
                  <a:pt x="386" y="52"/>
                </a:lnTo>
                <a:lnTo>
                  <a:pt x="385" y="59"/>
                </a:lnTo>
                <a:lnTo>
                  <a:pt x="381" y="65"/>
                </a:lnTo>
                <a:lnTo>
                  <a:pt x="375" y="70"/>
                </a:lnTo>
                <a:lnTo>
                  <a:pt x="366" y="73"/>
                </a:lnTo>
                <a:lnTo>
                  <a:pt x="358" y="73"/>
                </a:lnTo>
                <a:lnTo>
                  <a:pt x="348" y="71"/>
                </a:lnTo>
                <a:lnTo>
                  <a:pt x="324" y="61"/>
                </a:lnTo>
                <a:lnTo>
                  <a:pt x="299" y="55"/>
                </a:lnTo>
                <a:lnTo>
                  <a:pt x="277" y="54"/>
                </a:lnTo>
                <a:lnTo>
                  <a:pt x="253" y="56"/>
                </a:lnTo>
                <a:lnTo>
                  <a:pt x="230" y="63"/>
                </a:lnTo>
                <a:lnTo>
                  <a:pt x="209" y="72"/>
                </a:lnTo>
                <a:lnTo>
                  <a:pt x="187" y="85"/>
                </a:lnTo>
                <a:lnTo>
                  <a:pt x="166" y="99"/>
                </a:lnTo>
                <a:lnTo>
                  <a:pt x="161" y="112"/>
                </a:lnTo>
                <a:lnTo>
                  <a:pt x="160" y="127"/>
                </a:lnTo>
                <a:lnTo>
                  <a:pt x="161" y="144"/>
                </a:lnTo>
                <a:lnTo>
                  <a:pt x="166" y="158"/>
                </a:lnTo>
                <a:lnTo>
                  <a:pt x="171" y="171"/>
                </a:lnTo>
                <a:lnTo>
                  <a:pt x="181" y="182"/>
                </a:lnTo>
                <a:lnTo>
                  <a:pt x="192" y="191"/>
                </a:lnTo>
                <a:lnTo>
                  <a:pt x="208" y="196"/>
                </a:lnTo>
                <a:lnTo>
                  <a:pt x="223" y="201"/>
                </a:lnTo>
                <a:lnTo>
                  <a:pt x="240" y="205"/>
                </a:lnTo>
                <a:lnTo>
                  <a:pt x="260" y="206"/>
                </a:lnTo>
                <a:lnTo>
                  <a:pt x="278" y="206"/>
                </a:lnTo>
                <a:lnTo>
                  <a:pt x="298" y="203"/>
                </a:lnTo>
                <a:lnTo>
                  <a:pt x="317" y="200"/>
                </a:lnTo>
                <a:lnTo>
                  <a:pt x="336" y="194"/>
                </a:lnTo>
                <a:lnTo>
                  <a:pt x="354" y="187"/>
                </a:lnTo>
                <a:lnTo>
                  <a:pt x="371" y="179"/>
                </a:lnTo>
                <a:lnTo>
                  <a:pt x="385" y="170"/>
                </a:lnTo>
                <a:lnTo>
                  <a:pt x="397" y="160"/>
                </a:lnTo>
                <a:lnTo>
                  <a:pt x="407" y="147"/>
                </a:lnTo>
                <a:lnTo>
                  <a:pt x="414" y="140"/>
                </a:lnTo>
                <a:lnTo>
                  <a:pt x="423" y="137"/>
                </a:lnTo>
                <a:lnTo>
                  <a:pt x="433" y="137"/>
                </a:lnTo>
                <a:lnTo>
                  <a:pt x="441" y="139"/>
                </a:lnTo>
                <a:lnTo>
                  <a:pt x="448" y="144"/>
                </a:lnTo>
                <a:lnTo>
                  <a:pt x="452" y="150"/>
                </a:lnTo>
                <a:lnTo>
                  <a:pt x="454" y="157"/>
                </a:lnTo>
                <a:lnTo>
                  <a:pt x="451" y="167"/>
                </a:lnTo>
                <a:lnTo>
                  <a:pt x="438" y="183"/>
                </a:lnTo>
                <a:lnTo>
                  <a:pt x="420" y="198"/>
                </a:lnTo>
                <a:lnTo>
                  <a:pt x="400" y="210"/>
                </a:lnTo>
                <a:lnTo>
                  <a:pt x="378" y="221"/>
                </a:lnTo>
                <a:lnTo>
                  <a:pt x="354" y="229"/>
                </a:lnTo>
                <a:lnTo>
                  <a:pt x="327" y="235"/>
                </a:lnTo>
                <a:lnTo>
                  <a:pt x="300" y="239"/>
                </a:lnTo>
                <a:lnTo>
                  <a:pt x="274" y="240"/>
                </a:lnTo>
                <a:lnTo>
                  <a:pt x="247" y="240"/>
                </a:lnTo>
                <a:lnTo>
                  <a:pt x="222" y="237"/>
                </a:lnTo>
                <a:lnTo>
                  <a:pt x="196" y="232"/>
                </a:lnTo>
                <a:lnTo>
                  <a:pt x="174" y="224"/>
                </a:lnTo>
                <a:lnTo>
                  <a:pt x="154" y="214"/>
                </a:lnTo>
                <a:lnTo>
                  <a:pt x="137" y="202"/>
                </a:lnTo>
                <a:lnTo>
                  <a:pt x="125" y="186"/>
                </a:lnTo>
                <a:lnTo>
                  <a:pt x="116" y="169"/>
                </a:lnTo>
                <a:lnTo>
                  <a:pt x="115" y="163"/>
                </a:lnTo>
                <a:lnTo>
                  <a:pt x="114" y="156"/>
                </a:lnTo>
                <a:lnTo>
                  <a:pt x="112" y="150"/>
                </a:lnTo>
                <a:lnTo>
                  <a:pt x="111" y="145"/>
                </a:lnTo>
                <a:lnTo>
                  <a:pt x="102" y="153"/>
                </a:lnTo>
                <a:lnTo>
                  <a:pt x="94" y="161"/>
                </a:lnTo>
                <a:lnTo>
                  <a:pt x="85" y="169"/>
                </a:lnTo>
                <a:lnTo>
                  <a:pt x="77" y="177"/>
                </a:lnTo>
                <a:lnTo>
                  <a:pt x="69" y="185"/>
                </a:lnTo>
                <a:lnTo>
                  <a:pt x="60" y="193"/>
                </a:lnTo>
                <a:lnTo>
                  <a:pt x="53" y="200"/>
                </a:lnTo>
                <a:lnTo>
                  <a:pt x="45" y="208"/>
                </a:lnTo>
                <a:lnTo>
                  <a:pt x="36" y="214"/>
                </a:lnTo>
                <a:lnTo>
                  <a:pt x="26" y="216"/>
                </a:lnTo>
                <a:lnTo>
                  <a:pt x="17" y="214"/>
                </a:lnTo>
                <a:lnTo>
                  <a:pt x="10" y="210"/>
                </a:lnTo>
                <a:lnTo>
                  <a:pt x="3" y="205"/>
                </a:lnTo>
                <a:lnTo>
                  <a:pt x="0" y="198"/>
                </a:lnTo>
                <a:lnTo>
                  <a:pt x="1" y="190"/>
                </a:lnTo>
                <a:lnTo>
                  <a:pt x="7" y="1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54880" y="1839960"/>
            <a:ext cx="546120" cy="433440"/>
          </a:xfrm>
          <a:custGeom>
            <a:avLst/>
            <a:gdLst/>
            <a:ahLst/>
            <a:rect l="l" t="t" r="r" b="b"/>
            <a:pathLst>
              <a:path w="687" h="545">
                <a:moveTo>
                  <a:pt x="599" y="200"/>
                </a:moveTo>
                <a:lnTo>
                  <a:pt x="618" y="218"/>
                </a:lnTo>
                <a:lnTo>
                  <a:pt x="638" y="233"/>
                </a:lnTo>
                <a:lnTo>
                  <a:pt x="655" y="246"/>
                </a:lnTo>
                <a:lnTo>
                  <a:pt x="670" y="259"/>
                </a:lnTo>
                <a:lnTo>
                  <a:pt x="681" y="274"/>
                </a:lnTo>
                <a:lnTo>
                  <a:pt x="687" y="289"/>
                </a:lnTo>
                <a:lnTo>
                  <a:pt x="687" y="306"/>
                </a:lnTo>
                <a:lnTo>
                  <a:pt x="680" y="326"/>
                </a:lnTo>
                <a:lnTo>
                  <a:pt x="672" y="344"/>
                </a:lnTo>
                <a:lnTo>
                  <a:pt x="662" y="362"/>
                </a:lnTo>
                <a:lnTo>
                  <a:pt x="650" y="378"/>
                </a:lnTo>
                <a:lnTo>
                  <a:pt x="639" y="392"/>
                </a:lnTo>
                <a:lnTo>
                  <a:pt x="625" y="402"/>
                </a:lnTo>
                <a:lnTo>
                  <a:pt x="610" y="409"/>
                </a:lnTo>
                <a:lnTo>
                  <a:pt x="593" y="410"/>
                </a:lnTo>
                <a:lnTo>
                  <a:pt x="572" y="404"/>
                </a:lnTo>
                <a:lnTo>
                  <a:pt x="570" y="420"/>
                </a:lnTo>
                <a:lnTo>
                  <a:pt x="569" y="432"/>
                </a:lnTo>
                <a:lnTo>
                  <a:pt x="565" y="442"/>
                </a:lnTo>
                <a:lnTo>
                  <a:pt x="559" y="450"/>
                </a:lnTo>
                <a:lnTo>
                  <a:pt x="552" y="458"/>
                </a:lnTo>
                <a:lnTo>
                  <a:pt x="545" y="467"/>
                </a:lnTo>
                <a:lnTo>
                  <a:pt x="535" y="477"/>
                </a:lnTo>
                <a:lnTo>
                  <a:pt x="524" y="491"/>
                </a:lnTo>
                <a:lnTo>
                  <a:pt x="513" y="502"/>
                </a:lnTo>
                <a:lnTo>
                  <a:pt x="499" y="511"/>
                </a:lnTo>
                <a:lnTo>
                  <a:pt x="483" y="517"/>
                </a:lnTo>
                <a:lnTo>
                  <a:pt x="468" y="521"/>
                </a:lnTo>
                <a:lnTo>
                  <a:pt x="450" y="523"/>
                </a:lnTo>
                <a:lnTo>
                  <a:pt x="431" y="522"/>
                </a:lnTo>
                <a:lnTo>
                  <a:pt x="413" y="520"/>
                </a:lnTo>
                <a:lnTo>
                  <a:pt x="395" y="516"/>
                </a:lnTo>
                <a:lnTo>
                  <a:pt x="376" y="513"/>
                </a:lnTo>
                <a:lnTo>
                  <a:pt x="360" y="513"/>
                </a:lnTo>
                <a:lnTo>
                  <a:pt x="341" y="513"/>
                </a:lnTo>
                <a:lnTo>
                  <a:pt x="325" y="516"/>
                </a:lnTo>
                <a:lnTo>
                  <a:pt x="308" y="520"/>
                </a:lnTo>
                <a:lnTo>
                  <a:pt x="291" y="524"/>
                </a:lnTo>
                <a:lnTo>
                  <a:pt x="275" y="529"/>
                </a:lnTo>
                <a:lnTo>
                  <a:pt x="258" y="533"/>
                </a:lnTo>
                <a:lnTo>
                  <a:pt x="243" y="538"/>
                </a:lnTo>
                <a:lnTo>
                  <a:pt x="228" y="541"/>
                </a:lnTo>
                <a:lnTo>
                  <a:pt x="212" y="544"/>
                </a:lnTo>
                <a:lnTo>
                  <a:pt x="197" y="545"/>
                </a:lnTo>
                <a:lnTo>
                  <a:pt x="181" y="545"/>
                </a:lnTo>
                <a:lnTo>
                  <a:pt x="166" y="543"/>
                </a:lnTo>
                <a:lnTo>
                  <a:pt x="152" y="537"/>
                </a:lnTo>
                <a:lnTo>
                  <a:pt x="136" y="529"/>
                </a:lnTo>
                <a:lnTo>
                  <a:pt x="121" y="520"/>
                </a:lnTo>
                <a:lnTo>
                  <a:pt x="105" y="510"/>
                </a:lnTo>
                <a:lnTo>
                  <a:pt x="91" y="500"/>
                </a:lnTo>
                <a:lnTo>
                  <a:pt x="80" y="491"/>
                </a:lnTo>
                <a:lnTo>
                  <a:pt x="69" y="479"/>
                </a:lnTo>
                <a:lnTo>
                  <a:pt x="62" y="468"/>
                </a:lnTo>
                <a:lnTo>
                  <a:pt x="56" y="454"/>
                </a:lnTo>
                <a:lnTo>
                  <a:pt x="55" y="439"/>
                </a:lnTo>
                <a:lnTo>
                  <a:pt x="52" y="422"/>
                </a:lnTo>
                <a:lnTo>
                  <a:pt x="43" y="407"/>
                </a:lnTo>
                <a:lnTo>
                  <a:pt x="32" y="393"/>
                </a:lnTo>
                <a:lnTo>
                  <a:pt x="20" y="380"/>
                </a:lnTo>
                <a:lnTo>
                  <a:pt x="10" y="367"/>
                </a:lnTo>
                <a:lnTo>
                  <a:pt x="1" y="354"/>
                </a:lnTo>
                <a:lnTo>
                  <a:pt x="0" y="341"/>
                </a:lnTo>
                <a:lnTo>
                  <a:pt x="6" y="326"/>
                </a:lnTo>
                <a:lnTo>
                  <a:pt x="15" y="303"/>
                </a:lnTo>
                <a:lnTo>
                  <a:pt x="20" y="278"/>
                </a:lnTo>
                <a:lnTo>
                  <a:pt x="20" y="252"/>
                </a:lnTo>
                <a:lnTo>
                  <a:pt x="20" y="227"/>
                </a:lnTo>
                <a:lnTo>
                  <a:pt x="21" y="205"/>
                </a:lnTo>
                <a:lnTo>
                  <a:pt x="28" y="185"/>
                </a:lnTo>
                <a:lnTo>
                  <a:pt x="42" y="173"/>
                </a:lnTo>
                <a:lnTo>
                  <a:pt x="66" y="166"/>
                </a:lnTo>
                <a:lnTo>
                  <a:pt x="69" y="150"/>
                </a:lnTo>
                <a:lnTo>
                  <a:pt x="79" y="137"/>
                </a:lnTo>
                <a:lnTo>
                  <a:pt x="91" y="126"/>
                </a:lnTo>
                <a:lnTo>
                  <a:pt x="108" y="116"/>
                </a:lnTo>
                <a:lnTo>
                  <a:pt x="124" y="106"/>
                </a:lnTo>
                <a:lnTo>
                  <a:pt x="138" y="96"/>
                </a:lnTo>
                <a:lnTo>
                  <a:pt x="150" y="82"/>
                </a:lnTo>
                <a:lnTo>
                  <a:pt x="157" y="67"/>
                </a:lnTo>
                <a:lnTo>
                  <a:pt x="166" y="50"/>
                </a:lnTo>
                <a:lnTo>
                  <a:pt x="178" y="36"/>
                </a:lnTo>
                <a:lnTo>
                  <a:pt x="195" y="26"/>
                </a:lnTo>
                <a:lnTo>
                  <a:pt x="216" y="20"/>
                </a:lnTo>
                <a:lnTo>
                  <a:pt x="239" y="15"/>
                </a:lnTo>
                <a:lnTo>
                  <a:pt x="264" y="11"/>
                </a:lnTo>
                <a:lnTo>
                  <a:pt x="289" y="8"/>
                </a:lnTo>
                <a:lnTo>
                  <a:pt x="315" y="3"/>
                </a:lnTo>
                <a:lnTo>
                  <a:pt x="343" y="0"/>
                </a:lnTo>
                <a:lnTo>
                  <a:pt x="375" y="0"/>
                </a:lnTo>
                <a:lnTo>
                  <a:pt x="409" y="3"/>
                </a:lnTo>
                <a:lnTo>
                  <a:pt x="441" y="11"/>
                </a:lnTo>
                <a:lnTo>
                  <a:pt x="471" y="23"/>
                </a:lnTo>
                <a:lnTo>
                  <a:pt x="495" y="40"/>
                </a:lnTo>
                <a:lnTo>
                  <a:pt x="511" y="62"/>
                </a:lnTo>
                <a:lnTo>
                  <a:pt x="518" y="89"/>
                </a:lnTo>
                <a:lnTo>
                  <a:pt x="524" y="107"/>
                </a:lnTo>
                <a:lnTo>
                  <a:pt x="539" y="123"/>
                </a:lnTo>
                <a:lnTo>
                  <a:pt x="558" y="138"/>
                </a:lnTo>
                <a:lnTo>
                  <a:pt x="577" y="151"/>
                </a:lnTo>
                <a:lnTo>
                  <a:pt x="596" y="162"/>
                </a:lnTo>
                <a:lnTo>
                  <a:pt x="607" y="175"/>
                </a:lnTo>
                <a:lnTo>
                  <a:pt x="610" y="187"/>
                </a:lnTo>
                <a:lnTo>
                  <a:pt x="599" y="200"/>
                </a:lnTo>
                <a:close/>
              </a:path>
            </a:pathLst>
          </a:custGeom>
          <a:solidFill>
            <a:srgbClr val="ef7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70800" y="2171880"/>
            <a:ext cx="77760" cy="52200"/>
          </a:xfrm>
          <a:custGeom>
            <a:avLst/>
            <a:gdLst/>
            <a:ahLst/>
            <a:rect l="l" t="t" r="r" b="b"/>
            <a:pathLst>
              <a:path w="98" h="66">
                <a:moveTo>
                  <a:pt x="0" y="28"/>
                </a:moveTo>
                <a:lnTo>
                  <a:pt x="3" y="17"/>
                </a:lnTo>
                <a:lnTo>
                  <a:pt x="11" y="8"/>
                </a:lnTo>
                <a:lnTo>
                  <a:pt x="23" y="2"/>
                </a:lnTo>
                <a:lnTo>
                  <a:pt x="38" y="0"/>
                </a:lnTo>
                <a:lnTo>
                  <a:pt x="46" y="1"/>
                </a:lnTo>
                <a:lnTo>
                  <a:pt x="56" y="6"/>
                </a:lnTo>
                <a:lnTo>
                  <a:pt x="66" y="12"/>
                </a:lnTo>
                <a:lnTo>
                  <a:pt x="76" y="18"/>
                </a:lnTo>
                <a:lnTo>
                  <a:pt x="84" y="25"/>
                </a:lnTo>
                <a:lnTo>
                  <a:pt x="91" y="33"/>
                </a:lnTo>
                <a:lnTo>
                  <a:pt x="97" y="41"/>
                </a:lnTo>
                <a:lnTo>
                  <a:pt x="98" y="47"/>
                </a:lnTo>
                <a:lnTo>
                  <a:pt x="96" y="53"/>
                </a:lnTo>
                <a:lnTo>
                  <a:pt x="90" y="58"/>
                </a:lnTo>
                <a:lnTo>
                  <a:pt x="80" y="62"/>
                </a:lnTo>
                <a:lnTo>
                  <a:pt x="70" y="64"/>
                </a:lnTo>
                <a:lnTo>
                  <a:pt x="59" y="66"/>
                </a:lnTo>
                <a:lnTo>
                  <a:pt x="49" y="64"/>
                </a:lnTo>
                <a:lnTo>
                  <a:pt x="42" y="62"/>
                </a:lnTo>
                <a:lnTo>
                  <a:pt x="38" y="56"/>
                </a:lnTo>
                <a:lnTo>
                  <a:pt x="31" y="47"/>
                </a:lnTo>
                <a:lnTo>
                  <a:pt x="17" y="41"/>
                </a:lnTo>
                <a:lnTo>
                  <a:pt x="6" y="37"/>
                </a:lnTo>
                <a:lnTo>
                  <a:pt x="0" y="28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29560" y="2149560"/>
            <a:ext cx="56880" cy="31680"/>
          </a:xfrm>
          <a:custGeom>
            <a:avLst/>
            <a:gdLst/>
            <a:ahLst/>
            <a:rect l="l" t="t" r="r" b="b"/>
            <a:pathLst>
              <a:path w="71" h="41">
                <a:moveTo>
                  <a:pt x="0" y="18"/>
                </a:moveTo>
                <a:lnTo>
                  <a:pt x="2" y="11"/>
                </a:lnTo>
                <a:lnTo>
                  <a:pt x="8" y="5"/>
                </a:lnTo>
                <a:lnTo>
                  <a:pt x="16" y="1"/>
                </a:lnTo>
                <a:lnTo>
                  <a:pt x="26" y="0"/>
                </a:lnTo>
                <a:lnTo>
                  <a:pt x="33" y="1"/>
                </a:lnTo>
                <a:lnTo>
                  <a:pt x="40" y="4"/>
                </a:lnTo>
                <a:lnTo>
                  <a:pt x="47" y="7"/>
                </a:lnTo>
                <a:lnTo>
                  <a:pt x="54" y="12"/>
                </a:lnTo>
                <a:lnTo>
                  <a:pt x="61" y="16"/>
                </a:lnTo>
                <a:lnTo>
                  <a:pt x="67" y="22"/>
                </a:lnTo>
                <a:lnTo>
                  <a:pt x="70" y="27"/>
                </a:lnTo>
                <a:lnTo>
                  <a:pt x="71" y="30"/>
                </a:lnTo>
                <a:lnTo>
                  <a:pt x="70" y="34"/>
                </a:lnTo>
                <a:lnTo>
                  <a:pt x="64" y="36"/>
                </a:lnTo>
                <a:lnTo>
                  <a:pt x="59" y="38"/>
                </a:lnTo>
                <a:lnTo>
                  <a:pt x="50" y="41"/>
                </a:lnTo>
                <a:lnTo>
                  <a:pt x="42" y="41"/>
                </a:lnTo>
                <a:lnTo>
                  <a:pt x="35" y="41"/>
                </a:lnTo>
                <a:lnTo>
                  <a:pt x="29" y="38"/>
                </a:lnTo>
                <a:lnTo>
                  <a:pt x="26" y="35"/>
                </a:lnTo>
                <a:lnTo>
                  <a:pt x="21" y="30"/>
                </a:lnTo>
                <a:lnTo>
                  <a:pt x="12" y="27"/>
                </a:lnTo>
                <a:lnTo>
                  <a:pt x="4" y="23"/>
                </a:lnTo>
                <a:lnTo>
                  <a:pt x="0" y="18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34160" y="2013120"/>
            <a:ext cx="87480" cy="52200"/>
          </a:xfrm>
          <a:custGeom>
            <a:avLst/>
            <a:gdLst/>
            <a:ahLst/>
            <a:rect l="l" t="t" r="r" b="b"/>
            <a:pathLst>
              <a:path w="110" h="65">
                <a:moveTo>
                  <a:pt x="0" y="28"/>
                </a:moveTo>
                <a:lnTo>
                  <a:pt x="2" y="23"/>
                </a:lnTo>
                <a:lnTo>
                  <a:pt x="3" y="17"/>
                </a:lnTo>
                <a:lnTo>
                  <a:pt x="7" y="12"/>
                </a:lnTo>
                <a:lnTo>
                  <a:pt x="13" y="8"/>
                </a:lnTo>
                <a:lnTo>
                  <a:pt x="18" y="4"/>
                </a:lnTo>
                <a:lnTo>
                  <a:pt x="27" y="2"/>
                </a:lnTo>
                <a:lnTo>
                  <a:pt x="34" y="0"/>
                </a:lnTo>
                <a:lnTo>
                  <a:pt x="42" y="0"/>
                </a:lnTo>
                <a:lnTo>
                  <a:pt x="52" y="1"/>
                </a:lnTo>
                <a:lnTo>
                  <a:pt x="63" y="5"/>
                </a:lnTo>
                <a:lnTo>
                  <a:pt x="75" y="11"/>
                </a:lnTo>
                <a:lnTo>
                  <a:pt x="84" y="18"/>
                </a:lnTo>
                <a:lnTo>
                  <a:pt x="94" y="25"/>
                </a:lnTo>
                <a:lnTo>
                  <a:pt x="103" y="33"/>
                </a:lnTo>
                <a:lnTo>
                  <a:pt x="108" y="41"/>
                </a:lnTo>
                <a:lnTo>
                  <a:pt x="110" y="47"/>
                </a:lnTo>
                <a:lnTo>
                  <a:pt x="107" y="53"/>
                </a:lnTo>
                <a:lnTo>
                  <a:pt x="100" y="57"/>
                </a:lnTo>
                <a:lnTo>
                  <a:pt x="90" y="62"/>
                </a:lnTo>
                <a:lnTo>
                  <a:pt x="79" y="64"/>
                </a:lnTo>
                <a:lnTo>
                  <a:pt x="66" y="65"/>
                </a:lnTo>
                <a:lnTo>
                  <a:pt x="56" y="64"/>
                </a:lnTo>
                <a:lnTo>
                  <a:pt x="47" y="62"/>
                </a:lnTo>
                <a:lnTo>
                  <a:pt x="42" y="56"/>
                </a:lnTo>
                <a:lnTo>
                  <a:pt x="39" y="50"/>
                </a:lnTo>
                <a:lnTo>
                  <a:pt x="34" y="47"/>
                </a:lnTo>
                <a:lnTo>
                  <a:pt x="27" y="45"/>
                </a:lnTo>
                <a:lnTo>
                  <a:pt x="20" y="42"/>
                </a:lnTo>
                <a:lnTo>
                  <a:pt x="11" y="40"/>
                </a:lnTo>
                <a:lnTo>
                  <a:pt x="6" y="37"/>
                </a:lnTo>
                <a:lnTo>
                  <a:pt x="2" y="33"/>
                </a:lnTo>
                <a:lnTo>
                  <a:pt x="0" y="28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18240" y="1994040"/>
            <a:ext cx="44640" cy="29880"/>
          </a:xfrm>
          <a:custGeom>
            <a:avLst/>
            <a:gdLst/>
            <a:ahLst/>
            <a:rect l="l" t="t" r="r" b="b"/>
            <a:pathLst>
              <a:path w="56" h="37">
                <a:moveTo>
                  <a:pt x="0" y="17"/>
                </a:moveTo>
                <a:lnTo>
                  <a:pt x="1" y="10"/>
                </a:lnTo>
                <a:lnTo>
                  <a:pt x="7" y="5"/>
                </a:lnTo>
                <a:lnTo>
                  <a:pt x="14" y="2"/>
                </a:lnTo>
                <a:lnTo>
                  <a:pt x="22" y="0"/>
                </a:lnTo>
                <a:lnTo>
                  <a:pt x="32" y="4"/>
                </a:lnTo>
                <a:lnTo>
                  <a:pt x="44" y="11"/>
                </a:lnTo>
                <a:lnTo>
                  <a:pt x="52" y="20"/>
                </a:lnTo>
                <a:lnTo>
                  <a:pt x="56" y="28"/>
                </a:lnTo>
                <a:lnTo>
                  <a:pt x="52" y="34"/>
                </a:lnTo>
                <a:lnTo>
                  <a:pt x="41" y="37"/>
                </a:lnTo>
                <a:lnTo>
                  <a:pt x="30" y="37"/>
                </a:lnTo>
                <a:lnTo>
                  <a:pt x="22" y="33"/>
                </a:lnTo>
                <a:lnTo>
                  <a:pt x="17" y="28"/>
                </a:lnTo>
                <a:lnTo>
                  <a:pt x="10" y="25"/>
                </a:lnTo>
                <a:lnTo>
                  <a:pt x="3" y="21"/>
                </a:lnTo>
                <a:lnTo>
                  <a:pt x="0" y="17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961320" y="2038320"/>
            <a:ext cx="63360" cy="47520"/>
          </a:xfrm>
          <a:custGeom>
            <a:avLst/>
            <a:gdLst/>
            <a:ahLst/>
            <a:rect l="l" t="t" r="r" b="b"/>
            <a:pathLst>
              <a:path w="80" h="61">
                <a:moveTo>
                  <a:pt x="0" y="14"/>
                </a:moveTo>
                <a:lnTo>
                  <a:pt x="3" y="8"/>
                </a:lnTo>
                <a:lnTo>
                  <a:pt x="9" y="4"/>
                </a:lnTo>
                <a:lnTo>
                  <a:pt x="17" y="2"/>
                </a:lnTo>
                <a:lnTo>
                  <a:pt x="28" y="1"/>
                </a:lnTo>
                <a:lnTo>
                  <a:pt x="40" y="0"/>
                </a:lnTo>
                <a:lnTo>
                  <a:pt x="52" y="0"/>
                </a:lnTo>
                <a:lnTo>
                  <a:pt x="64" y="0"/>
                </a:lnTo>
                <a:lnTo>
                  <a:pt x="72" y="0"/>
                </a:lnTo>
                <a:lnTo>
                  <a:pt x="80" y="2"/>
                </a:lnTo>
                <a:lnTo>
                  <a:pt x="78" y="9"/>
                </a:lnTo>
                <a:lnTo>
                  <a:pt x="71" y="18"/>
                </a:lnTo>
                <a:lnTo>
                  <a:pt x="66" y="30"/>
                </a:lnTo>
                <a:lnTo>
                  <a:pt x="64" y="36"/>
                </a:lnTo>
                <a:lnTo>
                  <a:pt x="58" y="42"/>
                </a:lnTo>
                <a:lnTo>
                  <a:pt x="50" y="49"/>
                </a:lnTo>
                <a:lnTo>
                  <a:pt x="40" y="54"/>
                </a:lnTo>
                <a:lnTo>
                  <a:pt x="28" y="59"/>
                </a:lnTo>
                <a:lnTo>
                  <a:pt x="19" y="61"/>
                </a:lnTo>
                <a:lnTo>
                  <a:pt x="12" y="60"/>
                </a:lnTo>
                <a:lnTo>
                  <a:pt x="7" y="55"/>
                </a:lnTo>
                <a:lnTo>
                  <a:pt x="5" y="44"/>
                </a:lnTo>
                <a:lnTo>
                  <a:pt x="2" y="34"/>
                </a:lnTo>
                <a:lnTo>
                  <a:pt x="0" y="24"/>
                </a:lnTo>
                <a:lnTo>
                  <a:pt x="0" y="14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35680" y="2066760"/>
            <a:ext cx="50760" cy="39960"/>
          </a:xfrm>
          <a:custGeom>
            <a:avLst/>
            <a:gdLst/>
            <a:ahLst/>
            <a:rect l="l" t="t" r="r" b="b"/>
            <a:pathLst>
              <a:path w="63" h="48">
                <a:moveTo>
                  <a:pt x="0" y="22"/>
                </a:moveTo>
                <a:lnTo>
                  <a:pt x="1" y="13"/>
                </a:lnTo>
                <a:lnTo>
                  <a:pt x="7" y="7"/>
                </a:lnTo>
                <a:lnTo>
                  <a:pt x="15" y="2"/>
                </a:lnTo>
                <a:lnTo>
                  <a:pt x="25" y="0"/>
                </a:lnTo>
                <a:lnTo>
                  <a:pt x="37" y="3"/>
                </a:lnTo>
                <a:lnTo>
                  <a:pt x="49" y="13"/>
                </a:lnTo>
                <a:lnTo>
                  <a:pt x="59" y="25"/>
                </a:lnTo>
                <a:lnTo>
                  <a:pt x="63" y="35"/>
                </a:lnTo>
                <a:lnTo>
                  <a:pt x="58" y="43"/>
                </a:lnTo>
                <a:lnTo>
                  <a:pt x="45" y="48"/>
                </a:lnTo>
                <a:lnTo>
                  <a:pt x="32" y="48"/>
                </a:lnTo>
                <a:lnTo>
                  <a:pt x="25" y="42"/>
                </a:lnTo>
                <a:lnTo>
                  <a:pt x="20" y="35"/>
                </a:lnTo>
                <a:lnTo>
                  <a:pt x="11" y="32"/>
                </a:lnTo>
                <a:lnTo>
                  <a:pt x="3" y="27"/>
                </a:lnTo>
                <a:lnTo>
                  <a:pt x="0" y="22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35880" y="2101680"/>
            <a:ext cx="39600" cy="38160"/>
          </a:xfrm>
          <a:custGeom>
            <a:avLst/>
            <a:gdLst/>
            <a:ahLst/>
            <a:rect l="l" t="t" r="r" b="b"/>
            <a:pathLst>
              <a:path w="51" h="50">
                <a:moveTo>
                  <a:pt x="0" y="22"/>
                </a:moveTo>
                <a:lnTo>
                  <a:pt x="1" y="13"/>
                </a:lnTo>
                <a:lnTo>
                  <a:pt x="6" y="6"/>
                </a:lnTo>
                <a:lnTo>
                  <a:pt x="11" y="1"/>
                </a:lnTo>
                <a:lnTo>
                  <a:pt x="20" y="0"/>
                </a:lnTo>
                <a:lnTo>
                  <a:pt x="30" y="4"/>
                </a:lnTo>
                <a:lnTo>
                  <a:pt x="39" y="14"/>
                </a:lnTo>
                <a:lnTo>
                  <a:pt x="48" y="26"/>
                </a:lnTo>
                <a:lnTo>
                  <a:pt x="51" y="36"/>
                </a:lnTo>
                <a:lnTo>
                  <a:pt x="46" y="44"/>
                </a:lnTo>
                <a:lnTo>
                  <a:pt x="37" y="50"/>
                </a:lnTo>
                <a:lnTo>
                  <a:pt x="25" y="50"/>
                </a:lnTo>
                <a:lnTo>
                  <a:pt x="20" y="43"/>
                </a:lnTo>
                <a:lnTo>
                  <a:pt x="16" y="36"/>
                </a:lnTo>
                <a:lnTo>
                  <a:pt x="9" y="33"/>
                </a:lnTo>
                <a:lnTo>
                  <a:pt x="3" y="28"/>
                </a:lnTo>
                <a:lnTo>
                  <a:pt x="0" y="22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941480"/>
            <a:ext cx="28440" cy="41400"/>
          </a:xfrm>
          <a:custGeom>
            <a:avLst/>
            <a:gdLst/>
            <a:ahLst/>
            <a:rect l="l" t="t" r="r" b="b"/>
            <a:pathLst>
              <a:path w="35" h="52">
                <a:moveTo>
                  <a:pt x="0" y="23"/>
                </a:moveTo>
                <a:lnTo>
                  <a:pt x="2" y="14"/>
                </a:lnTo>
                <a:lnTo>
                  <a:pt x="4" y="7"/>
                </a:lnTo>
                <a:lnTo>
                  <a:pt x="7" y="2"/>
                </a:lnTo>
                <a:lnTo>
                  <a:pt x="13" y="0"/>
                </a:lnTo>
                <a:lnTo>
                  <a:pt x="20" y="4"/>
                </a:lnTo>
                <a:lnTo>
                  <a:pt x="27" y="14"/>
                </a:lnTo>
                <a:lnTo>
                  <a:pt x="32" y="26"/>
                </a:lnTo>
                <a:lnTo>
                  <a:pt x="35" y="38"/>
                </a:lnTo>
                <a:lnTo>
                  <a:pt x="32" y="46"/>
                </a:lnTo>
                <a:lnTo>
                  <a:pt x="25" y="52"/>
                </a:lnTo>
                <a:lnTo>
                  <a:pt x="17" y="52"/>
                </a:lnTo>
                <a:lnTo>
                  <a:pt x="13" y="45"/>
                </a:lnTo>
                <a:lnTo>
                  <a:pt x="10" y="38"/>
                </a:lnTo>
                <a:lnTo>
                  <a:pt x="6" y="33"/>
                </a:lnTo>
                <a:lnTo>
                  <a:pt x="2" y="30"/>
                </a:lnTo>
                <a:lnTo>
                  <a:pt x="0" y="23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29480" y="1897200"/>
            <a:ext cx="41040" cy="37800"/>
          </a:xfrm>
          <a:custGeom>
            <a:avLst/>
            <a:gdLst/>
            <a:ahLst/>
            <a:rect l="l" t="t" r="r" b="b"/>
            <a:pathLst>
              <a:path w="52" h="49">
                <a:moveTo>
                  <a:pt x="0" y="21"/>
                </a:moveTo>
                <a:lnTo>
                  <a:pt x="2" y="13"/>
                </a:lnTo>
                <a:lnTo>
                  <a:pt x="6" y="6"/>
                </a:lnTo>
                <a:lnTo>
                  <a:pt x="13" y="1"/>
                </a:lnTo>
                <a:lnTo>
                  <a:pt x="20" y="0"/>
                </a:lnTo>
                <a:lnTo>
                  <a:pt x="30" y="4"/>
                </a:lnTo>
                <a:lnTo>
                  <a:pt x="41" y="14"/>
                </a:lnTo>
                <a:lnTo>
                  <a:pt x="49" y="26"/>
                </a:lnTo>
                <a:lnTo>
                  <a:pt x="52" y="36"/>
                </a:lnTo>
                <a:lnTo>
                  <a:pt x="48" y="44"/>
                </a:lnTo>
                <a:lnTo>
                  <a:pt x="37" y="49"/>
                </a:lnTo>
                <a:lnTo>
                  <a:pt x="25" y="49"/>
                </a:lnTo>
                <a:lnTo>
                  <a:pt x="20" y="42"/>
                </a:lnTo>
                <a:lnTo>
                  <a:pt x="16" y="35"/>
                </a:lnTo>
                <a:lnTo>
                  <a:pt x="10" y="31"/>
                </a:lnTo>
                <a:lnTo>
                  <a:pt x="3" y="28"/>
                </a:lnTo>
                <a:lnTo>
                  <a:pt x="0" y="21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2240" y="1557360"/>
            <a:ext cx="252720" cy="411120"/>
          </a:xfrm>
          <a:custGeom>
            <a:avLst/>
            <a:gdLst/>
            <a:ahLst/>
            <a:rect l="l" t="t" r="r" b="b"/>
            <a:pathLst>
              <a:path w="319" h="518">
                <a:moveTo>
                  <a:pt x="102" y="306"/>
                </a:moveTo>
                <a:lnTo>
                  <a:pt x="6" y="80"/>
                </a:lnTo>
                <a:lnTo>
                  <a:pt x="0" y="17"/>
                </a:lnTo>
                <a:lnTo>
                  <a:pt x="34" y="0"/>
                </a:lnTo>
                <a:lnTo>
                  <a:pt x="103" y="37"/>
                </a:lnTo>
                <a:lnTo>
                  <a:pt x="319" y="476"/>
                </a:lnTo>
                <a:lnTo>
                  <a:pt x="210" y="518"/>
                </a:lnTo>
                <a:lnTo>
                  <a:pt x="102" y="3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99240" y="1542960"/>
            <a:ext cx="277920" cy="392040"/>
          </a:xfrm>
          <a:custGeom>
            <a:avLst/>
            <a:gdLst/>
            <a:ahLst/>
            <a:rect l="l" t="t" r="r" b="b"/>
            <a:pathLst>
              <a:path w="351" h="495">
                <a:moveTo>
                  <a:pt x="243" y="286"/>
                </a:moveTo>
                <a:lnTo>
                  <a:pt x="135" y="58"/>
                </a:lnTo>
                <a:lnTo>
                  <a:pt x="55" y="0"/>
                </a:lnTo>
                <a:lnTo>
                  <a:pt x="0" y="19"/>
                </a:lnTo>
                <a:lnTo>
                  <a:pt x="69" y="56"/>
                </a:lnTo>
                <a:lnTo>
                  <a:pt x="285" y="495"/>
                </a:lnTo>
                <a:lnTo>
                  <a:pt x="351" y="478"/>
                </a:lnTo>
                <a:lnTo>
                  <a:pt x="243" y="286"/>
                </a:lnTo>
                <a:close/>
              </a:path>
            </a:pathLst>
          </a:custGeom>
          <a:solidFill>
            <a:srgbClr val="e5e5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3200" y="1862280"/>
            <a:ext cx="247320" cy="293400"/>
          </a:xfrm>
          <a:custGeom>
            <a:avLst/>
            <a:gdLst/>
            <a:ahLst/>
            <a:rect l="l" t="t" r="r" b="b"/>
            <a:pathLst>
              <a:path w="314" h="368">
                <a:moveTo>
                  <a:pt x="0" y="40"/>
                </a:moveTo>
                <a:lnTo>
                  <a:pt x="122" y="0"/>
                </a:lnTo>
                <a:lnTo>
                  <a:pt x="314" y="334"/>
                </a:lnTo>
                <a:lnTo>
                  <a:pt x="176" y="368"/>
                </a:lnTo>
                <a:lnTo>
                  <a:pt x="0" y="40"/>
                </a:lnTo>
                <a:close/>
              </a:path>
            </a:pathLst>
          </a:custGeom>
          <a:solidFill>
            <a:srgbClr val="f2e5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90040" y="1824120"/>
            <a:ext cx="195120" cy="303120"/>
          </a:xfrm>
          <a:custGeom>
            <a:avLst/>
            <a:gdLst/>
            <a:ahLst/>
            <a:rect l="l" t="t" r="r" b="b"/>
            <a:pathLst>
              <a:path w="248" h="383">
                <a:moveTo>
                  <a:pt x="54" y="0"/>
                </a:moveTo>
                <a:lnTo>
                  <a:pt x="0" y="49"/>
                </a:lnTo>
                <a:lnTo>
                  <a:pt x="192" y="383"/>
                </a:lnTo>
                <a:lnTo>
                  <a:pt x="248" y="329"/>
                </a:lnTo>
                <a:lnTo>
                  <a:pt x="54" y="0"/>
                </a:lnTo>
                <a:close/>
              </a:path>
            </a:pathLst>
          </a:custGeom>
          <a:solidFill>
            <a:srgbClr val="e2c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59760" y="961920"/>
            <a:ext cx="415800" cy="360360"/>
          </a:xfrm>
          <a:custGeom>
            <a:avLst/>
            <a:gdLst/>
            <a:ahLst/>
            <a:rect l="l" t="t" r="r" b="b"/>
            <a:pathLst>
              <a:path w="524" h="454">
                <a:moveTo>
                  <a:pt x="219" y="198"/>
                </a:moveTo>
                <a:lnTo>
                  <a:pt x="233" y="187"/>
                </a:lnTo>
                <a:lnTo>
                  <a:pt x="246" y="175"/>
                </a:lnTo>
                <a:lnTo>
                  <a:pt x="260" y="163"/>
                </a:lnTo>
                <a:lnTo>
                  <a:pt x="273" y="151"/>
                </a:lnTo>
                <a:lnTo>
                  <a:pt x="285" y="138"/>
                </a:lnTo>
                <a:lnTo>
                  <a:pt x="299" y="124"/>
                </a:lnTo>
                <a:lnTo>
                  <a:pt x="312" y="109"/>
                </a:lnTo>
                <a:lnTo>
                  <a:pt x="326" y="94"/>
                </a:lnTo>
                <a:lnTo>
                  <a:pt x="333" y="76"/>
                </a:lnTo>
                <a:lnTo>
                  <a:pt x="330" y="54"/>
                </a:lnTo>
                <a:lnTo>
                  <a:pt x="320" y="39"/>
                </a:lnTo>
                <a:lnTo>
                  <a:pt x="306" y="38"/>
                </a:lnTo>
                <a:lnTo>
                  <a:pt x="291" y="49"/>
                </a:lnTo>
                <a:lnTo>
                  <a:pt x="278" y="62"/>
                </a:lnTo>
                <a:lnTo>
                  <a:pt x="271" y="76"/>
                </a:lnTo>
                <a:lnTo>
                  <a:pt x="266" y="91"/>
                </a:lnTo>
                <a:lnTo>
                  <a:pt x="261" y="107"/>
                </a:lnTo>
                <a:lnTo>
                  <a:pt x="257" y="123"/>
                </a:lnTo>
                <a:lnTo>
                  <a:pt x="251" y="140"/>
                </a:lnTo>
                <a:lnTo>
                  <a:pt x="243" y="158"/>
                </a:lnTo>
                <a:lnTo>
                  <a:pt x="237" y="168"/>
                </a:lnTo>
                <a:lnTo>
                  <a:pt x="232" y="177"/>
                </a:lnTo>
                <a:lnTo>
                  <a:pt x="225" y="188"/>
                </a:lnTo>
                <a:lnTo>
                  <a:pt x="219" y="198"/>
                </a:lnTo>
                <a:close/>
                <a:moveTo>
                  <a:pt x="15" y="304"/>
                </a:moveTo>
                <a:lnTo>
                  <a:pt x="34" y="298"/>
                </a:lnTo>
                <a:lnTo>
                  <a:pt x="52" y="291"/>
                </a:lnTo>
                <a:lnTo>
                  <a:pt x="69" y="284"/>
                </a:lnTo>
                <a:lnTo>
                  <a:pt x="86" y="278"/>
                </a:lnTo>
                <a:lnTo>
                  <a:pt x="101" y="271"/>
                </a:lnTo>
                <a:lnTo>
                  <a:pt x="117" y="264"/>
                </a:lnTo>
                <a:lnTo>
                  <a:pt x="131" y="257"/>
                </a:lnTo>
                <a:lnTo>
                  <a:pt x="145" y="249"/>
                </a:lnTo>
                <a:lnTo>
                  <a:pt x="150" y="235"/>
                </a:lnTo>
                <a:lnTo>
                  <a:pt x="156" y="221"/>
                </a:lnTo>
                <a:lnTo>
                  <a:pt x="163" y="208"/>
                </a:lnTo>
                <a:lnTo>
                  <a:pt x="170" y="195"/>
                </a:lnTo>
                <a:lnTo>
                  <a:pt x="176" y="181"/>
                </a:lnTo>
                <a:lnTo>
                  <a:pt x="184" y="167"/>
                </a:lnTo>
                <a:lnTo>
                  <a:pt x="191" y="153"/>
                </a:lnTo>
                <a:lnTo>
                  <a:pt x="198" y="140"/>
                </a:lnTo>
                <a:lnTo>
                  <a:pt x="208" y="121"/>
                </a:lnTo>
                <a:lnTo>
                  <a:pt x="215" y="101"/>
                </a:lnTo>
                <a:lnTo>
                  <a:pt x="222" y="83"/>
                </a:lnTo>
                <a:lnTo>
                  <a:pt x="228" y="64"/>
                </a:lnTo>
                <a:lnTo>
                  <a:pt x="235" y="48"/>
                </a:lnTo>
                <a:lnTo>
                  <a:pt x="244" y="32"/>
                </a:lnTo>
                <a:lnTo>
                  <a:pt x="259" y="17"/>
                </a:lnTo>
                <a:lnTo>
                  <a:pt x="278" y="5"/>
                </a:lnTo>
                <a:lnTo>
                  <a:pt x="298" y="0"/>
                </a:lnTo>
                <a:lnTo>
                  <a:pt x="318" y="5"/>
                </a:lnTo>
                <a:lnTo>
                  <a:pt x="337" y="17"/>
                </a:lnTo>
                <a:lnTo>
                  <a:pt x="354" y="34"/>
                </a:lnTo>
                <a:lnTo>
                  <a:pt x="367" y="56"/>
                </a:lnTo>
                <a:lnTo>
                  <a:pt x="374" y="78"/>
                </a:lnTo>
                <a:lnTo>
                  <a:pt x="374" y="99"/>
                </a:lnTo>
                <a:lnTo>
                  <a:pt x="365" y="117"/>
                </a:lnTo>
                <a:lnTo>
                  <a:pt x="343" y="142"/>
                </a:lnTo>
                <a:lnTo>
                  <a:pt x="322" y="166"/>
                </a:lnTo>
                <a:lnTo>
                  <a:pt x="299" y="187"/>
                </a:lnTo>
                <a:lnTo>
                  <a:pt x="278" y="207"/>
                </a:lnTo>
                <a:lnTo>
                  <a:pt x="256" y="227"/>
                </a:lnTo>
                <a:lnTo>
                  <a:pt x="232" y="244"/>
                </a:lnTo>
                <a:lnTo>
                  <a:pt x="208" y="260"/>
                </a:lnTo>
                <a:lnTo>
                  <a:pt x="183" y="276"/>
                </a:lnTo>
                <a:lnTo>
                  <a:pt x="177" y="296"/>
                </a:lnTo>
                <a:lnTo>
                  <a:pt x="173" y="316"/>
                </a:lnTo>
                <a:lnTo>
                  <a:pt x="173" y="334"/>
                </a:lnTo>
                <a:lnTo>
                  <a:pt x="174" y="351"/>
                </a:lnTo>
                <a:lnTo>
                  <a:pt x="180" y="369"/>
                </a:lnTo>
                <a:lnTo>
                  <a:pt x="190" y="384"/>
                </a:lnTo>
                <a:lnTo>
                  <a:pt x="204" y="397"/>
                </a:lnTo>
                <a:lnTo>
                  <a:pt x="223" y="410"/>
                </a:lnTo>
                <a:lnTo>
                  <a:pt x="250" y="417"/>
                </a:lnTo>
                <a:lnTo>
                  <a:pt x="277" y="412"/>
                </a:lnTo>
                <a:lnTo>
                  <a:pt x="303" y="397"/>
                </a:lnTo>
                <a:lnTo>
                  <a:pt x="326" y="377"/>
                </a:lnTo>
                <a:lnTo>
                  <a:pt x="346" y="351"/>
                </a:lnTo>
                <a:lnTo>
                  <a:pt x="357" y="324"/>
                </a:lnTo>
                <a:lnTo>
                  <a:pt x="360" y="296"/>
                </a:lnTo>
                <a:lnTo>
                  <a:pt x="353" y="273"/>
                </a:lnTo>
                <a:lnTo>
                  <a:pt x="344" y="268"/>
                </a:lnTo>
                <a:lnTo>
                  <a:pt x="340" y="261"/>
                </a:lnTo>
                <a:lnTo>
                  <a:pt x="337" y="253"/>
                </a:lnTo>
                <a:lnTo>
                  <a:pt x="340" y="244"/>
                </a:lnTo>
                <a:lnTo>
                  <a:pt x="347" y="233"/>
                </a:lnTo>
                <a:lnTo>
                  <a:pt x="357" y="227"/>
                </a:lnTo>
                <a:lnTo>
                  <a:pt x="370" y="228"/>
                </a:lnTo>
                <a:lnTo>
                  <a:pt x="381" y="236"/>
                </a:lnTo>
                <a:lnTo>
                  <a:pt x="388" y="243"/>
                </a:lnTo>
                <a:lnTo>
                  <a:pt x="393" y="251"/>
                </a:lnTo>
                <a:lnTo>
                  <a:pt x="398" y="258"/>
                </a:lnTo>
                <a:lnTo>
                  <a:pt x="400" y="266"/>
                </a:lnTo>
                <a:lnTo>
                  <a:pt x="410" y="264"/>
                </a:lnTo>
                <a:lnTo>
                  <a:pt x="420" y="259"/>
                </a:lnTo>
                <a:lnTo>
                  <a:pt x="431" y="254"/>
                </a:lnTo>
                <a:lnTo>
                  <a:pt x="443" y="249"/>
                </a:lnTo>
                <a:lnTo>
                  <a:pt x="454" y="242"/>
                </a:lnTo>
                <a:lnTo>
                  <a:pt x="465" y="235"/>
                </a:lnTo>
                <a:lnTo>
                  <a:pt x="474" y="228"/>
                </a:lnTo>
                <a:lnTo>
                  <a:pt x="481" y="221"/>
                </a:lnTo>
                <a:lnTo>
                  <a:pt x="489" y="215"/>
                </a:lnTo>
                <a:lnTo>
                  <a:pt x="497" y="212"/>
                </a:lnTo>
                <a:lnTo>
                  <a:pt x="506" y="213"/>
                </a:lnTo>
                <a:lnTo>
                  <a:pt x="514" y="216"/>
                </a:lnTo>
                <a:lnTo>
                  <a:pt x="521" y="221"/>
                </a:lnTo>
                <a:lnTo>
                  <a:pt x="524" y="228"/>
                </a:lnTo>
                <a:lnTo>
                  <a:pt x="524" y="236"/>
                </a:lnTo>
                <a:lnTo>
                  <a:pt x="520" y="244"/>
                </a:lnTo>
                <a:lnTo>
                  <a:pt x="510" y="252"/>
                </a:lnTo>
                <a:lnTo>
                  <a:pt x="499" y="260"/>
                </a:lnTo>
                <a:lnTo>
                  <a:pt x="485" y="267"/>
                </a:lnTo>
                <a:lnTo>
                  <a:pt x="471" y="272"/>
                </a:lnTo>
                <a:lnTo>
                  <a:pt x="454" y="276"/>
                </a:lnTo>
                <a:lnTo>
                  <a:pt x="437" y="280"/>
                </a:lnTo>
                <a:lnTo>
                  <a:pt x="420" y="281"/>
                </a:lnTo>
                <a:lnTo>
                  <a:pt x="403" y="282"/>
                </a:lnTo>
                <a:lnTo>
                  <a:pt x="399" y="316"/>
                </a:lnTo>
                <a:lnTo>
                  <a:pt x="385" y="350"/>
                </a:lnTo>
                <a:lnTo>
                  <a:pt x="362" y="384"/>
                </a:lnTo>
                <a:lnTo>
                  <a:pt x="333" y="412"/>
                </a:lnTo>
                <a:lnTo>
                  <a:pt x="299" y="435"/>
                </a:lnTo>
                <a:lnTo>
                  <a:pt x="264" y="450"/>
                </a:lnTo>
                <a:lnTo>
                  <a:pt x="229" y="454"/>
                </a:lnTo>
                <a:lnTo>
                  <a:pt x="197" y="445"/>
                </a:lnTo>
                <a:lnTo>
                  <a:pt x="176" y="431"/>
                </a:lnTo>
                <a:lnTo>
                  <a:pt x="159" y="416"/>
                </a:lnTo>
                <a:lnTo>
                  <a:pt x="146" y="400"/>
                </a:lnTo>
                <a:lnTo>
                  <a:pt x="136" y="382"/>
                </a:lnTo>
                <a:lnTo>
                  <a:pt x="131" y="364"/>
                </a:lnTo>
                <a:lnTo>
                  <a:pt x="128" y="345"/>
                </a:lnTo>
                <a:lnTo>
                  <a:pt x="128" y="325"/>
                </a:lnTo>
                <a:lnTo>
                  <a:pt x="129" y="304"/>
                </a:lnTo>
                <a:lnTo>
                  <a:pt x="118" y="309"/>
                </a:lnTo>
                <a:lnTo>
                  <a:pt x="107" y="314"/>
                </a:lnTo>
                <a:lnTo>
                  <a:pt x="96" y="319"/>
                </a:lnTo>
                <a:lnTo>
                  <a:pt x="84" y="324"/>
                </a:lnTo>
                <a:lnTo>
                  <a:pt x="72" y="328"/>
                </a:lnTo>
                <a:lnTo>
                  <a:pt x="59" y="332"/>
                </a:lnTo>
                <a:lnTo>
                  <a:pt x="46" y="336"/>
                </a:lnTo>
                <a:lnTo>
                  <a:pt x="34" y="341"/>
                </a:lnTo>
                <a:lnTo>
                  <a:pt x="24" y="343"/>
                </a:lnTo>
                <a:lnTo>
                  <a:pt x="14" y="341"/>
                </a:lnTo>
                <a:lnTo>
                  <a:pt x="7" y="336"/>
                </a:lnTo>
                <a:lnTo>
                  <a:pt x="3" y="331"/>
                </a:lnTo>
                <a:lnTo>
                  <a:pt x="0" y="322"/>
                </a:lnTo>
                <a:lnTo>
                  <a:pt x="1" y="316"/>
                </a:lnTo>
                <a:lnTo>
                  <a:pt x="7" y="309"/>
                </a:lnTo>
                <a:lnTo>
                  <a:pt x="15" y="3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47640" y="4292640"/>
            <a:ext cx="67694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292929"/>
                </a:solidFill>
                <a:latin typeface="Comic Sans MS"/>
                <a:ea typeface="바탕"/>
              </a:rPr>
              <a:t>“</a:t>
            </a:r>
            <a:r>
              <a:rPr b="1" i="1" lang="it-IT" sz="2400" spc="-1" strike="noStrike">
                <a:solidFill>
                  <a:srgbClr val="292929"/>
                </a:solidFill>
                <a:latin typeface="Comic Sans MS"/>
                <a:ea typeface="바탕"/>
              </a:rPr>
              <a:t>Corso base per operatori delle residenze” </a:t>
            </a:r>
            <a:r>
              <a:rPr b="1" lang="it-IT" sz="4400" spc="-1" strike="noStrike">
                <a:solidFill>
                  <a:srgbClr val="29292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914400" y="0"/>
            <a:ext cx="8229240" cy="6858000"/>
            <a:chOff x="914400" y="0"/>
            <a:chExt cx="8229240" cy="6858000"/>
          </a:xfrm>
        </p:grpSpPr>
        <p:grpSp>
          <p:nvGrpSpPr>
            <p:cNvPr id="189" name=""/>
            <p:cNvGrpSpPr/>
            <p:nvPr/>
          </p:nvGrpSpPr>
          <p:grpSpPr>
            <a:xfrm>
              <a:off x="920160" y="1800"/>
              <a:ext cx="8217000" cy="6853680"/>
              <a:chOff x="920160" y="1800"/>
              <a:chExt cx="8217000" cy="685368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920160" y="1800"/>
                <a:ext cx="8217000" cy="368280"/>
                <a:chOff x="920160" y="1800"/>
                <a:chExt cx="8217000" cy="3682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975240" y="1800"/>
                  <a:ext cx="8105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ENTITA’ DELLE </a:t>
                  </a:r>
                  <a:r>
                    <a:rPr b="1" i="1" lang="en-US" sz="1400" spc="-1" strike="noStrike">
                      <a:solidFill>
                        <a:srgbClr val="008080"/>
                      </a:solidFill>
                      <a:latin typeface="Times New Roman"/>
                      <a:ea typeface="Times New Roman"/>
                    </a:rPr>
                    <a:t>PORZIONI STANDARD</a:t>
                  </a:r>
                  <a:r>
                    <a:rPr b="1" lang="en-US" sz="14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 NELL’ALIMENTAZIONE ITALIANA (</a:t>
                  </a:r>
                  <a:r>
                    <a:rPr b="1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Fonte INRAN 2003)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920160" y="1800"/>
                  <a:ext cx="8217000" cy="36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920160" y="370080"/>
                <a:ext cx="2054160" cy="343080"/>
                <a:chOff x="920160" y="370080"/>
                <a:chExt cx="2054160" cy="343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975240" y="370080"/>
                  <a:ext cx="194292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GRUPPO DI ALIMENTI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920160" y="370080"/>
                  <a:ext cx="205416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2974680" y="370080"/>
                <a:ext cx="2053440" cy="343080"/>
                <a:chOff x="2974680" y="370080"/>
                <a:chExt cx="2053440" cy="3430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3029760" y="370080"/>
                  <a:ext cx="194256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ALIMENTI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974680" y="370080"/>
                  <a:ext cx="20534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5028480" y="370080"/>
                <a:ext cx="2433240" cy="343080"/>
                <a:chOff x="5028480" y="370080"/>
                <a:chExt cx="2433240" cy="34308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084280" y="370080"/>
                  <a:ext cx="232200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PORZIONI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028480" y="370080"/>
                  <a:ext cx="24332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7462440" y="370080"/>
                <a:ext cx="1674720" cy="343080"/>
                <a:chOff x="7462440" y="370080"/>
                <a:chExt cx="1674720" cy="3430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7518240" y="370080"/>
                  <a:ext cx="156312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PESO (g)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462440" y="370080"/>
                  <a:ext cx="167472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920160" y="713520"/>
                <a:ext cx="2054160" cy="1487880"/>
                <a:chOff x="920160" y="713520"/>
                <a:chExt cx="2054160" cy="14878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975240" y="713520"/>
                  <a:ext cx="1942920" cy="148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CEREALI E TUBERI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920160" y="713520"/>
                  <a:ext cx="2054160" cy="148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2974680" y="713520"/>
                <a:ext cx="2053440" cy="266760"/>
                <a:chOff x="2974680" y="713520"/>
                <a:chExt cx="2053440" cy="26676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3029760" y="713520"/>
                  <a:ext cx="194256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Pane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974680" y="713520"/>
                  <a:ext cx="20534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5028480" y="713520"/>
                <a:ext cx="2433240" cy="266760"/>
                <a:chOff x="5028480" y="713520"/>
                <a:chExt cx="2433240" cy="26676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5084280" y="713520"/>
                  <a:ext cx="232200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 rosetta piccola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028480" y="713520"/>
                  <a:ext cx="24332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7462440" y="713520"/>
                <a:ext cx="1674720" cy="266760"/>
                <a:chOff x="7462440" y="713520"/>
                <a:chExt cx="1674720" cy="2667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7518240" y="713520"/>
                  <a:ext cx="156312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50 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462440" y="713520"/>
                  <a:ext cx="167472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2974680" y="980640"/>
                <a:ext cx="2053440" cy="343080"/>
                <a:chOff x="2974680" y="980640"/>
                <a:chExt cx="2053440" cy="34308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3029760" y="980640"/>
                  <a:ext cx="194256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Prodotti da forno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974680" y="980640"/>
                  <a:ext cx="20534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5028480" y="980640"/>
                <a:ext cx="2433240" cy="343080"/>
                <a:chOff x="5028480" y="980640"/>
                <a:chExt cx="2433240" cy="34308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5084280" y="980640"/>
                  <a:ext cx="232200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4 biscotti secchi/ 3 fette biscottate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028480" y="980640"/>
                  <a:ext cx="24332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7462440" y="980640"/>
                <a:ext cx="1674720" cy="343080"/>
                <a:chOff x="7462440" y="980640"/>
                <a:chExt cx="1674720" cy="3430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7518240" y="980640"/>
                  <a:ext cx="156312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462440" y="980640"/>
                  <a:ext cx="167472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2974680" y="1323720"/>
                <a:ext cx="2053440" cy="267120"/>
                <a:chOff x="2974680" y="1323720"/>
                <a:chExt cx="2053440" cy="26712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3029760" y="1323720"/>
                  <a:ext cx="1942560" cy="26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Pasta o riso (*)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2974680" y="1323720"/>
                  <a:ext cx="2053440" cy="26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5028480" y="1323720"/>
                <a:ext cx="2433240" cy="267120"/>
                <a:chOff x="5028480" y="1323720"/>
                <a:chExt cx="2433240" cy="26712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5084280" y="1323720"/>
                  <a:ext cx="2322000" cy="26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 porzione media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028480" y="1323720"/>
                  <a:ext cx="2433240" cy="26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7462440" y="1323720"/>
                <a:ext cx="1674720" cy="267120"/>
                <a:chOff x="7462440" y="1323720"/>
                <a:chExt cx="1674720" cy="2671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7518240" y="1323720"/>
                  <a:ext cx="1563120" cy="26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80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462440" y="1323720"/>
                  <a:ext cx="1674720" cy="26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2974680" y="1590840"/>
                <a:ext cx="2053440" cy="343080"/>
                <a:chOff x="2974680" y="1590840"/>
                <a:chExt cx="2053440" cy="3430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3029760" y="1590840"/>
                  <a:ext cx="194256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Pasta fresca all’uovo (*)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974680" y="1590840"/>
                  <a:ext cx="20534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5028480" y="1590840"/>
                <a:ext cx="2433240" cy="343080"/>
                <a:chOff x="5028480" y="1590840"/>
                <a:chExt cx="2433240" cy="34308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5084280" y="1590840"/>
                  <a:ext cx="232200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 porzione piccola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028480" y="1590840"/>
                  <a:ext cx="24332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7462440" y="1590840"/>
                <a:ext cx="1674720" cy="343080"/>
                <a:chOff x="7462440" y="1590840"/>
                <a:chExt cx="1674720" cy="34308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7518240" y="1590840"/>
                  <a:ext cx="156312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20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462440" y="1590840"/>
                  <a:ext cx="167472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2974680" y="1934280"/>
                <a:ext cx="2053440" cy="266760"/>
                <a:chOff x="2974680" y="1934280"/>
                <a:chExt cx="2053440" cy="2667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029760" y="1934280"/>
                  <a:ext cx="194256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Patate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974680" y="1934280"/>
                  <a:ext cx="20534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5028480" y="1934280"/>
                <a:ext cx="2433240" cy="266760"/>
                <a:chOff x="5028480" y="1934280"/>
                <a:chExt cx="2433240" cy="26676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5084280" y="1934280"/>
                  <a:ext cx="232200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2 patate piccole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028480" y="1934280"/>
                  <a:ext cx="24332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7462440" y="1934280"/>
                <a:ext cx="1674720" cy="266760"/>
                <a:chOff x="7462440" y="1934280"/>
                <a:chExt cx="1674720" cy="26676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7518240" y="1934280"/>
                  <a:ext cx="156312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200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462440" y="1934280"/>
                  <a:ext cx="167472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920160" y="2201400"/>
                <a:ext cx="2054160" cy="1029960"/>
                <a:chOff x="920160" y="2201400"/>
                <a:chExt cx="2054160" cy="10299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975240" y="2201400"/>
                  <a:ext cx="1942920" cy="10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ORTAGGI E FRUTTA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920160" y="2201400"/>
                  <a:ext cx="2054160" cy="102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2974680" y="2201400"/>
                <a:ext cx="2053440" cy="266760"/>
                <a:chOff x="2974680" y="2201400"/>
                <a:chExt cx="2053440" cy="26676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3029760" y="2201400"/>
                  <a:ext cx="194256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Insalate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974680" y="2201400"/>
                  <a:ext cx="20534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5028480" y="2201400"/>
                <a:ext cx="2433240" cy="266760"/>
                <a:chOff x="5028480" y="2201400"/>
                <a:chExt cx="2433240" cy="26676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5084280" y="2201400"/>
                  <a:ext cx="232200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 porzione media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028480" y="2201400"/>
                  <a:ext cx="24332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7462440" y="2201400"/>
                <a:ext cx="1674720" cy="266760"/>
                <a:chOff x="7462440" y="2201400"/>
                <a:chExt cx="1674720" cy="26676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7518240" y="2201400"/>
                  <a:ext cx="156312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462440" y="2201400"/>
                  <a:ext cx="167472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2974680" y="2468520"/>
                <a:ext cx="2053440" cy="266760"/>
                <a:chOff x="2974680" y="2468520"/>
                <a:chExt cx="2053440" cy="26676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3029760" y="2468520"/>
                  <a:ext cx="194256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Ortaggi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974680" y="2468520"/>
                  <a:ext cx="20534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5028480" y="2468520"/>
                <a:ext cx="2433240" cy="266760"/>
                <a:chOff x="5028480" y="2468520"/>
                <a:chExt cx="2433240" cy="26676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5084280" y="2468520"/>
                  <a:ext cx="232200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 finocchio/2 carciofi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028480" y="2468520"/>
                  <a:ext cx="24332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7462440" y="2468520"/>
                <a:ext cx="1674720" cy="266760"/>
                <a:chOff x="7462440" y="2468520"/>
                <a:chExt cx="1674720" cy="26676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7518240" y="2468520"/>
                  <a:ext cx="156312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250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7462440" y="2468520"/>
                  <a:ext cx="167472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2974680" y="2735640"/>
                <a:ext cx="2053440" cy="495720"/>
                <a:chOff x="2974680" y="2735640"/>
                <a:chExt cx="2053440" cy="4957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3029760" y="2735640"/>
                  <a:ext cx="1942560" cy="49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Frutta 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974680" y="2735640"/>
                  <a:ext cx="2053440" cy="49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5028480" y="2735640"/>
                <a:ext cx="2433240" cy="495720"/>
                <a:chOff x="5028480" y="2735640"/>
                <a:chExt cx="2433240" cy="49572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5084280" y="2735640"/>
                  <a:ext cx="2322000" cy="49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 frutto medio (</a:t>
                  </a:r>
                  <a:r>
                    <a:rPr b="0" lang="en-US" sz="10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arance, mele</a:t>
                  </a: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) o 2 frutti piccoli (</a:t>
                  </a:r>
                  <a:r>
                    <a:rPr b="0" lang="en-US" sz="10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albicocche, mandarini)</a:t>
                  </a:r>
                  <a:endParaRPr b="0" lang="en-US" sz="10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5028480" y="2735640"/>
                  <a:ext cx="2433240" cy="49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7462440" y="2735640"/>
                <a:ext cx="1674720" cy="495720"/>
                <a:chOff x="7462440" y="2735640"/>
                <a:chExt cx="1674720" cy="49572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7518240" y="2735640"/>
                  <a:ext cx="1563120" cy="49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50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462440" y="2735640"/>
                  <a:ext cx="1674720" cy="49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920160" y="3231360"/>
                <a:ext cx="2054160" cy="1678320"/>
                <a:chOff x="920160" y="3231360"/>
                <a:chExt cx="2054160" cy="167832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975240" y="3231360"/>
                  <a:ext cx="1942920" cy="167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CARNE, PESCE, UOVA, LEGUMI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920160" y="3231360"/>
                  <a:ext cx="2054160" cy="167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2974680" y="3231360"/>
                <a:ext cx="2053440" cy="266760"/>
                <a:chOff x="2974680" y="3231360"/>
                <a:chExt cx="2053440" cy="26676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3029760" y="3231360"/>
                  <a:ext cx="194256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Carne fresca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974680" y="3231360"/>
                  <a:ext cx="20534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5028480" y="3231360"/>
                <a:ext cx="2433240" cy="266760"/>
                <a:chOff x="5028480" y="3231360"/>
                <a:chExt cx="2433240" cy="26676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5084280" y="3231360"/>
                  <a:ext cx="232200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 fettina piccola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028480" y="3231360"/>
                  <a:ext cx="24332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7462440" y="3231360"/>
                <a:ext cx="1674720" cy="266760"/>
                <a:chOff x="7462440" y="3231360"/>
                <a:chExt cx="1674720" cy="26676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7518240" y="3231360"/>
                  <a:ext cx="156312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70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462440" y="3231360"/>
                  <a:ext cx="167472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2974680" y="3498480"/>
                <a:ext cx="2053440" cy="343080"/>
                <a:chOff x="2974680" y="3498480"/>
                <a:chExt cx="2053440" cy="3430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3029760" y="3498480"/>
                  <a:ext cx="194256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Carne stagionata (salumi)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974680" y="3498480"/>
                  <a:ext cx="20534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5028480" y="3498480"/>
                <a:ext cx="2433240" cy="343080"/>
                <a:chOff x="5028480" y="3498480"/>
                <a:chExt cx="2433240" cy="3430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5084280" y="3498480"/>
                  <a:ext cx="232200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2-3 fette medie prosciutto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028480" y="3498480"/>
                  <a:ext cx="24332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7462440" y="3498480"/>
                <a:ext cx="1674720" cy="343080"/>
                <a:chOff x="7462440" y="3498480"/>
                <a:chExt cx="1674720" cy="3430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7518240" y="3498480"/>
                  <a:ext cx="156312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462440" y="3498480"/>
                  <a:ext cx="167472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2974680" y="3841560"/>
                <a:ext cx="2053440" cy="266760"/>
                <a:chOff x="2974680" y="3841560"/>
                <a:chExt cx="2053440" cy="26676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3029760" y="3841560"/>
                  <a:ext cx="194256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Pesce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974680" y="3841560"/>
                  <a:ext cx="20534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5028480" y="3841560"/>
                <a:ext cx="2433240" cy="266760"/>
                <a:chOff x="5028480" y="3841560"/>
                <a:chExt cx="2433240" cy="26676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5084280" y="3841560"/>
                  <a:ext cx="232200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 porzione piccola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028480" y="3841560"/>
                  <a:ext cx="24332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7462440" y="3841560"/>
                <a:ext cx="1674720" cy="266760"/>
                <a:chOff x="7462440" y="3841560"/>
                <a:chExt cx="1674720" cy="26676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7518240" y="3841560"/>
                  <a:ext cx="156312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00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462440" y="3841560"/>
                  <a:ext cx="167472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2974680" y="4108680"/>
                <a:ext cx="2053440" cy="266760"/>
                <a:chOff x="2974680" y="4108680"/>
                <a:chExt cx="2053440" cy="26676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3029760" y="4108680"/>
                  <a:ext cx="194256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Uova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974680" y="4108680"/>
                  <a:ext cx="20534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5028480" y="4108680"/>
                <a:ext cx="2433240" cy="266760"/>
                <a:chOff x="5028480" y="4108680"/>
                <a:chExt cx="2433240" cy="26676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5084280" y="4108680"/>
                  <a:ext cx="232200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 uovo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028480" y="4108680"/>
                  <a:ext cx="24332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7462440" y="4108680"/>
                <a:ext cx="1674720" cy="266760"/>
                <a:chOff x="7462440" y="4108680"/>
                <a:chExt cx="1674720" cy="26676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7518240" y="4108680"/>
                  <a:ext cx="156312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60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462440" y="4108680"/>
                  <a:ext cx="167472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2974680" y="4375800"/>
                <a:ext cx="2053440" cy="266760"/>
                <a:chOff x="2974680" y="4375800"/>
                <a:chExt cx="2053440" cy="26676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3029760" y="4375800"/>
                  <a:ext cx="194256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Legumi secchi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974680" y="4375800"/>
                  <a:ext cx="20534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5028480" y="4375800"/>
                <a:ext cx="2433240" cy="266760"/>
                <a:chOff x="5028480" y="4375800"/>
                <a:chExt cx="2433240" cy="26676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84280" y="4375800"/>
                  <a:ext cx="232200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 porzione media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028480" y="4375800"/>
                  <a:ext cx="24332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7462440" y="4375800"/>
                <a:ext cx="1674720" cy="266760"/>
                <a:chOff x="7462440" y="4375800"/>
                <a:chExt cx="1674720" cy="26676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7518240" y="4375800"/>
                  <a:ext cx="156312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30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462440" y="4375800"/>
                  <a:ext cx="167472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2974680" y="4642920"/>
                <a:ext cx="2053440" cy="266760"/>
                <a:chOff x="2974680" y="4642920"/>
                <a:chExt cx="2053440" cy="26676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3029760" y="4642920"/>
                  <a:ext cx="194256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Legumi freschi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974680" y="4642920"/>
                  <a:ext cx="20534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5028480" y="4642920"/>
                <a:ext cx="2433240" cy="266760"/>
                <a:chOff x="5028480" y="4642920"/>
                <a:chExt cx="2433240" cy="26676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5084280" y="4642920"/>
                  <a:ext cx="232200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 porzione media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028480" y="4642920"/>
                  <a:ext cx="24332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7462440" y="4642920"/>
                <a:ext cx="1674720" cy="266760"/>
                <a:chOff x="7462440" y="4642920"/>
                <a:chExt cx="1674720" cy="26676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7518240" y="4642920"/>
                  <a:ext cx="156312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80-120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7462440" y="4642920"/>
                  <a:ext cx="167472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920160" y="4910040"/>
                <a:ext cx="2054160" cy="1144440"/>
                <a:chOff x="920160" y="4910040"/>
                <a:chExt cx="2054160" cy="114444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975240" y="4910040"/>
                  <a:ext cx="1942920" cy="11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LATTE E DERIVATI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920160" y="4910040"/>
                  <a:ext cx="2054160" cy="114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2974680" y="4910040"/>
                <a:ext cx="2053440" cy="343080"/>
                <a:chOff x="2974680" y="4910040"/>
                <a:chExt cx="2053440" cy="34308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3029760" y="4910040"/>
                  <a:ext cx="194256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Latte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974680" y="4910040"/>
                  <a:ext cx="20534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5028480" y="4910040"/>
                <a:ext cx="2433240" cy="343080"/>
                <a:chOff x="5028480" y="4910040"/>
                <a:chExt cx="2433240" cy="34308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5084280" y="4910040"/>
                  <a:ext cx="232200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 bicchiere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5028480" y="4910040"/>
                  <a:ext cx="24332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7462440" y="4910040"/>
                <a:ext cx="1674720" cy="343080"/>
                <a:chOff x="7462440" y="4910040"/>
                <a:chExt cx="1674720" cy="34308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7518240" y="4910040"/>
                  <a:ext cx="156312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25 (un bicchiere)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7462440" y="4910040"/>
                  <a:ext cx="167472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2974680" y="5253480"/>
                <a:ext cx="2053440" cy="266760"/>
                <a:chOff x="2974680" y="5253480"/>
                <a:chExt cx="2053440" cy="26676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3029760" y="5253480"/>
                  <a:ext cx="194256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Yogurt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974680" y="5253480"/>
                  <a:ext cx="20534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5028480" y="5253480"/>
                <a:ext cx="2433240" cy="266760"/>
                <a:chOff x="5028480" y="5253480"/>
                <a:chExt cx="2433240" cy="26676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5084280" y="5253480"/>
                  <a:ext cx="232200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 confezione piccola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028480" y="5253480"/>
                  <a:ext cx="24332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7462440" y="5253480"/>
                <a:ext cx="1674720" cy="266760"/>
                <a:chOff x="7462440" y="5253480"/>
                <a:chExt cx="1674720" cy="26676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7518240" y="5253480"/>
                  <a:ext cx="156312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25 (un vasetto)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462440" y="5253480"/>
                  <a:ext cx="167472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2974680" y="5520600"/>
                <a:ext cx="2053440" cy="266760"/>
                <a:chOff x="2974680" y="5520600"/>
                <a:chExt cx="2053440" cy="26676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3029760" y="5520600"/>
                  <a:ext cx="194256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Formaggio fresco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974680" y="5520600"/>
                  <a:ext cx="20534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5028480" y="5520600"/>
                <a:ext cx="2433240" cy="266760"/>
                <a:chOff x="5028480" y="5520600"/>
                <a:chExt cx="2433240" cy="26676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5084280" y="5520600"/>
                  <a:ext cx="232200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 porzione media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5028480" y="5520600"/>
                  <a:ext cx="24332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7462440" y="5520600"/>
                <a:ext cx="1674720" cy="266760"/>
                <a:chOff x="7462440" y="5520600"/>
                <a:chExt cx="1674720" cy="26676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7518240" y="5520600"/>
                  <a:ext cx="156312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00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462440" y="5520600"/>
                  <a:ext cx="167472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2974680" y="5787720"/>
                <a:ext cx="2053440" cy="266760"/>
                <a:chOff x="2974680" y="5787720"/>
                <a:chExt cx="2053440" cy="26676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3029760" y="5787720"/>
                  <a:ext cx="194256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Formaggio stagionato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974680" y="5787720"/>
                  <a:ext cx="20534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028480" y="5787720"/>
                <a:ext cx="2433240" cy="266760"/>
                <a:chOff x="5028480" y="5787720"/>
                <a:chExt cx="2433240" cy="26676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5084280" y="5787720"/>
                  <a:ext cx="232200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 porzione media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028480" y="5787720"/>
                  <a:ext cx="24332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7462440" y="5787720"/>
                <a:ext cx="1674720" cy="266760"/>
                <a:chOff x="7462440" y="5787720"/>
                <a:chExt cx="1674720" cy="26676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7518240" y="5787720"/>
                  <a:ext cx="156312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462440" y="5787720"/>
                  <a:ext cx="167472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920160" y="6054480"/>
                <a:ext cx="2054160" cy="533880"/>
                <a:chOff x="920160" y="6054480"/>
                <a:chExt cx="2054160" cy="53388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975240" y="6054480"/>
                  <a:ext cx="1942920" cy="53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GRASSI (condimenti)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920160" y="6054480"/>
                  <a:ext cx="2054160" cy="53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2974680" y="6054480"/>
                <a:ext cx="2053440" cy="266760"/>
                <a:chOff x="2974680" y="6054480"/>
                <a:chExt cx="2053440" cy="26676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3029760" y="6054480"/>
                  <a:ext cx="194256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Olio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974680" y="6054480"/>
                  <a:ext cx="20534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5028480" y="6054480"/>
                <a:ext cx="2433240" cy="266760"/>
                <a:chOff x="5028480" y="6054480"/>
                <a:chExt cx="2433240" cy="26676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084280" y="6054480"/>
                  <a:ext cx="232200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 cucchiaio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028480" y="6054480"/>
                  <a:ext cx="24332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7462440" y="6054480"/>
                <a:ext cx="1674720" cy="266760"/>
                <a:chOff x="7462440" y="6054480"/>
                <a:chExt cx="1674720" cy="26676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7518240" y="6054480"/>
                  <a:ext cx="156312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462440" y="6054480"/>
                  <a:ext cx="167472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2974680" y="6321600"/>
                <a:ext cx="2053440" cy="266760"/>
                <a:chOff x="2974680" y="6321600"/>
                <a:chExt cx="2053440" cy="26676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3029760" y="6321600"/>
                  <a:ext cx="194256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Burro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974680" y="6321600"/>
                  <a:ext cx="20534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5028480" y="6321600"/>
                <a:ext cx="2433240" cy="266760"/>
                <a:chOff x="5028480" y="6321600"/>
                <a:chExt cx="2433240" cy="26676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5084280" y="6321600"/>
                  <a:ext cx="232200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 porzione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5028480" y="6321600"/>
                  <a:ext cx="24332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7462440" y="6321600"/>
                <a:ext cx="1674720" cy="266760"/>
                <a:chOff x="7462440" y="6321600"/>
                <a:chExt cx="1674720" cy="26676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7518240" y="6321600"/>
                  <a:ext cx="156312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462440" y="6321600"/>
                  <a:ext cx="167472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920160" y="6588720"/>
                <a:ext cx="8217000" cy="266760"/>
                <a:chOff x="920160" y="6588720"/>
                <a:chExt cx="8217000" cy="26676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975240" y="6588720"/>
                  <a:ext cx="810576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(*) </a:t>
                  </a:r>
                  <a:r>
                    <a:rPr b="1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in minestra metà porzione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920160" y="6588720"/>
                  <a:ext cx="821700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3" name=""/>
            <p:cNvSpPr/>
            <p:nvPr/>
          </p:nvSpPr>
          <p:spPr>
            <a:xfrm>
              <a:off x="914400" y="0"/>
              <a:ext cx="8229240" cy="6858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3240" y="228600"/>
            <a:ext cx="9144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Numero consigliato di porzioni (</a:t>
            </a:r>
            <a:r>
              <a:rPr b="1" lang="en-US" sz="1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fonte INRAN, 2003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447920" y="762120"/>
            <a:ext cx="7467480" cy="5486400"/>
            <a:chOff x="1447920" y="762120"/>
            <a:chExt cx="7467480" cy="5486400"/>
          </a:xfrm>
        </p:grpSpPr>
        <p:grpSp>
          <p:nvGrpSpPr>
            <p:cNvPr id="406" name=""/>
            <p:cNvGrpSpPr/>
            <p:nvPr/>
          </p:nvGrpSpPr>
          <p:grpSpPr>
            <a:xfrm>
              <a:off x="1452240" y="765720"/>
              <a:ext cx="7457760" cy="5478840"/>
              <a:chOff x="1452240" y="765720"/>
              <a:chExt cx="7457760" cy="5478840"/>
            </a:xfrm>
          </p:grpSpPr>
          <p:grpSp>
            <p:nvGrpSpPr>
              <p:cNvPr id="407" name=""/>
              <p:cNvGrpSpPr/>
              <p:nvPr/>
            </p:nvGrpSpPr>
            <p:grpSpPr>
              <a:xfrm>
                <a:off x="1452240" y="765720"/>
                <a:ext cx="3966120" cy="497880"/>
                <a:chOff x="1452240" y="765720"/>
                <a:chExt cx="3966120" cy="49788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1496160" y="765720"/>
                  <a:ext cx="387756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ALIMENTI/GRUPPI DI ALIMENTI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452240" y="765720"/>
                  <a:ext cx="39661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5418360" y="765720"/>
                <a:ext cx="1811520" cy="497880"/>
                <a:chOff x="5418360" y="765720"/>
                <a:chExt cx="1811520" cy="49788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5462640" y="765720"/>
                  <a:ext cx="172260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700 KCAL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5418360" y="765720"/>
                  <a:ext cx="18115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7229880" y="765720"/>
                <a:ext cx="1680120" cy="497880"/>
                <a:chOff x="7229880" y="765720"/>
                <a:chExt cx="1680120" cy="49788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7274160" y="765720"/>
                  <a:ext cx="159120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2100 KCAL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229880" y="765720"/>
                  <a:ext cx="16801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1452240" y="1263600"/>
                <a:ext cx="3966120" cy="497880"/>
                <a:chOff x="1452240" y="1263600"/>
                <a:chExt cx="3966120" cy="49788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1496160" y="1263600"/>
                  <a:ext cx="387756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Pane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1452240" y="1263600"/>
                  <a:ext cx="39661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5418360" y="1263600"/>
                <a:ext cx="1811520" cy="497880"/>
                <a:chOff x="5418360" y="1263600"/>
                <a:chExt cx="1811520" cy="49788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5462640" y="1263600"/>
                  <a:ext cx="172260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5418360" y="1263600"/>
                  <a:ext cx="18115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7229880" y="1263600"/>
                <a:ext cx="1680120" cy="497880"/>
                <a:chOff x="7229880" y="1263600"/>
                <a:chExt cx="1680120" cy="49788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7274160" y="1263600"/>
                  <a:ext cx="159120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229880" y="1263600"/>
                  <a:ext cx="16801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1452240" y="1761480"/>
                <a:ext cx="3966120" cy="498240"/>
                <a:chOff x="1452240" y="1761480"/>
                <a:chExt cx="3966120" cy="49824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1496160" y="1761480"/>
                  <a:ext cx="3877560" cy="49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Prodotti da forno 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452240" y="1761480"/>
                  <a:ext cx="3966120" cy="49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5418360" y="1761480"/>
                <a:ext cx="1811520" cy="498240"/>
                <a:chOff x="5418360" y="1761480"/>
                <a:chExt cx="1811520" cy="49824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5462640" y="1761480"/>
                  <a:ext cx="1722600" cy="49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5418360" y="1761480"/>
                  <a:ext cx="1811520" cy="49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7229880" y="1761480"/>
                <a:ext cx="1680120" cy="498240"/>
                <a:chOff x="7229880" y="1761480"/>
                <a:chExt cx="1680120" cy="49824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7274160" y="1761480"/>
                  <a:ext cx="1591200" cy="49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229880" y="1761480"/>
                  <a:ext cx="1680120" cy="49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1452240" y="2260080"/>
                <a:ext cx="3966120" cy="497880"/>
                <a:chOff x="1452240" y="2260080"/>
                <a:chExt cx="3966120" cy="49788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1496160" y="2260080"/>
                  <a:ext cx="387756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pasta/riso/pasta all’uovo fresca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1452240" y="2260080"/>
                  <a:ext cx="39661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5418360" y="2260080"/>
                <a:ext cx="1811520" cy="497880"/>
                <a:chOff x="5418360" y="2260080"/>
                <a:chExt cx="1811520" cy="49788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5462640" y="2260080"/>
                  <a:ext cx="172260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5418360" y="2260080"/>
                  <a:ext cx="18115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7229880" y="2260080"/>
                <a:ext cx="1680120" cy="497880"/>
                <a:chOff x="7229880" y="2260080"/>
                <a:chExt cx="1680120" cy="49788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7274160" y="2260080"/>
                  <a:ext cx="159120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229880" y="2260080"/>
                  <a:ext cx="16801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1452240" y="2757960"/>
                <a:ext cx="3966120" cy="497880"/>
                <a:chOff x="1452240" y="2757960"/>
                <a:chExt cx="3966120" cy="49788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1496160" y="2757960"/>
                  <a:ext cx="387756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Patate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1452240" y="2757960"/>
                  <a:ext cx="39661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5418360" y="2757960"/>
                <a:ext cx="1811520" cy="497880"/>
                <a:chOff x="5418360" y="2757960"/>
                <a:chExt cx="1811520" cy="49788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5462640" y="2757960"/>
                  <a:ext cx="172260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 (a settimana)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418360" y="2757960"/>
                  <a:ext cx="18115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7229880" y="2757960"/>
                <a:ext cx="1680120" cy="497880"/>
                <a:chOff x="7229880" y="2757960"/>
                <a:chExt cx="1680120" cy="49788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7274160" y="2757960"/>
                  <a:ext cx="159120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2 (a settimana)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229880" y="2757960"/>
                  <a:ext cx="16801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1452240" y="3255840"/>
                <a:ext cx="3966120" cy="497880"/>
                <a:chOff x="1452240" y="3255840"/>
                <a:chExt cx="3966120" cy="49788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1496160" y="3255840"/>
                  <a:ext cx="387756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Ortaggi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1452240" y="3255840"/>
                  <a:ext cx="39661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418360" y="3255840"/>
                <a:ext cx="1811520" cy="497880"/>
                <a:chOff x="5418360" y="3255840"/>
                <a:chExt cx="1811520" cy="49788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5462640" y="3255840"/>
                  <a:ext cx="172260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418360" y="3255840"/>
                  <a:ext cx="18115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7229880" y="3255840"/>
                <a:ext cx="1680120" cy="497880"/>
                <a:chOff x="7229880" y="3255840"/>
                <a:chExt cx="1680120" cy="49788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7274160" y="3255840"/>
                  <a:ext cx="159120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229880" y="3255840"/>
                  <a:ext cx="16801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1452240" y="3754080"/>
                <a:ext cx="3966120" cy="497880"/>
                <a:chOff x="1452240" y="3754080"/>
                <a:chExt cx="3966120" cy="49788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1496160" y="3754080"/>
                  <a:ext cx="387756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Frutta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452240" y="3754080"/>
                  <a:ext cx="39661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5418360" y="3754080"/>
                <a:ext cx="1811520" cy="497880"/>
                <a:chOff x="5418360" y="3754080"/>
                <a:chExt cx="1811520" cy="49788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5462640" y="3754080"/>
                  <a:ext cx="172260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5418360" y="3754080"/>
                  <a:ext cx="18115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7229880" y="3754080"/>
                <a:ext cx="1680120" cy="497880"/>
                <a:chOff x="7229880" y="3754080"/>
                <a:chExt cx="1680120" cy="49788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7274160" y="3754080"/>
                  <a:ext cx="159120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229880" y="3754080"/>
                  <a:ext cx="16801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1452240" y="4251960"/>
                <a:ext cx="3966120" cy="497880"/>
                <a:chOff x="1452240" y="4251960"/>
                <a:chExt cx="3966120" cy="49788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1496160" y="4251960"/>
                  <a:ext cx="387756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Carne, pesce, uova e legumi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1452240" y="4251960"/>
                  <a:ext cx="39661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5418360" y="4251960"/>
                <a:ext cx="1811520" cy="497880"/>
                <a:chOff x="5418360" y="4251960"/>
                <a:chExt cx="1811520" cy="49788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5462640" y="4251960"/>
                  <a:ext cx="172260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-2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418360" y="4251960"/>
                  <a:ext cx="18115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7229880" y="4251960"/>
                <a:ext cx="1680120" cy="497880"/>
                <a:chOff x="7229880" y="4251960"/>
                <a:chExt cx="1680120" cy="49788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7274160" y="4251960"/>
                  <a:ext cx="159120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229880" y="4251960"/>
                  <a:ext cx="16801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1452240" y="4750200"/>
                <a:ext cx="3966120" cy="497880"/>
                <a:chOff x="1452240" y="4750200"/>
                <a:chExt cx="3966120" cy="49788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1496160" y="4750200"/>
                  <a:ext cx="387756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Latte/yogurt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1452240" y="4750200"/>
                  <a:ext cx="39661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418360" y="4750200"/>
                <a:ext cx="1811520" cy="497880"/>
                <a:chOff x="5418360" y="4750200"/>
                <a:chExt cx="1811520" cy="49788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462640" y="4750200"/>
                  <a:ext cx="172260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418360" y="4750200"/>
                  <a:ext cx="18115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7229880" y="4750200"/>
                <a:ext cx="1680120" cy="497880"/>
                <a:chOff x="7229880" y="4750200"/>
                <a:chExt cx="1680120" cy="49788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7274160" y="4750200"/>
                  <a:ext cx="159120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7229880" y="4750200"/>
                  <a:ext cx="16801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1452240" y="5248080"/>
                <a:ext cx="3966120" cy="497880"/>
                <a:chOff x="1452240" y="5248080"/>
                <a:chExt cx="3966120" cy="49788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1496160" y="5248080"/>
                  <a:ext cx="387756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Formaggio fresco/ stagionato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452240" y="5248080"/>
                  <a:ext cx="39661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418360" y="5248080"/>
                <a:ext cx="1811520" cy="497880"/>
                <a:chOff x="5418360" y="5248080"/>
                <a:chExt cx="1811520" cy="49788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5462640" y="5248080"/>
                  <a:ext cx="172260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2 (a settimana)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418360" y="5248080"/>
                  <a:ext cx="18115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7229880" y="5248080"/>
                <a:ext cx="1680120" cy="497880"/>
                <a:chOff x="7229880" y="5248080"/>
                <a:chExt cx="1680120" cy="49788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7274160" y="5248080"/>
                  <a:ext cx="159120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3 (a settimana)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7229880" y="5248080"/>
                  <a:ext cx="16801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1452240" y="5746320"/>
                <a:ext cx="3966120" cy="498240"/>
                <a:chOff x="1452240" y="5746320"/>
                <a:chExt cx="3966120" cy="49824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1496160" y="5746320"/>
                  <a:ext cx="3877560" cy="49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Olio/burro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1452240" y="5746320"/>
                  <a:ext cx="3966120" cy="49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418360" y="5746320"/>
                <a:ext cx="1811520" cy="498240"/>
                <a:chOff x="5418360" y="5746320"/>
                <a:chExt cx="1811520" cy="49824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462640" y="5746320"/>
                  <a:ext cx="1722600" cy="49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418360" y="5746320"/>
                  <a:ext cx="1811520" cy="49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7229880" y="5746320"/>
                <a:ext cx="1680120" cy="498240"/>
                <a:chOff x="7229880" y="5746320"/>
                <a:chExt cx="1680120" cy="49824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7274160" y="5746320"/>
                  <a:ext cx="1591200" cy="49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7229880" y="5746320"/>
                  <a:ext cx="1680120" cy="49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6" name=""/>
            <p:cNvSpPr/>
            <p:nvPr/>
          </p:nvSpPr>
          <p:spPr>
            <a:xfrm>
              <a:off x="1447920" y="762120"/>
              <a:ext cx="7467480" cy="54864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11160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i="1" lang="it-IT" sz="2800" spc="-1" strike="noStrike">
                <a:solidFill>
                  <a:srgbClr val="292929"/>
                </a:solidFill>
                <a:latin typeface="Arial"/>
              </a:rPr>
              <a:t>Quindi, orientativamente, le porzioni dei secondi piatti andrebbero articolate cosi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3 - 4 carne magra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3 - 4 pesce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2 uov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2 formaggi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2 insaccat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1 – 2 legum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410080" y="608796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657600" y="5791320"/>
            <a:ext cx="4343400" cy="785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Alimentazione per eccesso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042920" y="75420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Rotazione dei secondi piatti: un suggerimento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      … </a:t>
            </a: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e adesso lavoro di gruppo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N.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36c6a0"/>
                </a:solidFill>
                <a:latin typeface="Arial"/>
              </a:rPr>
              <a:t>Proponete il menù di una giornata utilizzando le porzion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N.2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Provate a vedere se  il menù della vostra struttura rispetta le indicazioni delle tabelle INRAN (numero consigliato di porzioni e rotazione settimanale dei secondi piatti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0177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73240" y="927720"/>
            <a:ext cx="68277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3366"/>
                </a:solidFill>
                <a:latin typeface="Times New Roman"/>
              </a:rPr>
              <a:t>SOMMINISTRAZIONE DEI PASTI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15" name="BD07690_" descr=""/>
          <p:cNvPicPr/>
          <p:nvPr/>
        </p:nvPicPr>
        <p:blipFill>
          <a:blip r:embed="rId1"/>
          <a:stretch/>
        </p:blipFill>
        <p:spPr>
          <a:xfrm>
            <a:off x="3733920" y="40384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1143000" y="1371240"/>
            <a:ext cx="727560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Il momento del pasto è una delle occasioni per rendere l’istituto più simile ad una vera casa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In che modo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- ambiente sereno e confortevo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- cura della presentazione dei piatt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- assistenza serena e rispettosa dei tempi degli ospit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17" name="j0155022" descr=""/>
          <p:cNvPicPr/>
          <p:nvPr/>
        </p:nvPicPr>
        <p:blipFill>
          <a:blip r:embed="rId1"/>
          <a:stretch/>
        </p:blipFill>
        <p:spPr>
          <a:xfrm>
            <a:off x="6248520" y="2590920"/>
            <a:ext cx="205740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ASPETTI ESSENZIAL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82600" y="18284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Preparazione della sala da pranz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Preparazione degli operator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Preparazione degli ospit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Assistenza al past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- ospite autosufficient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- ospite non autosufficient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Strumenti di controll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Simulazio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7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it-IT" sz="2800" spc="-1" strike="noStrike">
                <a:solidFill>
                  <a:srgbClr val="6699ff"/>
                </a:solidFill>
                <a:latin typeface="Arial"/>
              </a:rPr>
              <a:t>E’ il momento del pranzo e sei in refettorio:</a:t>
            </a:r>
            <a:r>
              <a:rPr b="0" i="1" lang="it-IT" sz="2800" spc="-1" strike="noStrike">
                <a:solidFill>
                  <a:srgbClr val="6699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6699ff"/>
                </a:solidFill>
                <a:latin typeface="Arial"/>
              </a:rPr>
              <a:t>Come prepari la sala da pranzo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6699ff"/>
                </a:solidFill>
                <a:latin typeface="Arial"/>
              </a:rPr>
              <a:t>Come ti prepari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6699ff"/>
                </a:solidFill>
                <a:latin typeface="Arial"/>
              </a:rPr>
              <a:t>Come prepari gli ospiti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6699ff"/>
                </a:solidFill>
                <a:latin typeface="Arial"/>
              </a:rPr>
              <a:t>Come assisti l’ospite (autosufficiente e non) durante il momento del pasto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6699ff"/>
                </a:solidFill>
                <a:latin typeface="Arial"/>
              </a:rPr>
              <a:t>Come segnali quanto mangiano gli ospiti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62120" y="609480"/>
            <a:ext cx="3962160" cy="8384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66"/>
                </a:solidFill>
                <a:latin typeface="Times New Roman"/>
              </a:rPr>
              <a:t>Preparazione della sala da pranzo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6564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Pulizia accurata dei locali di refezion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Arieggiare i locali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Apparecchiare i tavoli con tovaglie e tovaglioli in tessuto; 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bicchieri, posate e stoviglie non monouso, dove possibile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Allestire il tavolo con oliere, acqua e vin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Verificare la disponibilità di attrezzature che facilitino l’alimentazione autonoma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(cannucce, masticatore, scaldavivande, posate per persone con disabilità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Verificare la presenza dell’ospite al pasto 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(visite specialistiche, visita parenti…)</a:t>
            </a:r>
            <a:r>
              <a:rPr b="1" lang="it-IT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ed eventualmente mettere da parte il pranzo o la cena, oppure predisporre per la distribuzione del vitto in camera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25" name="piattoposate" descr=""/>
          <p:cNvPicPr/>
          <p:nvPr/>
        </p:nvPicPr>
        <p:blipFill>
          <a:blip r:embed="rId1"/>
          <a:stretch/>
        </p:blipFill>
        <p:spPr>
          <a:xfrm>
            <a:off x="4572000" y="5334120"/>
            <a:ext cx="2079720" cy="123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Preparazione degli operator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Indossare la divisa ordinata e pulit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Indossare la cuffia sul cap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Lavarsi le man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Utilizzare guanti monous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28" name="j0287398" descr=""/>
          <p:cNvPicPr/>
          <p:nvPr/>
        </p:nvPicPr>
        <p:blipFill>
          <a:blip r:embed="rId1"/>
          <a:stretch/>
        </p:blipFill>
        <p:spPr>
          <a:xfrm>
            <a:off x="6095880" y="4343400"/>
            <a:ext cx="2279880" cy="18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257800" y="2895480"/>
            <a:ext cx="2990880" cy="27561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447920" y="533412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292929"/>
                </a:solidFill>
                <a:latin typeface="Comic Sans MS"/>
              </a:rPr>
              <a:t>V modulo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828800" y="762120"/>
            <a:ext cx="5724360" cy="18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Elaborazione menù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Somministrazione pasti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Preparazione degli ospit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Somministrare le terapie o praticare manovre assistenziali almeno 20 minuti prima del past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Accompagnare l’ospite a tavola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(dove possibile evitare di tenerlo in carrozzina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Se l’ospite è allettato, informarlo che è ora del pasto  e metterlo nella posizione idone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Assistenza al pas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18284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Arial"/>
              </a:rPr>
              <a:t>Tenere in considerazione la condizione fisica e psichica degli ospit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Arial"/>
              </a:rPr>
              <a:t>Avere a disposizione di personale esperto per assistere pazienti con disabilità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Arial"/>
              </a:rPr>
              <a:t>Rispettare i tempi di masticazione controllando attentamente la deglutizio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Arial"/>
              </a:rPr>
              <a:t>Parlare con l’ospite mentre mangia, in modo da rendere il momento del pasto più piacevole e permettergli di riposarsi ad intervall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Arial"/>
              </a:rPr>
              <a:t>Quando ha finito rimuovere il vassoi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Ospiti autosufficient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3280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Arial"/>
              </a:rPr>
              <a:t>Curare le scelte alimentari con e per l’ospi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Arial"/>
              </a:rPr>
              <a:t>Conoscere e rispettare per quanto possibile le preferenze alimentar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Arial"/>
              </a:rPr>
              <a:t>Conoscere le indicazioni mediche per i pasti ed eventuali modifiche nelle die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Arial"/>
              </a:rPr>
              <a:t>Permettere all’ospite di scegliere fra le pietanze propos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Arial"/>
              </a:rPr>
              <a:t>Curare la presentazione dei piatti, o del vassoio, in modo tale da stimolare l’appetito anche attraverso la vist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Arial"/>
              </a:rPr>
              <a:t>Fare attenzione alla corretta temperatura dei cibi 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(i cibi caldi vanno serviti a 60-70°C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85776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536" name="anziani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142884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Ospiti non autosufficienti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58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Assistere l’ospi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Sedersi comodi di fianco all’ospi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Sminuzzare, tritare gli alimenti, sbucciare la frutta, versare da bere e somministrare i cibi a temperatura adeguat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Incoraggiare a prendere da solo il bicchiere, il pane o il cib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Alternare i cibi con le bevande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Eseguire l’igiene di mani e bocc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39" name="j0240569" descr=""/>
          <p:cNvPicPr/>
          <p:nvPr/>
        </p:nvPicPr>
        <p:blipFill>
          <a:blip r:embed="rId1"/>
          <a:stretch/>
        </p:blipFill>
        <p:spPr>
          <a:xfrm>
            <a:off x="6934320" y="457200"/>
            <a:ext cx="188100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Strumenti di controll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Diario alimentar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- valutazione degli introiti degli ospit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- valutazione del servizio di ristorazion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Incontri periodici di confronto e analisi tra gli operatori ed incontri/consulti con  personale competen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1447920" y="53352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1371600" y="0"/>
          <a:ext cx="632448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0"/>
                    <a:ext cx="6324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5" name=""/>
          <p:cNvSpPr/>
          <p:nvPr/>
        </p:nvSpPr>
        <p:spPr>
          <a:xfrm>
            <a:off x="7391520" y="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292929"/>
                </a:solidFill>
                <a:latin typeface="Times New Roman"/>
              </a:rPr>
              <a:t>DIARIO ALIMENTARE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543800" y="1295280"/>
            <a:ext cx="16002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u="sng">
                <a:solidFill>
                  <a:srgbClr val="292929"/>
                </a:solidFill>
                <a:uFillTx/>
                <a:latin typeface="Times New Roman"/>
              </a:rPr>
              <a:t>Istruzioni: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292929"/>
                </a:solidFill>
                <a:latin typeface="Times New Roman"/>
              </a:rPr>
              <a:t>Segnare con il simbolo X la porzione consumata per ciascun alimento o portata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66"/>
                </a:solidFill>
                <a:latin typeface="Times New Roman"/>
              </a:rPr>
              <a:t>Legenda punteggi diario alimentar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1143000" y="1905120"/>
          <a:ext cx="7696080" cy="3555720"/>
        </p:xfrm>
        <a:graphic>
          <a:graphicData uri="http://schemas.openxmlformats.org/drawingml/2006/table">
            <a:tbl>
              <a:tblPr/>
              <a:tblGrid>
                <a:gridCol w="2057400"/>
                <a:gridCol w="2743200"/>
                <a:gridCol w="289548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UNTEGGIO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LIMENTAZIONE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RISCHIO MALNUTRIZIONE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0 - 12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buona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BASSO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6 - 9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media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MEDIO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 - 5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scarsa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ALTO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27720"/>
            <a:ext cx="769608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3366"/>
                </a:solidFill>
                <a:latin typeface="Times New Roman"/>
              </a:rPr>
              <a:t>Indicazioni per l'elaborazione dei menù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429000" y="4191120"/>
            <a:ext cx="25146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Menù equilibra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Colazio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Pranz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Cen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Eventuali spuntin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">
            <a:hlinkClick r:id="rId1"/>
          </p:cNvPr>
          <p:cNvSpPr/>
          <p:nvPr/>
        </p:nvSpPr>
        <p:spPr>
          <a:xfrm>
            <a:off x="0" y="2990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169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29000" y="4038480"/>
            <a:ext cx="144792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"/>
          <p:cNvGraphicFramePr/>
          <p:nvPr/>
        </p:nvGraphicFramePr>
        <p:xfrm>
          <a:off x="1295280" y="4724280"/>
          <a:ext cx="7239240" cy="1185840"/>
        </p:xfrm>
        <a:graphic>
          <a:graphicData uri="http://schemas.openxmlformats.org/drawingml/2006/table">
            <a:tbl>
              <a:tblPr/>
              <a:tblGrid>
                <a:gridCol w="2971800"/>
                <a:gridCol w="1067040"/>
                <a:gridCol w="3200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292929"/>
                          </a:solidFill>
                          <a:latin typeface="Wingdings 2"/>
                          <a:ea typeface="Wingdings 2"/>
                        </a:rPr>
                        <a:t></a:t>
                      </a:r>
                      <a:r>
                        <a:rPr b="0" lang="it-IT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 </a:t>
                      </a:r>
                      <a:r>
                        <a:rPr b="0" lang="it-IT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Abitudini alimentari dell’anziano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292929"/>
                          </a:solidFill>
                          <a:latin typeface="Wingdings 2"/>
                          <a:ea typeface="Wingdings 2"/>
                        </a:rPr>
                        <a:t></a:t>
                      </a:r>
                      <a:r>
                        <a:rPr b="0" lang="it-IT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Indicazioni per una corretta ed equilibrata nutrizione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6172200" y="2133720"/>
            <a:ext cx="1714680" cy="15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Colazio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292929"/>
                </a:solidFill>
                <a:latin typeface="Arial"/>
              </a:rPr>
              <a:t>Composizione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- una tazza di caffè/orzo e latte 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(anche delattosato)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 oppure di tè, oppure uno yogur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- biscotti o fette biscottate, grissini, pan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- marmellata o mie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- zucchero o dolcifican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292929"/>
                </a:solidFill>
                <a:latin typeface="Arial"/>
              </a:rPr>
              <a:t>Orario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non troppo vicino al pranzo, per dar modo all’anziano di consumare un piccolo spuntin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Spuntin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Arial"/>
              </a:rPr>
              <a:t>Composizione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- una bevanda fredda/calda (a seconda della stagione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- biscotti/fette biscottate oppure un frutt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Arial"/>
              </a:rPr>
              <a:t>Integrazioni caloriche per chi ne ha necessità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- formaggio o prosciutto con pane o grissini, un budino oppure un gelat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Arial"/>
              </a:rPr>
              <a:t>Ospiti diabetici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- gli  alimenti contenenti zuccheri semplici sono da inserire con moderazione e nell’ambito di pasti controllat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Pranzo e Cen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Verdura cruda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, se non sono presenti difficoltà di masticazione, deve essere presente </a:t>
            </a: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almeno una volta al giorno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 per un apporto corretto di fibre, vitamine e sali mineral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Frutta fresca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, va servita a fine pasto, e solo saltuariamente può essere sostituita con yogurt bianco o alla frutta, oppure con un succo di frutta o un desser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934320" y="5410080"/>
            <a:ext cx="1600200" cy="10432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334120" y="3124080"/>
            <a:ext cx="358128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Pranzo e Cen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Anziani inappetenti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- iniziare dal secondo piatto (carne, pesce…) per garantire un apporto corretto di protein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-  servire poi il primo piatto, asciutto o in brodo, con aggiunta di formaggio grattugiato e olio per aumentare la quota caloric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038480" y="5410080"/>
            <a:ext cx="2154240" cy="1123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019920" y="228600"/>
            <a:ext cx="2368440" cy="20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Bevan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292929"/>
                </a:solidFill>
                <a:latin typeface="Arial"/>
              </a:rPr>
              <a:t>L’anziano beve poco!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L’apporto idrico giornaliero consigliato è almeno di </a:t>
            </a: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1000-1500 ml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 (acqua gassata o naturale, tè, tisane…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it-IT" sz="2800" spc="-1" strike="noStrike" u="sng">
                <a:solidFill>
                  <a:srgbClr val="292929"/>
                </a:solidFill>
                <a:uFillTx/>
                <a:latin typeface="Arial"/>
              </a:rPr>
              <a:t>Attenzione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, consumare con moderazione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- Bibite zuccherine 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(bibite, succhi di frutta, spremute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- Vino 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(se permesso, un bicchiere a pasto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934320" y="609480"/>
            <a:ext cx="1295280" cy="19051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295280" y="4572000"/>
            <a:ext cx="560520" cy="468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ristina</cp:lastModifiedBy>
  <dcterms:modified xsi:type="dcterms:W3CDTF">2005-05-26T13:38:12Z</dcterms:modified>
  <cp:revision>19</cp:revision>
  <dc:subject/>
  <dc:title>Presentazione di PowerPoint</dc:title>
</cp:coreProperties>
</file>