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A1BA-938B-48BA-AEBD-08DB8F1D4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DFE2-2DF7-4999-84F7-8E559D778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C72D-9F76-496F-95E1-0CBCFEFC9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FAF5-01F9-4868-AE62-7521A935E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B084-7C6A-4A60-9E33-609D073B9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0031-ABEE-4095-BEFF-315AC8AD1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1D8F-E5B3-4CF4-B000-F72A3FFC4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06D8-786A-48B4-826F-F2B2F6D3E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EFEF-2A92-4A76-931C-01CDDEDA1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27B6-CAFA-4513-8EBE-B08344DFF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3DDB-08E0-4196-87C2-6C8A5C0D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9835-6517-48AB-9E2C-53902779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7002"/>
            </a:gs>
            <a:gs pos="50000">
              <a:srgbClr val="faeb60"/>
            </a:gs>
            <a:gs pos="100000">
              <a:srgbClr val="36700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F757B-6FE9-4FD1-97FB-EBDF793EBAD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7002"/>
            </a:gs>
            <a:gs pos="50000">
              <a:srgbClr val="faeb60"/>
            </a:gs>
            <a:gs pos="100000">
              <a:srgbClr val="36700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2971800"/>
            <a:ext cx="7391520" cy="1219320"/>
          </a:xfrm>
          <a:prstGeom prst="rect">
            <a:avLst/>
          </a:prstGeom>
          <a:solidFill>
            <a:srgbClr val="faeb6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2157120" cy="15253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116000" y="3141720"/>
            <a:ext cx="749952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Comic Sans MS"/>
                <a:ea typeface="바탕"/>
              </a:rPr>
              <a:t>“</a:t>
            </a:r>
            <a:r>
              <a:rPr b="1" i="1" lang="it-IT" sz="2800" spc="-1" strike="noStrike">
                <a:solidFill>
                  <a:srgbClr val="000000"/>
                </a:solidFill>
                <a:latin typeface="Comic Sans MS"/>
                <a:ea typeface="바탕"/>
              </a:rPr>
              <a:t>Come favorire un corretto approccio alimentare </a:t>
            </a:r>
            <a:r>
              <a:rPr b="1" i="1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ell’anziano istituzionalizzato</a:t>
            </a: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124000" y="5950080"/>
            <a:ext cx="532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32000" y="5300640"/>
            <a:ext cx="66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 Unicode"/>
              </a:rPr>
              <a:t>A cura dell’ASL 13 - S.I.A.N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Lucida Sans Unicode"/>
              </a:rPr>
              <a:t>(Servizio Igiene Alimenti e Nutrizio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624720" y="1855800"/>
            <a:ext cx="544320" cy="433440"/>
          </a:xfrm>
          <a:custGeom>
            <a:avLst/>
            <a:gdLst/>
            <a:ahLst/>
            <a:rect l="l" t="t" r="r" b="b"/>
            <a:pathLst>
              <a:path w="687" h="546">
                <a:moveTo>
                  <a:pt x="599" y="202"/>
                </a:moveTo>
                <a:lnTo>
                  <a:pt x="618" y="218"/>
                </a:lnTo>
                <a:lnTo>
                  <a:pt x="638" y="233"/>
                </a:lnTo>
                <a:lnTo>
                  <a:pt x="655" y="247"/>
                </a:lnTo>
                <a:lnTo>
                  <a:pt x="670" y="261"/>
                </a:lnTo>
                <a:lnTo>
                  <a:pt x="682" y="275"/>
                </a:lnTo>
                <a:lnTo>
                  <a:pt x="687" y="291"/>
                </a:lnTo>
                <a:lnTo>
                  <a:pt x="687" y="308"/>
                </a:lnTo>
                <a:lnTo>
                  <a:pt x="680" y="328"/>
                </a:lnTo>
                <a:lnTo>
                  <a:pt x="672" y="346"/>
                </a:lnTo>
                <a:lnTo>
                  <a:pt x="662" y="363"/>
                </a:lnTo>
                <a:lnTo>
                  <a:pt x="651" y="379"/>
                </a:lnTo>
                <a:lnTo>
                  <a:pt x="639" y="393"/>
                </a:lnTo>
                <a:lnTo>
                  <a:pt x="625" y="404"/>
                </a:lnTo>
                <a:lnTo>
                  <a:pt x="610" y="409"/>
                </a:lnTo>
                <a:lnTo>
                  <a:pt x="593" y="411"/>
                </a:lnTo>
                <a:lnTo>
                  <a:pt x="572" y="405"/>
                </a:lnTo>
                <a:lnTo>
                  <a:pt x="571" y="421"/>
                </a:lnTo>
                <a:lnTo>
                  <a:pt x="569" y="432"/>
                </a:lnTo>
                <a:lnTo>
                  <a:pt x="565" y="443"/>
                </a:lnTo>
                <a:lnTo>
                  <a:pt x="559" y="451"/>
                </a:lnTo>
                <a:lnTo>
                  <a:pt x="552" y="459"/>
                </a:lnTo>
                <a:lnTo>
                  <a:pt x="545" y="467"/>
                </a:lnTo>
                <a:lnTo>
                  <a:pt x="535" y="477"/>
                </a:lnTo>
                <a:lnTo>
                  <a:pt x="524" y="491"/>
                </a:lnTo>
                <a:lnTo>
                  <a:pt x="513" y="503"/>
                </a:lnTo>
                <a:lnTo>
                  <a:pt x="499" y="512"/>
                </a:lnTo>
                <a:lnTo>
                  <a:pt x="483" y="518"/>
                </a:lnTo>
                <a:lnTo>
                  <a:pt x="467" y="521"/>
                </a:lnTo>
                <a:lnTo>
                  <a:pt x="450" y="523"/>
                </a:lnTo>
                <a:lnTo>
                  <a:pt x="430" y="523"/>
                </a:lnTo>
                <a:lnTo>
                  <a:pt x="412" y="521"/>
                </a:lnTo>
                <a:lnTo>
                  <a:pt x="393" y="518"/>
                </a:lnTo>
                <a:lnTo>
                  <a:pt x="375" y="514"/>
                </a:lnTo>
                <a:lnTo>
                  <a:pt x="358" y="513"/>
                </a:lnTo>
                <a:lnTo>
                  <a:pt x="341" y="514"/>
                </a:lnTo>
                <a:lnTo>
                  <a:pt x="325" y="516"/>
                </a:lnTo>
                <a:lnTo>
                  <a:pt x="308" y="520"/>
                </a:lnTo>
                <a:lnTo>
                  <a:pt x="291" y="525"/>
                </a:lnTo>
                <a:lnTo>
                  <a:pt x="274" y="529"/>
                </a:lnTo>
                <a:lnTo>
                  <a:pt x="259" y="534"/>
                </a:lnTo>
                <a:lnTo>
                  <a:pt x="243" y="538"/>
                </a:lnTo>
                <a:lnTo>
                  <a:pt x="228" y="542"/>
                </a:lnTo>
                <a:lnTo>
                  <a:pt x="212" y="545"/>
                </a:lnTo>
                <a:lnTo>
                  <a:pt x="197" y="546"/>
                </a:lnTo>
                <a:lnTo>
                  <a:pt x="181" y="546"/>
                </a:lnTo>
                <a:lnTo>
                  <a:pt x="166" y="543"/>
                </a:lnTo>
                <a:lnTo>
                  <a:pt x="152" y="538"/>
                </a:lnTo>
                <a:lnTo>
                  <a:pt x="136" y="530"/>
                </a:lnTo>
                <a:lnTo>
                  <a:pt x="121" y="521"/>
                </a:lnTo>
                <a:lnTo>
                  <a:pt x="105" y="511"/>
                </a:lnTo>
                <a:lnTo>
                  <a:pt x="91" y="502"/>
                </a:lnTo>
                <a:lnTo>
                  <a:pt x="80" y="491"/>
                </a:lnTo>
                <a:lnTo>
                  <a:pt x="69" y="481"/>
                </a:lnTo>
                <a:lnTo>
                  <a:pt x="62" y="468"/>
                </a:lnTo>
                <a:lnTo>
                  <a:pt x="56" y="454"/>
                </a:lnTo>
                <a:lnTo>
                  <a:pt x="55" y="439"/>
                </a:lnTo>
                <a:lnTo>
                  <a:pt x="52" y="423"/>
                </a:lnTo>
                <a:lnTo>
                  <a:pt x="44" y="408"/>
                </a:lnTo>
                <a:lnTo>
                  <a:pt x="32" y="394"/>
                </a:lnTo>
                <a:lnTo>
                  <a:pt x="20" y="381"/>
                </a:lnTo>
                <a:lnTo>
                  <a:pt x="10" y="368"/>
                </a:lnTo>
                <a:lnTo>
                  <a:pt x="1" y="355"/>
                </a:lnTo>
                <a:lnTo>
                  <a:pt x="0" y="341"/>
                </a:lnTo>
                <a:lnTo>
                  <a:pt x="6" y="328"/>
                </a:lnTo>
                <a:lnTo>
                  <a:pt x="15" y="305"/>
                </a:lnTo>
                <a:lnTo>
                  <a:pt x="20" y="279"/>
                </a:lnTo>
                <a:lnTo>
                  <a:pt x="20" y="254"/>
                </a:lnTo>
                <a:lnTo>
                  <a:pt x="20" y="228"/>
                </a:lnTo>
                <a:lnTo>
                  <a:pt x="21" y="205"/>
                </a:lnTo>
                <a:lnTo>
                  <a:pt x="28" y="187"/>
                </a:lnTo>
                <a:lnTo>
                  <a:pt x="42" y="173"/>
                </a:lnTo>
                <a:lnTo>
                  <a:pt x="66" y="167"/>
                </a:lnTo>
                <a:lnTo>
                  <a:pt x="69" y="151"/>
                </a:lnTo>
                <a:lnTo>
                  <a:pt x="79" y="139"/>
                </a:lnTo>
                <a:lnTo>
                  <a:pt x="91" y="127"/>
                </a:lnTo>
                <a:lnTo>
                  <a:pt x="108" y="118"/>
                </a:lnTo>
                <a:lnTo>
                  <a:pt x="124" y="108"/>
                </a:lnTo>
                <a:lnTo>
                  <a:pt x="138" y="97"/>
                </a:lnTo>
                <a:lnTo>
                  <a:pt x="150" y="83"/>
                </a:lnTo>
                <a:lnTo>
                  <a:pt x="157" y="68"/>
                </a:lnTo>
                <a:lnTo>
                  <a:pt x="166" y="51"/>
                </a:lnTo>
                <a:lnTo>
                  <a:pt x="178" y="37"/>
                </a:lnTo>
                <a:lnTo>
                  <a:pt x="195" y="28"/>
                </a:lnTo>
                <a:lnTo>
                  <a:pt x="216" y="21"/>
                </a:lnTo>
                <a:lnTo>
                  <a:pt x="239" y="17"/>
                </a:lnTo>
                <a:lnTo>
                  <a:pt x="264" y="12"/>
                </a:lnTo>
                <a:lnTo>
                  <a:pt x="289" y="8"/>
                </a:lnTo>
                <a:lnTo>
                  <a:pt x="315" y="4"/>
                </a:lnTo>
                <a:lnTo>
                  <a:pt x="343" y="0"/>
                </a:lnTo>
                <a:lnTo>
                  <a:pt x="375" y="0"/>
                </a:lnTo>
                <a:lnTo>
                  <a:pt x="408" y="4"/>
                </a:lnTo>
                <a:lnTo>
                  <a:pt x="440" y="12"/>
                </a:lnTo>
                <a:lnTo>
                  <a:pt x="469" y="25"/>
                </a:lnTo>
                <a:lnTo>
                  <a:pt x="495" y="41"/>
                </a:lnTo>
                <a:lnTo>
                  <a:pt x="512" y="63"/>
                </a:lnTo>
                <a:lnTo>
                  <a:pt x="519" y="89"/>
                </a:lnTo>
                <a:lnTo>
                  <a:pt x="524" y="108"/>
                </a:lnTo>
                <a:lnTo>
                  <a:pt x="540" y="124"/>
                </a:lnTo>
                <a:lnTo>
                  <a:pt x="558" y="139"/>
                </a:lnTo>
                <a:lnTo>
                  <a:pt x="578" y="151"/>
                </a:lnTo>
                <a:lnTo>
                  <a:pt x="596" y="163"/>
                </a:lnTo>
                <a:lnTo>
                  <a:pt x="607" y="175"/>
                </a:lnTo>
                <a:lnTo>
                  <a:pt x="610" y="188"/>
                </a:lnTo>
                <a:lnTo>
                  <a:pt x="599" y="202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496200" y="763560"/>
            <a:ext cx="1787400" cy="1225440"/>
          </a:xfrm>
          <a:custGeom>
            <a:avLst/>
            <a:gdLst/>
            <a:ahLst/>
            <a:rect l="l" t="t" r="r" b="b"/>
            <a:pathLst>
              <a:path w="2253" h="1544">
                <a:moveTo>
                  <a:pt x="296" y="204"/>
                </a:moveTo>
                <a:lnTo>
                  <a:pt x="1670" y="5"/>
                </a:lnTo>
                <a:lnTo>
                  <a:pt x="1706" y="1"/>
                </a:lnTo>
                <a:lnTo>
                  <a:pt x="1741" y="0"/>
                </a:lnTo>
                <a:lnTo>
                  <a:pt x="1777" y="2"/>
                </a:lnTo>
                <a:lnTo>
                  <a:pt x="1812" y="8"/>
                </a:lnTo>
                <a:lnTo>
                  <a:pt x="1845" y="15"/>
                </a:lnTo>
                <a:lnTo>
                  <a:pt x="1876" y="25"/>
                </a:lnTo>
                <a:lnTo>
                  <a:pt x="1907" y="38"/>
                </a:lnTo>
                <a:lnTo>
                  <a:pt x="1937" y="53"/>
                </a:lnTo>
                <a:lnTo>
                  <a:pt x="1963" y="70"/>
                </a:lnTo>
                <a:lnTo>
                  <a:pt x="1989" y="90"/>
                </a:lnTo>
                <a:lnTo>
                  <a:pt x="2011" y="112"/>
                </a:lnTo>
                <a:lnTo>
                  <a:pt x="2032" y="135"/>
                </a:lnTo>
                <a:lnTo>
                  <a:pt x="2049" y="159"/>
                </a:lnTo>
                <a:lnTo>
                  <a:pt x="2065" y="185"/>
                </a:lnTo>
                <a:lnTo>
                  <a:pt x="2076" y="214"/>
                </a:lnTo>
                <a:lnTo>
                  <a:pt x="2084" y="243"/>
                </a:lnTo>
                <a:lnTo>
                  <a:pt x="2247" y="1000"/>
                </a:lnTo>
                <a:lnTo>
                  <a:pt x="2251" y="1030"/>
                </a:lnTo>
                <a:lnTo>
                  <a:pt x="2253" y="1060"/>
                </a:lnTo>
                <a:lnTo>
                  <a:pt x="2250" y="1089"/>
                </a:lnTo>
                <a:lnTo>
                  <a:pt x="2243" y="1116"/>
                </a:lnTo>
                <a:lnTo>
                  <a:pt x="2235" y="1144"/>
                </a:lnTo>
                <a:lnTo>
                  <a:pt x="2222" y="1170"/>
                </a:lnTo>
                <a:lnTo>
                  <a:pt x="2207" y="1196"/>
                </a:lnTo>
                <a:lnTo>
                  <a:pt x="2188" y="1220"/>
                </a:lnTo>
                <a:lnTo>
                  <a:pt x="2167" y="1242"/>
                </a:lnTo>
                <a:lnTo>
                  <a:pt x="2143" y="1263"/>
                </a:lnTo>
                <a:lnTo>
                  <a:pt x="2117" y="1281"/>
                </a:lnTo>
                <a:lnTo>
                  <a:pt x="2088" y="1297"/>
                </a:lnTo>
                <a:lnTo>
                  <a:pt x="2059" y="1312"/>
                </a:lnTo>
                <a:lnTo>
                  <a:pt x="2027" y="1324"/>
                </a:lnTo>
                <a:lnTo>
                  <a:pt x="1992" y="1333"/>
                </a:lnTo>
                <a:lnTo>
                  <a:pt x="1956" y="1340"/>
                </a:lnTo>
                <a:lnTo>
                  <a:pt x="581" y="1539"/>
                </a:lnTo>
                <a:lnTo>
                  <a:pt x="544" y="1542"/>
                </a:lnTo>
                <a:lnTo>
                  <a:pt x="509" y="1544"/>
                </a:lnTo>
                <a:lnTo>
                  <a:pt x="474" y="1541"/>
                </a:lnTo>
                <a:lnTo>
                  <a:pt x="440" y="1536"/>
                </a:lnTo>
                <a:lnTo>
                  <a:pt x="407" y="1529"/>
                </a:lnTo>
                <a:lnTo>
                  <a:pt x="374" y="1518"/>
                </a:lnTo>
                <a:lnTo>
                  <a:pt x="345" y="1506"/>
                </a:lnTo>
                <a:lnTo>
                  <a:pt x="315" y="1491"/>
                </a:lnTo>
                <a:lnTo>
                  <a:pt x="288" y="1473"/>
                </a:lnTo>
                <a:lnTo>
                  <a:pt x="263" y="1454"/>
                </a:lnTo>
                <a:lnTo>
                  <a:pt x="241" y="1432"/>
                </a:lnTo>
                <a:lnTo>
                  <a:pt x="221" y="1409"/>
                </a:lnTo>
                <a:lnTo>
                  <a:pt x="203" y="1385"/>
                </a:lnTo>
                <a:lnTo>
                  <a:pt x="189" y="1358"/>
                </a:lnTo>
                <a:lnTo>
                  <a:pt x="177" y="1329"/>
                </a:lnTo>
                <a:lnTo>
                  <a:pt x="169" y="1301"/>
                </a:lnTo>
                <a:lnTo>
                  <a:pt x="6" y="544"/>
                </a:lnTo>
                <a:lnTo>
                  <a:pt x="2" y="514"/>
                </a:lnTo>
                <a:lnTo>
                  <a:pt x="0" y="484"/>
                </a:lnTo>
                <a:lnTo>
                  <a:pt x="3" y="455"/>
                </a:lnTo>
                <a:lnTo>
                  <a:pt x="9" y="427"/>
                </a:lnTo>
                <a:lnTo>
                  <a:pt x="19" y="400"/>
                </a:lnTo>
                <a:lnTo>
                  <a:pt x="31" y="373"/>
                </a:lnTo>
                <a:lnTo>
                  <a:pt x="47" y="348"/>
                </a:lnTo>
                <a:lnTo>
                  <a:pt x="65" y="324"/>
                </a:lnTo>
                <a:lnTo>
                  <a:pt x="86" y="302"/>
                </a:lnTo>
                <a:lnTo>
                  <a:pt x="110" y="281"/>
                </a:lnTo>
                <a:lnTo>
                  <a:pt x="135" y="263"/>
                </a:lnTo>
                <a:lnTo>
                  <a:pt x="163" y="246"/>
                </a:lnTo>
                <a:lnTo>
                  <a:pt x="194" y="231"/>
                </a:lnTo>
                <a:lnTo>
                  <a:pt x="227" y="220"/>
                </a:lnTo>
                <a:lnTo>
                  <a:pt x="260" y="211"/>
                </a:lnTo>
                <a:lnTo>
                  <a:pt x="296" y="204"/>
                </a:lnTo>
                <a:lnTo>
                  <a:pt x="296" y="204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839000" y="1828800"/>
            <a:ext cx="196920" cy="347760"/>
          </a:xfrm>
          <a:custGeom>
            <a:avLst/>
            <a:gdLst/>
            <a:ahLst/>
            <a:rect l="l" t="t" r="r" b="b"/>
            <a:pathLst>
              <a:path w="247" h="439">
                <a:moveTo>
                  <a:pt x="54" y="0"/>
                </a:moveTo>
                <a:lnTo>
                  <a:pt x="0" y="50"/>
                </a:lnTo>
                <a:lnTo>
                  <a:pt x="45" y="439"/>
                </a:lnTo>
                <a:lnTo>
                  <a:pt x="170" y="419"/>
                </a:lnTo>
                <a:lnTo>
                  <a:pt x="247" y="328"/>
                </a:lnTo>
                <a:lnTo>
                  <a:pt x="54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46880" y="723960"/>
            <a:ext cx="1787400" cy="1224000"/>
          </a:xfrm>
          <a:custGeom>
            <a:avLst/>
            <a:gdLst/>
            <a:ahLst/>
            <a:rect l="l" t="t" r="r" b="b"/>
            <a:pathLst>
              <a:path w="2252" h="1543">
                <a:moveTo>
                  <a:pt x="295" y="203"/>
                </a:moveTo>
                <a:lnTo>
                  <a:pt x="1669" y="5"/>
                </a:lnTo>
                <a:lnTo>
                  <a:pt x="1705" y="2"/>
                </a:lnTo>
                <a:lnTo>
                  <a:pt x="1742" y="0"/>
                </a:lnTo>
                <a:lnTo>
                  <a:pt x="1777" y="3"/>
                </a:lnTo>
                <a:lnTo>
                  <a:pt x="1811" y="7"/>
                </a:lnTo>
                <a:lnTo>
                  <a:pt x="1845" y="15"/>
                </a:lnTo>
                <a:lnTo>
                  <a:pt x="1877" y="26"/>
                </a:lnTo>
                <a:lnTo>
                  <a:pt x="1908" y="38"/>
                </a:lnTo>
                <a:lnTo>
                  <a:pt x="1937" y="53"/>
                </a:lnTo>
                <a:lnTo>
                  <a:pt x="1964" y="71"/>
                </a:lnTo>
                <a:lnTo>
                  <a:pt x="1989" y="90"/>
                </a:lnTo>
                <a:lnTo>
                  <a:pt x="2012" y="111"/>
                </a:lnTo>
                <a:lnTo>
                  <a:pt x="2031" y="134"/>
                </a:lnTo>
                <a:lnTo>
                  <a:pt x="2050" y="159"/>
                </a:lnTo>
                <a:lnTo>
                  <a:pt x="2064" y="186"/>
                </a:lnTo>
                <a:lnTo>
                  <a:pt x="2075" y="214"/>
                </a:lnTo>
                <a:lnTo>
                  <a:pt x="2083" y="242"/>
                </a:lnTo>
                <a:lnTo>
                  <a:pt x="2246" y="1000"/>
                </a:lnTo>
                <a:lnTo>
                  <a:pt x="2251" y="1030"/>
                </a:lnTo>
                <a:lnTo>
                  <a:pt x="2252" y="1059"/>
                </a:lnTo>
                <a:lnTo>
                  <a:pt x="2249" y="1088"/>
                </a:lnTo>
                <a:lnTo>
                  <a:pt x="2242" y="1117"/>
                </a:lnTo>
                <a:lnTo>
                  <a:pt x="2234" y="1144"/>
                </a:lnTo>
                <a:lnTo>
                  <a:pt x="2221" y="1170"/>
                </a:lnTo>
                <a:lnTo>
                  <a:pt x="2206" y="1195"/>
                </a:lnTo>
                <a:lnTo>
                  <a:pt x="2187" y="1219"/>
                </a:lnTo>
                <a:lnTo>
                  <a:pt x="2166" y="1241"/>
                </a:lnTo>
                <a:lnTo>
                  <a:pt x="2142" y="1262"/>
                </a:lnTo>
                <a:lnTo>
                  <a:pt x="2116" y="1280"/>
                </a:lnTo>
                <a:lnTo>
                  <a:pt x="2088" y="1298"/>
                </a:lnTo>
                <a:lnTo>
                  <a:pt x="2058" y="1311"/>
                </a:lnTo>
                <a:lnTo>
                  <a:pt x="2026" y="1324"/>
                </a:lnTo>
                <a:lnTo>
                  <a:pt x="1991" y="1333"/>
                </a:lnTo>
                <a:lnTo>
                  <a:pt x="1956" y="1340"/>
                </a:lnTo>
                <a:lnTo>
                  <a:pt x="583" y="1538"/>
                </a:lnTo>
                <a:lnTo>
                  <a:pt x="546" y="1542"/>
                </a:lnTo>
                <a:lnTo>
                  <a:pt x="510" y="1543"/>
                </a:lnTo>
                <a:lnTo>
                  <a:pt x="475" y="1541"/>
                </a:lnTo>
                <a:lnTo>
                  <a:pt x="441" y="1535"/>
                </a:lnTo>
                <a:lnTo>
                  <a:pt x="407" y="1528"/>
                </a:lnTo>
                <a:lnTo>
                  <a:pt x="375" y="1518"/>
                </a:lnTo>
                <a:lnTo>
                  <a:pt x="344" y="1505"/>
                </a:lnTo>
                <a:lnTo>
                  <a:pt x="314" y="1490"/>
                </a:lnTo>
                <a:lnTo>
                  <a:pt x="288" y="1473"/>
                </a:lnTo>
                <a:lnTo>
                  <a:pt x="262" y="1453"/>
                </a:lnTo>
                <a:lnTo>
                  <a:pt x="240" y="1432"/>
                </a:lnTo>
                <a:lnTo>
                  <a:pt x="220" y="1409"/>
                </a:lnTo>
                <a:lnTo>
                  <a:pt x="202" y="1384"/>
                </a:lnTo>
                <a:lnTo>
                  <a:pt x="188" y="1357"/>
                </a:lnTo>
                <a:lnTo>
                  <a:pt x="177" y="1330"/>
                </a:lnTo>
                <a:lnTo>
                  <a:pt x="168" y="1301"/>
                </a:lnTo>
                <a:lnTo>
                  <a:pt x="5" y="543"/>
                </a:lnTo>
                <a:lnTo>
                  <a:pt x="1" y="513"/>
                </a:lnTo>
                <a:lnTo>
                  <a:pt x="0" y="484"/>
                </a:lnTo>
                <a:lnTo>
                  <a:pt x="2" y="455"/>
                </a:lnTo>
                <a:lnTo>
                  <a:pt x="8" y="427"/>
                </a:lnTo>
                <a:lnTo>
                  <a:pt x="18" y="399"/>
                </a:lnTo>
                <a:lnTo>
                  <a:pt x="31" y="374"/>
                </a:lnTo>
                <a:lnTo>
                  <a:pt x="46" y="348"/>
                </a:lnTo>
                <a:lnTo>
                  <a:pt x="64" y="324"/>
                </a:lnTo>
                <a:lnTo>
                  <a:pt x="85" y="302"/>
                </a:lnTo>
                <a:lnTo>
                  <a:pt x="109" y="281"/>
                </a:lnTo>
                <a:lnTo>
                  <a:pt x="135" y="263"/>
                </a:lnTo>
                <a:lnTo>
                  <a:pt x="163" y="246"/>
                </a:lnTo>
                <a:lnTo>
                  <a:pt x="194" y="232"/>
                </a:lnTo>
                <a:lnTo>
                  <a:pt x="226" y="219"/>
                </a:lnTo>
                <a:lnTo>
                  <a:pt x="260" y="210"/>
                </a:lnTo>
                <a:lnTo>
                  <a:pt x="295" y="203"/>
                </a:lnTo>
                <a:lnTo>
                  <a:pt x="295" y="203"/>
                </a:lnTo>
                <a:close/>
              </a:path>
            </a:pathLst>
          </a:custGeom>
          <a:solidFill>
            <a:srgbClr val="ffcc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35880" y="1028880"/>
            <a:ext cx="214200" cy="785520"/>
          </a:xfrm>
          <a:custGeom>
            <a:avLst/>
            <a:gdLst/>
            <a:ahLst/>
            <a:rect l="l" t="t" r="r" b="b"/>
            <a:pathLst>
              <a:path w="270" h="991">
                <a:moveTo>
                  <a:pt x="72" y="30"/>
                </a:moveTo>
                <a:lnTo>
                  <a:pt x="270" y="943"/>
                </a:lnTo>
                <a:lnTo>
                  <a:pt x="218" y="991"/>
                </a:lnTo>
                <a:lnTo>
                  <a:pt x="0" y="0"/>
                </a:lnTo>
                <a:lnTo>
                  <a:pt x="72" y="30"/>
                </a:lnTo>
                <a:close/>
              </a:path>
            </a:pathLst>
          </a:custGeom>
          <a:solidFill>
            <a:srgbClr val="6b3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691320" y="888840"/>
            <a:ext cx="1297080" cy="893880"/>
          </a:xfrm>
          <a:custGeom>
            <a:avLst/>
            <a:gdLst/>
            <a:ahLst/>
            <a:rect l="l" t="t" r="r" b="b"/>
            <a:pathLst>
              <a:path w="1634" h="1125">
                <a:moveTo>
                  <a:pt x="0" y="207"/>
                </a:moveTo>
                <a:lnTo>
                  <a:pt x="1436" y="0"/>
                </a:lnTo>
                <a:lnTo>
                  <a:pt x="1634" y="917"/>
                </a:lnTo>
                <a:lnTo>
                  <a:pt x="196" y="1125"/>
                </a:lnTo>
                <a:lnTo>
                  <a:pt x="0" y="207"/>
                </a:lnTo>
                <a:close/>
              </a:path>
            </a:pathLst>
          </a:custGeom>
          <a:solidFill>
            <a:srgbClr val="001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635880" y="849240"/>
            <a:ext cx="1236600" cy="203400"/>
          </a:xfrm>
          <a:custGeom>
            <a:avLst/>
            <a:gdLst/>
            <a:ahLst/>
            <a:rect l="l" t="t" r="r" b="b"/>
            <a:pathLst>
              <a:path w="1559" h="256">
                <a:moveTo>
                  <a:pt x="72" y="256"/>
                </a:moveTo>
                <a:lnTo>
                  <a:pt x="1508" y="49"/>
                </a:lnTo>
                <a:lnTo>
                  <a:pt x="1559" y="0"/>
                </a:lnTo>
                <a:lnTo>
                  <a:pt x="0" y="226"/>
                </a:lnTo>
                <a:lnTo>
                  <a:pt x="72" y="256"/>
                </a:lnTo>
                <a:close/>
              </a:path>
            </a:pathLst>
          </a:custGeom>
          <a:solidFill>
            <a:srgbClr val="d896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832880" y="849240"/>
            <a:ext cx="212400" cy="787320"/>
          </a:xfrm>
          <a:custGeom>
            <a:avLst/>
            <a:gdLst/>
            <a:ahLst/>
            <a:rect l="l" t="t" r="r" b="b"/>
            <a:pathLst>
              <a:path w="267" h="992">
                <a:moveTo>
                  <a:pt x="200" y="966"/>
                </a:moveTo>
                <a:lnTo>
                  <a:pt x="0" y="49"/>
                </a:lnTo>
                <a:lnTo>
                  <a:pt x="51" y="0"/>
                </a:lnTo>
                <a:lnTo>
                  <a:pt x="267" y="992"/>
                </a:lnTo>
                <a:lnTo>
                  <a:pt x="200" y="966"/>
                </a:lnTo>
                <a:close/>
              </a:path>
            </a:pathLst>
          </a:custGeom>
          <a:solidFill>
            <a:srgbClr val="ff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07240" y="1616040"/>
            <a:ext cx="1235160" cy="203400"/>
          </a:xfrm>
          <a:custGeom>
            <a:avLst/>
            <a:gdLst/>
            <a:ahLst/>
            <a:rect l="l" t="t" r="r" b="b"/>
            <a:pathLst>
              <a:path w="1557" h="255">
                <a:moveTo>
                  <a:pt x="54" y="208"/>
                </a:moveTo>
                <a:lnTo>
                  <a:pt x="1491" y="0"/>
                </a:lnTo>
                <a:lnTo>
                  <a:pt x="1557" y="31"/>
                </a:lnTo>
                <a:lnTo>
                  <a:pt x="0" y="255"/>
                </a:lnTo>
                <a:lnTo>
                  <a:pt x="54" y="208"/>
                </a:lnTo>
                <a:close/>
              </a:path>
            </a:pathLst>
          </a:custGeom>
          <a:solidFill>
            <a:srgbClr val="ffed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236000" y="1149480"/>
            <a:ext cx="2880" cy="1440"/>
          </a:xfrm>
          <a:custGeom>
            <a:avLst/>
            <a:gdLst/>
            <a:ahLst/>
            <a:rect l="l" t="t" r="r" b="b"/>
            <a:pathLst>
              <a:path w="5" h="1">
                <a:moveTo>
                  <a:pt x="0" y="1"/>
                </a:moveTo>
                <a:lnTo>
                  <a:pt x="5" y="0"/>
                </a:lnTo>
                <a:lnTo>
                  <a:pt x="3" y="0"/>
                </a:lnTo>
                <a:lnTo>
                  <a:pt x="3" y="0"/>
                </a:lnTo>
                <a:lnTo>
                  <a:pt x="2" y="1"/>
                </a:lnTo>
                <a:lnTo>
                  <a:pt x="0" y="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97600" y="1236600"/>
            <a:ext cx="417600" cy="405000"/>
          </a:xfrm>
          <a:custGeom>
            <a:avLst/>
            <a:gdLst/>
            <a:ahLst/>
            <a:rect l="l" t="t" r="r" b="b"/>
            <a:pathLst>
              <a:path w="525" h="509">
                <a:moveTo>
                  <a:pt x="390" y="282"/>
                </a:moveTo>
                <a:lnTo>
                  <a:pt x="395" y="290"/>
                </a:lnTo>
                <a:lnTo>
                  <a:pt x="399" y="297"/>
                </a:lnTo>
                <a:lnTo>
                  <a:pt x="406" y="303"/>
                </a:lnTo>
                <a:lnTo>
                  <a:pt x="411" y="307"/>
                </a:lnTo>
                <a:lnTo>
                  <a:pt x="418" y="311"/>
                </a:lnTo>
                <a:lnTo>
                  <a:pt x="425" y="312"/>
                </a:lnTo>
                <a:lnTo>
                  <a:pt x="431" y="311"/>
                </a:lnTo>
                <a:lnTo>
                  <a:pt x="437" y="307"/>
                </a:lnTo>
                <a:lnTo>
                  <a:pt x="449" y="291"/>
                </a:lnTo>
                <a:lnTo>
                  <a:pt x="459" y="275"/>
                </a:lnTo>
                <a:lnTo>
                  <a:pt x="466" y="258"/>
                </a:lnTo>
                <a:lnTo>
                  <a:pt x="472" y="240"/>
                </a:lnTo>
                <a:lnTo>
                  <a:pt x="473" y="223"/>
                </a:lnTo>
                <a:lnTo>
                  <a:pt x="472" y="206"/>
                </a:lnTo>
                <a:lnTo>
                  <a:pt x="468" y="187"/>
                </a:lnTo>
                <a:lnTo>
                  <a:pt x="461" y="169"/>
                </a:lnTo>
                <a:lnTo>
                  <a:pt x="449" y="149"/>
                </a:lnTo>
                <a:lnTo>
                  <a:pt x="437" y="131"/>
                </a:lnTo>
                <a:lnTo>
                  <a:pt x="420" y="114"/>
                </a:lnTo>
                <a:lnTo>
                  <a:pt x="402" y="98"/>
                </a:lnTo>
                <a:lnTo>
                  <a:pt x="382" y="84"/>
                </a:lnTo>
                <a:lnTo>
                  <a:pt x="359" y="71"/>
                </a:lnTo>
                <a:lnTo>
                  <a:pt x="337" y="61"/>
                </a:lnTo>
                <a:lnTo>
                  <a:pt x="313" y="53"/>
                </a:lnTo>
                <a:lnTo>
                  <a:pt x="288" y="46"/>
                </a:lnTo>
                <a:lnTo>
                  <a:pt x="262" y="42"/>
                </a:lnTo>
                <a:lnTo>
                  <a:pt x="237" y="40"/>
                </a:lnTo>
                <a:lnTo>
                  <a:pt x="212" y="41"/>
                </a:lnTo>
                <a:lnTo>
                  <a:pt x="187" y="45"/>
                </a:lnTo>
                <a:lnTo>
                  <a:pt x="161" y="50"/>
                </a:lnTo>
                <a:lnTo>
                  <a:pt x="139" y="58"/>
                </a:lnTo>
                <a:lnTo>
                  <a:pt x="116" y="70"/>
                </a:lnTo>
                <a:lnTo>
                  <a:pt x="94" y="87"/>
                </a:lnTo>
                <a:lnTo>
                  <a:pt x="78" y="106"/>
                </a:lnTo>
                <a:lnTo>
                  <a:pt x="66" y="125"/>
                </a:lnTo>
                <a:lnTo>
                  <a:pt x="59" y="147"/>
                </a:lnTo>
                <a:lnTo>
                  <a:pt x="54" y="170"/>
                </a:lnTo>
                <a:lnTo>
                  <a:pt x="52" y="194"/>
                </a:lnTo>
                <a:lnTo>
                  <a:pt x="52" y="219"/>
                </a:lnTo>
                <a:lnTo>
                  <a:pt x="52" y="245"/>
                </a:lnTo>
                <a:lnTo>
                  <a:pt x="50" y="281"/>
                </a:lnTo>
                <a:lnTo>
                  <a:pt x="49" y="313"/>
                </a:lnTo>
                <a:lnTo>
                  <a:pt x="56" y="343"/>
                </a:lnTo>
                <a:lnTo>
                  <a:pt x="74" y="372"/>
                </a:lnTo>
                <a:lnTo>
                  <a:pt x="91" y="388"/>
                </a:lnTo>
                <a:lnTo>
                  <a:pt x="109" y="404"/>
                </a:lnTo>
                <a:lnTo>
                  <a:pt x="129" y="418"/>
                </a:lnTo>
                <a:lnTo>
                  <a:pt x="150" y="429"/>
                </a:lnTo>
                <a:lnTo>
                  <a:pt x="173" y="441"/>
                </a:lnTo>
                <a:lnTo>
                  <a:pt x="195" y="450"/>
                </a:lnTo>
                <a:lnTo>
                  <a:pt x="219" y="457"/>
                </a:lnTo>
                <a:lnTo>
                  <a:pt x="243" y="463"/>
                </a:lnTo>
                <a:lnTo>
                  <a:pt x="267" y="466"/>
                </a:lnTo>
                <a:lnTo>
                  <a:pt x="292" y="467"/>
                </a:lnTo>
                <a:lnTo>
                  <a:pt x="316" y="467"/>
                </a:lnTo>
                <a:lnTo>
                  <a:pt x="338" y="464"/>
                </a:lnTo>
                <a:lnTo>
                  <a:pt x="362" y="458"/>
                </a:lnTo>
                <a:lnTo>
                  <a:pt x="383" y="450"/>
                </a:lnTo>
                <a:lnTo>
                  <a:pt x="404" y="439"/>
                </a:lnTo>
                <a:lnTo>
                  <a:pt x="424" y="425"/>
                </a:lnTo>
                <a:lnTo>
                  <a:pt x="434" y="419"/>
                </a:lnTo>
                <a:lnTo>
                  <a:pt x="444" y="418"/>
                </a:lnTo>
                <a:lnTo>
                  <a:pt x="452" y="420"/>
                </a:lnTo>
                <a:lnTo>
                  <a:pt x="461" y="425"/>
                </a:lnTo>
                <a:lnTo>
                  <a:pt x="465" y="430"/>
                </a:lnTo>
                <a:lnTo>
                  <a:pt x="468" y="439"/>
                </a:lnTo>
                <a:lnTo>
                  <a:pt x="466" y="447"/>
                </a:lnTo>
                <a:lnTo>
                  <a:pt x="459" y="455"/>
                </a:lnTo>
                <a:lnTo>
                  <a:pt x="435" y="472"/>
                </a:lnTo>
                <a:lnTo>
                  <a:pt x="410" y="485"/>
                </a:lnTo>
                <a:lnTo>
                  <a:pt x="383" y="495"/>
                </a:lnTo>
                <a:lnTo>
                  <a:pt x="357" y="503"/>
                </a:lnTo>
                <a:lnTo>
                  <a:pt x="327" y="508"/>
                </a:lnTo>
                <a:lnTo>
                  <a:pt x="298" y="509"/>
                </a:lnTo>
                <a:lnTo>
                  <a:pt x="268" y="508"/>
                </a:lnTo>
                <a:lnTo>
                  <a:pt x="239" y="504"/>
                </a:lnTo>
                <a:lnTo>
                  <a:pt x="210" y="498"/>
                </a:lnTo>
                <a:lnTo>
                  <a:pt x="181" y="489"/>
                </a:lnTo>
                <a:lnTo>
                  <a:pt x="153" y="479"/>
                </a:lnTo>
                <a:lnTo>
                  <a:pt x="126" y="466"/>
                </a:lnTo>
                <a:lnTo>
                  <a:pt x="101" y="451"/>
                </a:lnTo>
                <a:lnTo>
                  <a:pt x="77" y="435"/>
                </a:lnTo>
                <a:lnTo>
                  <a:pt x="54" y="417"/>
                </a:lnTo>
                <a:lnTo>
                  <a:pt x="35" y="397"/>
                </a:lnTo>
                <a:lnTo>
                  <a:pt x="21" y="380"/>
                </a:lnTo>
                <a:lnTo>
                  <a:pt x="11" y="363"/>
                </a:lnTo>
                <a:lnTo>
                  <a:pt x="5" y="344"/>
                </a:lnTo>
                <a:lnTo>
                  <a:pt x="1" y="326"/>
                </a:lnTo>
                <a:lnTo>
                  <a:pt x="0" y="307"/>
                </a:lnTo>
                <a:lnTo>
                  <a:pt x="0" y="288"/>
                </a:lnTo>
                <a:lnTo>
                  <a:pt x="1" y="267"/>
                </a:lnTo>
                <a:lnTo>
                  <a:pt x="1" y="245"/>
                </a:lnTo>
                <a:lnTo>
                  <a:pt x="1" y="214"/>
                </a:lnTo>
                <a:lnTo>
                  <a:pt x="3" y="184"/>
                </a:lnTo>
                <a:lnTo>
                  <a:pt x="7" y="155"/>
                </a:lnTo>
                <a:lnTo>
                  <a:pt x="14" y="129"/>
                </a:lnTo>
                <a:lnTo>
                  <a:pt x="24" y="102"/>
                </a:lnTo>
                <a:lnTo>
                  <a:pt x="39" y="79"/>
                </a:lnTo>
                <a:lnTo>
                  <a:pt x="59" y="56"/>
                </a:lnTo>
                <a:lnTo>
                  <a:pt x="85" y="37"/>
                </a:lnTo>
                <a:lnTo>
                  <a:pt x="112" y="23"/>
                </a:lnTo>
                <a:lnTo>
                  <a:pt x="142" y="11"/>
                </a:lnTo>
                <a:lnTo>
                  <a:pt x="171" y="4"/>
                </a:lnTo>
                <a:lnTo>
                  <a:pt x="202" y="0"/>
                </a:lnTo>
                <a:lnTo>
                  <a:pt x="233" y="0"/>
                </a:lnTo>
                <a:lnTo>
                  <a:pt x="264" y="1"/>
                </a:lnTo>
                <a:lnTo>
                  <a:pt x="296" y="5"/>
                </a:lnTo>
                <a:lnTo>
                  <a:pt x="327" y="13"/>
                </a:lnTo>
                <a:lnTo>
                  <a:pt x="357" y="23"/>
                </a:lnTo>
                <a:lnTo>
                  <a:pt x="385" y="35"/>
                </a:lnTo>
                <a:lnTo>
                  <a:pt x="411" y="50"/>
                </a:lnTo>
                <a:lnTo>
                  <a:pt x="437" y="68"/>
                </a:lnTo>
                <a:lnTo>
                  <a:pt x="459" y="86"/>
                </a:lnTo>
                <a:lnTo>
                  <a:pt x="479" y="107"/>
                </a:lnTo>
                <a:lnTo>
                  <a:pt x="496" y="130"/>
                </a:lnTo>
                <a:lnTo>
                  <a:pt x="510" y="154"/>
                </a:lnTo>
                <a:lnTo>
                  <a:pt x="518" y="177"/>
                </a:lnTo>
                <a:lnTo>
                  <a:pt x="524" y="201"/>
                </a:lnTo>
                <a:lnTo>
                  <a:pt x="525" y="224"/>
                </a:lnTo>
                <a:lnTo>
                  <a:pt x="522" y="246"/>
                </a:lnTo>
                <a:lnTo>
                  <a:pt x="517" y="268"/>
                </a:lnTo>
                <a:lnTo>
                  <a:pt x="507" y="290"/>
                </a:lnTo>
                <a:lnTo>
                  <a:pt x="494" y="312"/>
                </a:lnTo>
                <a:lnTo>
                  <a:pt x="477" y="333"/>
                </a:lnTo>
                <a:lnTo>
                  <a:pt x="468" y="341"/>
                </a:lnTo>
                <a:lnTo>
                  <a:pt x="456" y="344"/>
                </a:lnTo>
                <a:lnTo>
                  <a:pt x="444" y="345"/>
                </a:lnTo>
                <a:lnTo>
                  <a:pt x="430" y="344"/>
                </a:lnTo>
                <a:lnTo>
                  <a:pt x="414" y="339"/>
                </a:lnTo>
                <a:lnTo>
                  <a:pt x="400" y="334"/>
                </a:lnTo>
                <a:lnTo>
                  <a:pt x="385" y="325"/>
                </a:lnTo>
                <a:lnTo>
                  <a:pt x="372" y="315"/>
                </a:lnTo>
                <a:lnTo>
                  <a:pt x="365" y="329"/>
                </a:lnTo>
                <a:lnTo>
                  <a:pt x="358" y="342"/>
                </a:lnTo>
                <a:lnTo>
                  <a:pt x="348" y="354"/>
                </a:lnTo>
                <a:lnTo>
                  <a:pt x="338" y="365"/>
                </a:lnTo>
                <a:lnTo>
                  <a:pt x="326" y="374"/>
                </a:lnTo>
                <a:lnTo>
                  <a:pt x="312" y="382"/>
                </a:lnTo>
                <a:lnTo>
                  <a:pt x="296" y="388"/>
                </a:lnTo>
                <a:lnTo>
                  <a:pt x="278" y="392"/>
                </a:lnTo>
                <a:lnTo>
                  <a:pt x="251" y="394"/>
                </a:lnTo>
                <a:lnTo>
                  <a:pt x="226" y="390"/>
                </a:lnTo>
                <a:lnTo>
                  <a:pt x="202" y="381"/>
                </a:lnTo>
                <a:lnTo>
                  <a:pt x="181" y="368"/>
                </a:lnTo>
                <a:lnTo>
                  <a:pt x="163" y="352"/>
                </a:lnTo>
                <a:lnTo>
                  <a:pt x="147" y="334"/>
                </a:lnTo>
                <a:lnTo>
                  <a:pt x="136" y="312"/>
                </a:lnTo>
                <a:lnTo>
                  <a:pt x="130" y="290"/>
                </a:lnTo>
                <a:lnTo>
                  <a:pt x="129" y="266"/>
                </a:lnTo>
                <a:lnTo>
                  <a:pt x="132" y="242"/>
                </a:lnTo>
                <a:lnTo>
                  <a:pt x="140" y="220"/>
                </a:lnTo>
                <a:lnTo>
                  <a:pt x="151" y="199"/>
                </a:lnTo>
                <a:lnTo>
                  <a:pt x="168" y="181"/>
                </a:lnTo>
                <a:lnTo>
                  <a:pt x="188" y="167"/>
                </a:lnTo>
                <a:lnTo>
                  <a:pt x="213" y="156"/>
                </a:lnTo>
                <a:lnTo>
                  <a:pt x="240" y="153"/>
                </a:lnTo>
                <a:lnTo>
                  <a:pt x="269" y="155"/>
                </a:lnTo>
                <a:lnTo>
                  <a:pt x="298" y="161"/>
                </a:lnTo>
                <a:lnTo>
                  <a:pt x="323" y="171"/>
                </a:lnTo>
                <a:lnTo>
                  <a:pt x="347" y="184"/>
                </a:lnTo>
                <a:lnTo>
                  <a:pt x="366" y="201"/>
                </a:lnTo>
                <a:lnTo>
                  <a:pt x="380" y="221"/>
                </a:lnTo>
                <a:lnTo>
                  <a:pt x="392" y="243"/>
                </a:lnTo>
                <a:lnTo>
                  <a:pt x="396" y="267"/>
                </a:lnTo>
                <a:lnTo>
                  <a:pt x="396" y="272"/>
                </a:lnTo>
                <a:lnTo>
                  <a:pt x="396" y="276"/>
                </a:lnTo>
                <a:lnTo>
                  <a:pt x="393" y="280"/>
                </a:lnTo>
                <a:lnTo>
                  <a:pt x="390" y="282"/>
                </a:lnTo>
                <a:close/>
                <a:moveTo>
                  <a:pt x="390" y="253"/>
                </a:moveTo>
                <a:lnTo>
                  <a:pt x="390" y="257"/>
                </a:lnTo>
                <a:lnTo>
                  <a:pt x="390" y="255"/>
                </a:lnTo>
                <a:lnTo>
                  <a:pt x="390" y="254"/>
                </a:lnTo>
                <a:lnTo>
                  <a:pt x="390" y="254"/>
                </a:lnTo>
                <a:lnTo>
                  <a:pt x="390" y="253"/>
                </a:lnTo>
                <a:close/>
                <a:moveTo>
                  <a:pt x="340" y="247"/>
                </a:moveTo>
                <a:lnTo>
                  <a:pt x="333" y="236"/>
                </a:lnTo>
                <a:lnTo>
                  <a:pt x="324" y="225"/>
                </a:lnTo>
                <a:lnTo>
                  <a:pt x="314" y="217"/>
                </a:lnTo>
                <a:lnTo>
                  <a:pt x="302" y="209"/>
                </a:lnTo>
                <a:lnTo>
                  <a:pt x="288" y="204"/>
                </a:lnTo>
                <a:lnTo>
                  <a:pt x="274" y="199"/>
                </a:lnTo>
                <a:lnTo>
                  <a:pt x="257" y="197"/>
                </a:lnTo>
                <a:lnTo>
                  <a:pt x="241" y="195"/>
                </a:lnTo>
                <a:lnTo>
                  <a:pt x="225" y="198"/>
                </a:lnTo>
                <a:lnTo>
                  <a:pt x="210" y="205"/>
                </a:lnTo>
                <a:lnTo>
                  <a:pt x="199" y="214"/>
                </a:lnTo>
                <a:lnTo>
                  <a:pt x="191" y="225"/>
                </a:lnTo>
                <a:lnTo>
                  <a:pt x="184" y="239"/>
                </a:lnTo>
                <a:lnTo>
                  <a:pt x="181" y="254"/>
                </a:lnTo>
                <a:lnTo>
                  <a:pt x="180" y="269"/>
                </a:lnTo>
                <a:lnTo>
                  <a:pt x="181" y="284"/>
                </a:lnTo>
                <a:lnTo>
                  <a:pt x="185" y="298"/>
                </a:lnTo>
                <a:lnTo>
                  <a:pt x="191" y="311"/>
                </a:lnTo>
                <a:lnTo>
                  <a:pt x="199" y="323"/>
                </a:lnTo>
                <a:lnTo>
                  <a:pt x="210" y="334"/>
                </a:lnTo>
                <a:lnTo>
                  <a:pt x="222" y="343"/>
                </a:lnTo>
                <a:lnTo>
                  <a:pt x="236" y="349"/>
                </a:lnTo>
                <a:lnTo>
                  <a:pt x="251" y="352"/>
                </a:lnTo>
                <a:lnTo>
                  <a:pt x="267" y="351"/>
                </a:lnTo>
                <a:lnTo>
                  <a:pt x="285" y="346"/>
                </a:lnTo>
                <a:lnTo>
                  <a:pt x="299" y="338"/>
                </a:lnTo>
                <a:lnTo>
                  <a:pt x="310" y="329"/>
                </a:lnTo>
                <a:lnTo>
                  <a:pt x="319" y="316"/>
                </a:lnTo>
                <a:lnTo>
                  <a:pt x="326" y="304"/>
                </a:lnTo>
                <a:lnTo>
                  <a:pt x="330" y="289"/>
                </a:lnTo>
                <a:lnTo>
                  <a:pt x="334" y="273"/>
                </a:lnTo>
                <a:lnTo>
                  <a:pt x="338" y="257"/>
                </a:lnTo>
                <a:lnTo>
                  <a:pt x="338" y="254"/>
                </a:lnTo>
                <a:lnTo>
                  <a:pt x="338" y="252"/>
                </a:lnTo>
                <a:lnTo>
                  <a:pt x="338" y="250"/>
                </a:lnTo>
                <a:lnTo>
                  <a:pt x="340" y="2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515360" y="1308240"/>
            <a:ext cx="360360" cy="191880"/>
          </a:xfrm>
          <a:custGeom>
            <a:avLst/>
            <a:gdLst/>
            <a:ahLst/>
            <a:rect l="l" t="t" r="r" b="b"/>
            <a:pathLst>
              <a:path w="454" h="240">
                <a:moveTo>
                  <a:pt x="7" y="182"/>
                </a:moveTo>
                <a:lnTo>
                  <a:pt x="19" y="169"/>
                </a:lnTo>
                <a:lnTo>
                  <a:pt x="33" y="157"/>
                </a:lnTo>
                <a:lnTo>
                  <a:pt x="46" y="145"/>
                </a:lnTo>
                <a:lnTo>
                  <a:pt x="60" y="132"/>
                </a:lnTo>
                <a:lnTo>
                  <a:pt x="74" y="119"/>
                </a:lnTo>
                <a:lnTo>
                  <a:pt x="88" y="107"/>
                </a:lnTo>
                <a:lnTo>
                  <a:pt x="104" y="95"/>
                </a:lnTo>
                <a:lnTo>
                  <a:pt x="118" y="84"/>
                </a:lnTo>
                <a:lnTo>
                  <a:pt x="123" y="73"/>
                </a:lnTo>
                <a:lnTo>
                  <a:pt x="129" y="64"/>
                </a:lnTo>
                <a:lnTo>
                  <a:pt x="136" y="54"/>
                </a:lnTo>
                <a:lnTo>
                  <a:pt x="144" y="46"/>
                </a:lnTo>
                <a:lnTo>
                  <a:pt x="153" y="36"/>
                </a:lnTo>
                <a:lnTo>
                  <a:pt x="163" y="29"/>
                </a:lnTo>
                <a:lnTo>
                  <a:pt x="174" y="23"/>
                </a:lnTo>
                <a:lnTo>
                  <a:pt x="187" y="16"/>
                </a:lnTo>
                <a:lnTo>
                  <a:pt x="209" y="6"/>
                </a:lnTo>
                <a:lnTo>
                  <a:pt x="233" y="2"/>
                </a:lnTo>
                <a:lnTo>
                  <a:pt x="258" y="0"/>
                </a:lnTo>
                <a:lnTo>
                  <a:pt x="282" y="2"/>
                </a:lnTo>
                <a:lnTo>
                  <a:pt x="306" y="6"/>
                </a:lnTo>
                <a:lnTo>
                  <a:pt x="330" y="13"/>
                </a:lnTo>
                <a:lnTo>
                  <a:pt x="352" y="24"/>
                </a:lnTo>
                <a:lnTo>
                  <a:pt x="374" y="36"/>
                </a:lnTo>
                <a:lnTo>
                  <a:pt x="378" y="39"/>
                </a:lnTo>
                <a:lnTo>
                  <a:pt x="383" y="46"/>
                </a:lnTo>
                <a:lnTo>
                  <a:pt x="386" y="52"/>
                </a:lnTo>
                <a:lnTo>
                  <a:pt x="385" y="59"/>
                </a:lnTo>
                <a:lnTo>
                  <a:pt x="381" y="65"/>
                </a:lnTo>
                <a:lnTo>
                  <a:pt x="375" y="70"/>
                </a:lnTo>
                <a:lnTo>
                  <a:pt x="366" y="73"/>
                </a:lnTo>
                <a:lnTo>
                  <a:pt x="358" y="73"/>
                </a:lnTo>
                <a:lnTo>
                  <a:pt x="348" y="71"/>
                </a:lnTo>
                <a:lnTo>
                  <a:pt x="324" y="61"/>
                </a:lnTo>
                <a:lnTo>
                  <a:pt x="299" y="55"/>
                </a:lnTo>
                <a:lnTo>
                  <a:pt x="277" y="54"/>
                </a:lnTo>
                <a:lnTo>
                  <a:pt x="253" y="56"/>
                </a:lnTo>
                <a:lnTo>
                  <a:pt x="230" y="63"/>
                </a:lnTo>
                <a:lnTo>
                  <a:pt x="209" y="72"/>
                </a:lnTo>
                <a:lnTo>
                  <a:pt x="187" y="85"/>
                </a:lnTo>
                <a:lnTo>
                  <a:pt x="166" y="99"/>
                </a:lnTo>
                <a:lnTo>
                  <a:pt x="161" y="112"/>
                </a:lnTo>
                <a:lnTo>
                  <a:pt x="160" y="127"/>
                </a:lnTo>
                <a:lnTo>
                  <a:pt x="161" y="144"/>
                </a:lnTo>
                <a:lnTo>
                  <a:pt x="166" y="158"/>
                </a:lnTo>
                <a:lnTo>
                  <a:pt x="171" y="171"/>
                </a:lnTo>
                <a:lnTo>
                  <a:pt x="181" y="182"/>
                </a:lnTo>
                <a:lnTo>
                  <a:pt x="192" y="191"/>
                </a:lnTo>
                <a:lnTo>
                  <a:pt x="208" y="196"/>
                </a:lnTo>
                <a:lnTo>
                  <a:pt x="223" y="201"/>
                </a:lnTo>
                <a:lnTo>
                  <a:pt x="240" y="205"/>
                </a:lnTo>
                <a:lnTo>
                  <a:pt x="260" y="206"/>
                </a:lnTo>
                <a:lnTo>
                  <a:pt x="278" y="206"/>
                </a:lnTo>
                <a:lnTo>
                  <a:pt x="298" y="203"/>
                </a:lnTo>
                <a:lnTo>
                  <a:pt x="317" y="200"/>
                </a:lnTo>
                <a:lnTo>
                  <a:pt x="336" y="194"/>
                </a:lnTo>
                <a:lnTo>
                  <a:pt x="354" y="187"/>
                </a:lnTo>
                <a:lnTo>
                  <a:pt x="371" y="179"/>
                </a:lnTo>
                <a:lnTo>
                  <a:pt x="385" y="170"/>
                </a:lnTo>
                <a:lnTo>
                  <a:pt x="397" y="160"/>
                </a:lnTo>
                <a:lnTo>
                  <a:pt x="407" y="147"/>
                </a:lnTo>
                <a:lnTo>
                  <a:pt x="414" y="140"/>
                </a:lnTo>
                <a:lnTo>
                  <a:pt x="423" y="137"/>
                </a:lnTo>
                <a:lnTo>
                  <a:pt x="433" y="137"/>
                </a:lnTo>
                <a:lnTo>
                  <a:pt x="441" y="139"/>
                </a:lnTo>
                <a:lnTo>
                  <a:pt x="448" y="144"/>
                </a:lnTo>
                <a:lnTo>
                  <a:pt x="452" y="150"/>
                </a:lnTo>
                <a:lnTo>
                  <a:pt x="454" y="157"/>
                </a:lnTo>
                <a:lnTo>
                  <a:pt x="451" y="167"/>
                </a:lnTo>
                <a:lnTo>
                  <a:pt x="438" y="183"/>
                </a:lnTo>
                <a:lnTo>
                  <a:pt x="420" y="198"/>
                </a:lnTo>
                <a:lnTo>
                  <a:pt x="400" y="210"/>
                </a:lnTo>
                <a:lnTo>
                  <a:pt x="378" y="221"/>
                </a:lnTo>
                <a:lnTo>
                  <a:pt x="354" y="229"/>
                </a:lnTo>
                <a:lnTo>
                  <a:pt x="327" y="235"/>
                </a:lnTo>
                <a:lnTo>
                  <a:pt x="300" y="239"/>
                </a:lnTo>
                <a:lnTo>
                  <a:pt x="274" y="240"/>
                </a:lnTo>
                <a:lnTo>
                  <a:pt x="247" y="240"/>
                </a:lnTo>
                <a:lnTo>
                  <a:pt x="222" y="237"/>
                </a:lnTo>
                <a:lnTo>
                  <a:pt x="196" y="232"/>
                </a:lnTo>
                <a:lnTo>
                  <a:pt x="174" y="224"/>
                </a:lnTo>
                <a:lnTo>
                  <a:pt x="154" y="214"/>
                </a:lnTo>
                <a:lnTo>
                  <a:pt x="137" y="202"/>
                </a:lnTo>
                <a:lnTo>
                  <a:pt x="125" y="186"/>
                </a:lnTo>
                <a:lnTo>
                  <a:pt x="116" y="169"/>
                </a:lnTo>
                <a:lnTo>
                  <a:pt x="115" y="163"/>
                </a:lnTo>
                <a:lnTo>
                  <a:pt x="114" y="156"/>
                </a:lnTo>
                <a:lnTo>
                  <a:pt x="112" y="150"/>
                </a:lnTo>
                <a:lnTo>
                  <a:pt x="111" y="145"/>
                </a:lnTo>
                <a:lnTo>
                  <a:pt x="102" y="153"/>
                </a:lnTo>
                <a:lnTo>
                  <a:pt x="94" y="161"/>
                </a:lnTo>
                <a:lnTo>
                  <a:pt x="85" y="169"/>
                </a:lnTo>
                <a:lnTo>
                  <a:pt x="77" y="177"/>
                </a:lnTo>
                <a:lnTo>
                  <a:pt x="69" y="185"/>
                </a:lnTo>
                <a:lnTo>
                  <a:pt x="60" y="193"/>
                </a:lnTo>
                <a:lnTo>
                  <a:pt x="53" y="200"/>
                </a:lnTo>
                <a:lnTo>
                  <a:pt x="45" y="208"/>
                </a:lnTo>
                <a:lnTo>
                  <a:pt x="36" y="214"/>
                </a:lnTo>
                <a:lnTo>
                  <a:pt x="26" y="216"/>
                </a:lnTo>
                <a:lnTo>
                  <a:pt x="17" y="214"/>
                </a:lnTo>
                <a:lnTo>
                  <a:pt x="10" y="210"/>
                </a:lnTo>
                <a:lnTo>
                  <a:pt x="3" y="205"/>
                </a:lnTo>
                <a:lnTo>
                  <a:pt x="0" y="198"/>
                </a:lnTo>
                <a:lnTo>
                  <a:pt x="1" y="190"/>
                </a:lnTo>
                <a:lnTo>
                  <a:pt x="7" y="18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554880" y="1839960"/>
            <a:ext cx="546120" cy="433440"/>
          </a:xfrm>
          <a:custGeom>
            <a:avLst/>
            <a:gdLst/>
            <a:ahLst/>
            <a:rect l="l" t="t" r="r" b="b"/>
            <a:pathLst>
              <a:path w="687" h="545">
                <a:moveTo>
                  <a:pt x="599" y="200"/>
                </a:moveTo>
                <a:lnTo>
                  <a:pt x="618" y="218"/>
                </a:lnTo>
                <a:lnTo>
                  <a:pt x="638" y="233"/>
                </a:lnTo>
                <a:lnTo>
                  <a:pt x="655" y="246"/>
                </a:lnTo>
                <a:lnTo>
                  <a:pt x="670" y="259"/>
                </a:lnTo>
                <a:lnTo>
                  <a:pt x="681" y="274"/>
                </a:lnTo>
                <a:lnTo>
                  <a:pt x="687" y="289"/>
                </a:lnTo>
                <a:lnTo>
                  <a:pt x="687" y="306"/>
                </a:lnTo>
                <a:lnTo>
                  <a:pt x="680" y="326"/>
                </a:lnTo>
                <a:lnTo>
                  <a:pt x="672" y="344"/>
                </a:lnTo>
                <a:lnTo>
                  <a:pt x="662" y="362"/>
                </a:lnTo>
                <a:lnTo>
                  <a:pt x="650" y="378"/>
                </a:lnTo>
                <a:lnTo>
                  <a:pt x="639" y="392"/>
                </a:lnTo>
                <a:lnTo>
                  <a:pt x="625" y="402"/>
                </a:lnTo>
                <a:lnTo>
                  <a:pt x="610" y="409"/>
                </a:lnTo>
                <a:lnTo>
                  <a:pt x="593" y="410"/>
                </a:lnTo>
                <a:lnTo>
                  <a:pt x="572" y="404"/>
                </a:lnTo>
                <a:lnTo>
                  <a:pt x="570" y="420"/>
                </a:lnTo>
                <a:lnTo>
                  <a:pt x="569" y="432"/>
                </a:lnTo>
                <a:lnTo>
                  <a:pt x="565" y="442"/>
                </a:lnTo>
                <a:lnTo>
                  <a:pt x="559" y="450"/>
                </a:lnTo>
                <a:lnTo>
                  <a:pt x="552" y="458"/>
                </a:lnTo>
                <a:lnTo>
                  <a:pt x="545" y="467"/>
                </a:lnTo>
                <a:lnTo>
                  <a:pt x="535" y="477"/>
                </a:lnTo>
                <a:lnTo>
                  <a:pt x="524" y="491"/>
                </a:lnTo>
                <a:lnTo>
                  <a:pt x="513" y="502"/>
                </a:lnTo>
                <a:lnTo>
                  <a:pt x="499" y="511"/>
                </a:lnTo>
                <a:lnTo>
                  <a:pt x="483" y="517"/>
                </a:lnTo>
                <a:lnTo>
                  <a:pt x="468" y="521"/>
                </a:lnTo>
                <a:lnTo>
                  <a:pt x="450" y="523"/>
                </a:lnTo>
                <a:lnTo>
                  <a:pt x="431" y="522"/>
                </a:lnTo>
                <a:lnTo>
                  <a:pt x="413" y="520"/>
                </a:lnTo>
                <a:lnTo>
                  <a:pt x="395" y="516"/>
                </a:lnTo>
                <a:lnTo>
                  <a:pt x="376" y="513"/>
                </a:lnTo>
                <a:lnTo>
                  <a:pt x="360" y="513"/>
                </a:lnTo>
                <a:lnTo>
                  <a:pt x="341" y="513"/>
                </a:lnTo>
                <a:lnTo>
                  <a:pt x="325" y="516"/>
                </a:lnTo>
                <a:lnTo>
                  <a:pt x="308" y="520"/>
                </a:lnTo>
                <a:lnTo>
                  <a:pt x="291" y="524"/>
                </a:lnTo>
                <a:lnTo>
                  <a:pt x="275" y="529"/>
                </a:lnTo>
                <a:lnTo>
                  <a:pt x="258" y="533"/>
                </a:lnTo>
                <a:lnTo>
                  <a:pt x="243" y="538"/>
                </a:lnTo>
                <a:lnTo>
                  <a:pt x="228" y="541"/>
                </a:lnTo>
                <a:lnTo>
                  <a:pt x="212" y="544"/>
                </a:lnTo>
                <a:lnTo>
                  <a:pt x="197" y="545"/>
                </a:lnTo>
                <a:lnTo>
                  <a:pt x="181" y="545"/>
                </a:lnTo>
                <a:lnTo>
                  <a:pt x="166" y="543"/>
                </a:lnTo>
                <a:lnTo>
                  <a:pt x="152" y="537"/>
                </a:lnTo>
                <a:lnTo>
                  <a:pt x="136" y="529"/>
                </a:lnTo>
                <a:lnTo>
                  <a:pt x="121" y="520"/>
                </a:lnTo>
                <a:lnTo>
                  <a:pt x="105" y="510"/>
                </a:lnTo>
                <a:lnTo>
                  <a:pt x="91" y="500"/>
                </a:lnTo>
                <a:lnTo>
                  <a:pt x="80" y="491"/>
                </a:lnTo>
                <a:lnTo>
                  <a:pt x="69" y="479"/>
                </a:lnTo>
                <a:lnTo>
                  <a:pt x="62" y="468"/>
                </a:lnTo>
                <a:lnTo>
                  <a:pt x="56" y="454"/>
                </a:lnTo>
                <a:lnTo>
                  <a:pt x="55" y="439"/>
                </a:lnTo>
                <a:lnTo>
                  <a:pt x="52" y="422"/>
                </a:lnTo>
                <a:lnTo>
                  <a:pt x="43" y="407"/>
                </a:lnTo>
                <a:lnTo>
                  <a:pt x="32" y="393"/>
                </a:lnTo>
                <a:lnTo>
                  <a:pt x="20" y="380"/>
                </a:lnTo>
                <a:lnTo>
                  <a:pt x="10" y="367"/>
                </a:lnTo>
                <a:lnTo>
                  <a:pt x="1" y="354"/>
                </a:lnTo>
                <a:lnTo>
                  <a:pt x="0" y="341"/>
                </a:lnTo>
                <a:lnTo>
                  <a:pt x="6" y="326"/>
                </a:lnTo>
                <a:lnTo>
                  <a:pt x="15" y="303"/>
                </a:lnTo>
                <a:lnTo>
                  <a:pt x="20" y="278"/>
                </a:lnTo>
                <a:lnTo>
                  <a:pt x="20" y="252"/>
                </a:lnTo>
                <a:lnTo>
                  <a:pt x="20" y="227"/>
                </a:lnTo>
                <a:lnTo>
                  <a:pt x="21" y="205"/>
                </a:lnTo>
                <a:lnTo>
                  <a:pt x="28" y="185"/>
                </a:lnTo>
                <a:lnTo>
                  <a:pt x="42" y="173"/>
                </a:lnTo>
                <a:lnTo>
                  <a:pt x="66" y="166"/>
                </a:lnTo>
                <a:lnTo>
                  <a:pt x="69" y="150"/>
                </a:lnTo>
                <a:lnTo>
                  <a:pt x="79" y="137"/>
                </a:lnTo>
                <a:lnTo>
                  <a:pt x="91" y="126"/>
                </a:lnTo>
                <a:lnTo>
                  <a:pt x="108" y="116"/>
                </a:lnTo>
                <a:lnTo>
                  <a:pt x="124" y="106"/>
                </a:lnTo>
                <a:lnTo>
                  <a:pt x="138" y="96"/>
                </a:lnTo>
                <a:lnTo>
                  <a:pt x="150" y="82"/>
                </a:lnTo>
                <a:lnTo>
                  <a:pt x="157" y="67"/>
                </a:lnTo>
                <a:lnTo>
                  <a:pt x="166" y="50"/>
                </a:lnTo>
                <a:lnTo>
                  <a:pt x="178" y="36"/>
                </a:lnTo>
                <a:lnTo>
                  <a:pt x="195" y="26"/>
                </a:lnTo>
                <a:lnTo>
                  <a:pt x="216" y="20"/>
                </a:lnTo>
                <a:lnTo>
                  <a:pt x="239" y="15"/>
                </a:lnTo>
                <a:lnTo>
                  <a:pt x="264" y="11"/>
                </a:lnTo>
                <a:lnTo>
                  <a:pt x="289" y="8"/>
                </a:lnTo>
                <a:lnTo>
                  <a:pt x="315" y="3"/>
                </a:lnTo>
                <a:lnTo>
                  <a:pt x="343" y="0"/>
                </a:lnTo>
                <a:lnTo>
                  <a:pt x="375" y="0"/>
                </a:lnTo>
                <a:lnTo>
                  <a:pt x="409" y="3"/>
                </a:lnTo>
                <a:lnTo>
                  <a:pt x="441" y="11"/>
                </a:lnTo>
                <a:lnTo>
                  <a:pt x="471" y="23"/>
                </a:lnTo>
                <a:lnTo>
                  <a:pt x="495" y="40"/>
                </a:lnTo>
                <a:lnTo>
                  <a:pt x="511" y="62"/>
                </a:lnTo>
                <a:lnTo>
                  <a:pt x="518" y="89"/>
                </a:lnTo>
                <a:lnTo>
                  <a:pt x="524" y="107"/>
                </a:lnTo>
                <a:lnTo>
                  <a:pt x="539" y="123"/>
                </a:lnTo>
                <a:lnTo>
                  <a:pt x="558" y="138"/>
                </a:lnTo>
                <a:lnTo>
                  <a:pt x="577" y="151"/>
                </a:lnTo>
                <a:lnTo>
                  <a:pt x="596" y="162"/>
                </a:lnTo>
                <a:lnTo>
                  <a:pt x="607" y="175"/>
                </a:lnTo>
                <a:lnTo>
                  <a:pt x="610" y="187"/>
                </a:lnTo>
                <a:lnTo>
                  <a:pt x="599" y="200"/>
                </a:lnTo>
                <a:close/>
              </a:path>
            </a:pathLst>
          </a:custGeom>
          <a:solidFill>
            <a:srgbClr val="ef7f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70800" y="2171880"/>
            <a:ext cx="77760" cy="52200"/>
          </a:xfrm>
          <a:custGeom>
            <a:avLst/>
            <a:gdLst/>
            <a:ahLst/>
            <a:rect l="l" t="t" r="r" b="b"/>
            <a:pathLst>
              <a:path w="98" h="66">
                <a:moveTo>
                  <a:pt x="0" y="28"/>
                </a:moveTo>
                <a:lnTo>
                  <a:pt x="3" y="17"/>
                </a:lnTo>
                <a:lnTo>
                  <a:pt x="11" y="8"/>
                </a:lnTo>
                <a:lnTo>
                  <a:pt x="23" y="2"/>
                </a:lnTo>
                <a:lnTo>
                  <a:pt x="38" y="0"/>
                </a:lnTo>
                <a:lnTo>
                  <a:pt x="46" y="1"/>
                </a:lnTo>
                <a:lnTo>
                  <a:pt x="56" y="6"/>
                </a:lnTo>
                <a:lnTo>
                  <a:pt x="66" y="12"/>
                </a:lnTo>
                <a:lnTo>
                  <a:pt x="76" y="18"/>
                </a:lnTo>
                <a:lnTo>
                  <a:pt x="84" y="25"/>
                </a:lnTo>
                <a:lnTo>
                  <a:pt x="91" y="33"/>
                </a:lnTo>
                <a:lnTo>
                  <a:pt x="97" y="41"/>
                </a:lnTo>
                <a:lnTo>
                  <a:pt x="98" y="47"/>
                </a:lnTo>
                <a:lnTo>
                  <a:pt x="96" y="53"/>
                </a:lnTo>
                <a:lnTo>
                  <a:pt x="90" y="58"/>
                </a:lnTo>
                <a:lnTo>
                  <a:pt x="80" y="62"/>
                </a:lnTo>
                <a:lnTo>
                  <a:pt x="70" y="64"/>
                </a:lnTo>
                <a:lnTo>
                  <a:pt x="59" y="66"/>
                </a:lnTo>
                <a:lnTo>
                  <a:pt x="49" y="64"/>
                </a:lnTo>
                <a:lnTo>
                  <a:pt x="42" y="62"/>
                </a:lnTo>
                <a:lnTo>
                  <a:pt x="38" y="56"/>
                </a:lnTo>
                <a:lnTo>
                  <a:pt x="31" y="47"/>
                </a:lnTo>
                <a:lnTo>
                  <a:pt x="17" y="41"/>
                </a:lnTo>
                <a:lnTo>
                  <a:pt x="6" y="37"/>
                </a:lnTo>
                <a:lnTo>
                  <a:pt x="0" y="28"/>
                </a:lnTo>
                <a:close/>
              </a:path>
            </a:pathLst>
          </a:custGeom>
          <a:solidFill>
            <a:srgbClr val="2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29560" y="2149560"/>
            <a:ext cx="56880" cy="31680"/>
          </a:xfrm>
          <a:custGeom>
            <a:avLst/>
            <a:gdLst/>
            <a:ahLst/>
            <a:rect l="l" t="t" r="r" b="b"/>
            <a:pathLst>
              <a:path w="71" h="41">
                <a:moveTo>
                  <a:pt x="0" y="18"/>
                </a:moveTo>
                <a:lnTo>
                  <a:pt x="2" y="11"/>
                </a:lnTo>
                <a:lnTo>
                  <a:pt x="8" y="5"/>
                </a:lnTo>
                <a:lnTo>
                  <a:pt x="16" y="1"/>
                </a:lnTo>
                <a:lnTo>
                  <a:pt x="26" y="0"/>
                </a:lnTo>
                <a:lnTo>
                  <a:pt x="33" y="1"/>
                </a:lnTo>
                <a:lnTo>
                  <a:pt x="40" y="4"/>
                </a:lnTo>
                <a:lnTo>
                  <a:pt x="47" y="7"/>
                </a:lnTo>
                <a:lnTo>
                  <a:pt x="54" y="12"/>
                </a:lnTo>
                <a:lnTo>
                  <a:pt x="61" y="16"/>
                </a:lnTo>
                <a:lnTo>
                  <a:pt x="67" y="22"/>
                </a:lnTo>
                <a:lnTo>
                  <a:pt x="70" y="27"/>
                </a:lnTo>
                <a:lnTo>
                  <a:pt x="71" y="30"/>
                </a:lnTo>
                <a:lnTo>
                  <a:pt x="70" y="34"/>
                </a:lnTo>
                <a:lnTo>
                  <a:pt x="64" y="36"/>
                </a:lnTo>
                <a:lnTo>
                  <a:pt x="59" y="38"/>
                </a:lnTo>
                <a:lnTo>
                  <a:pt x="50" y="41"/>
                </a:lnTo>
                <a:lnTo>
                  <a:pt x="42" y="41"/>
                </a:lnTo>
                <a:lnTo>
                  <a:pt x="35" y="41"/>
                </a:lnTo>
                <a:lnTo>
                  <a:pt x="29" y="38"/>
                </a:lnTo>
                <a:lnTo>
                  <a:pt x="26" y="35"/>
                </a:lnTo>
                <a:lnTo>
                  <a:pt x="21" y="30"/>
                </a:lnTo>
                <a:lnTo>
                  <a:pt x="12" y="27"/>
                </a:lnTo>
                <a:lnTo>
                  <a:pt x="4" y="23"/>
                </a:lnTo>
                <a:lnTo>
                  <a:pt x="0" y="18"/>
                </a:lnTo>
                <a:close/>
              </a:path>
            </a:pathLst>
          </a:custGeom>
          <a:solidFill>
            <a:srgbClr val="2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2013120"/>
            <a:ext cx="87480" cy="52200"/>
          </a:xfrm>
          <a:custGeom>
            <a:avLst/>
            <a:gdLst/>
            <a:ahLst/>
            <a:rect l="l" t="t" r="r" b="b"/>
            <a:pathLst>
              <a:path w="110" h="65">
                <a:moveTo>
                  <a:pt x="0" y="28"/>
                </a:moveTo>
                <a:lnTo>
                  <a:pt x="2" y="23"/>
                </a:lnTo>
                <a:lnTo>
                  <a:pt x="3" y="17"/>
                </a:lnTo>
                <a:lnTo>
                  <a:pt x="7" y="12"/>
                </a:lnTo>
                <a:lnTo>
                  <a:pt x="13" y="8"/>
                </a:lnTo>
                <a:lnTo>
                  <a:pt x="18" y="4"/>
                </a:lnTo>
                <a:lnTo>
                  <a:pt x="27" y="2"/>
                </a:lnTo>
                <a:lnTo>
                  <a:pt x="34" y="0"/>
                </a:lnTo>
                <a:lnTo>
                  <a:pt x="42" y="0"/>
                </a:lnTo>
                <a:lnTo>
                  <a:pt x="52" y="1"/>
                </a:lnTo>
                <a:lnTo>
                  <a:pt x="63" y="5"/>
                </a:lnTo>
                <a:lnTo>
                  <a:pt x="75" y="11"/>
                </a:lnTo>
                <a:lnTo>
                  <a:pt x="84" y="18"/>
                </a:lnTo>
                <a:lnTo>
                  <a:pt x="94" y="25"/>
                </a:lnTo>
                <a:lnTo>
                  <a:pt x="103" y="33"/>
                </a:lnTo>
                <a:lnTo>
                  <a:pt x="108" y="41"/>
                </a:lnTo>
                <a:lnTo>
                  <a:pt x="110" y="47"/>
                </a:lnTo>
                <a:lnTo>
                  <a:pt x="107" y="53"/>
                </a:lnTo>
                <a:lnTo>
                  <a:pt x="100" y="57"/>
                </a:lnTo>
                <a:lnTo>
                  <a:pt x="90" y="62"/>
                </a:lnTo>
                <a:lnTo>
                  <a:pt x="79" y="64"/>
                </a:lnTo>
                <a:lnTo>
                  <a:pt x="66" y="65"/>
                </a:lnTo>
                <a:lnTo>
                  <a:pt x="56" y="64"/>
                </a:lnTo>
                <a:lnTo>
                  <a:pt x="47" y="62"/>
                </a:lnTo>
                <a:lnTo>
                  <a:pt x="42" y="56"/>
                </a:lnTo>
                <a:lnTo>
                  <a:pt x="39" y="50"/>
                </a:lnTo>
                <a:lnTo>
                  <a:pt x="34" y="47"/>
                </a:lnTo>
                <a:lnTo>
                  <a:pt x="27" y="45"/>
                </a:lnTo>
                <a:lnTo>
                  <a:pt x="20" y="42"/>
                </a:lnTo>
                <a:lnTo>
                  <a:pt x="11" y="40"/>
                </a:lnTo>
                <a:lnTo>
                  <a:pt x="6" y="37"/>
                </a:lnTo>
                <a:lnTo>
                  <a:pt x="2" y="33"/>
                </a:lnTo>
                <a:lnTo>
                  <a:pt x="0" y="28"/>
                </a:lnTo>
                <a:close/>
              </a:path>
            </a:pathLst>
          </a:custGeom>
          <a:solidFill>
            <a:srgbClr val="2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18240" y="1994040"/>
            <a:ext cx="44640" cy="29880"/>
          </a:xfrm>
          <a:custGeom>
            <a:avLst/>
            <a:gdLst/>
            <a:ahLst/>
            <a:rect l="l" t="t" r="r" b="b"/>
            <a:pathLst>
              <a:path w="56" h="37">
                <a:moveTo>
                  <a:pt x="0" y="17"/>
                </a:moveTo>
                <a:lnTo>
                  <a:pt x="1" y="10"/>
                </a:lnTo>
                <a:lnTo>
                  <a:pt x="7" y="5"/>
                </a:lnTo>
                <a:lnTo>
                  <a:pt x="14" y="2"/>
                </a:lnTo>
                <a:lnTo>
                  <a:pt x="22" y="0"/>
                </a:lnTo>
                <a:lnTo>
                  <a:pt x="32" y="4"/>
                </a:lnTo>
                <a:lnTo>
                  <a:pt x="44" y="11"/>
                </a:lnTo>
                <a:lnTo>
                  <a:pt x="52" y="20"/>
                </a:lnTo>
                <a:lnTo>
                  <a:pt x="56" y="28"/>
                </a:lnTo>
                <a:lnTo>
                  <a:pt x="52" y="34"/>
                </a:lnTo>
                <a:lnTo>
                  <a:pt x="41" y="37"/>
                </a:lnTo>
                <a:lnTo>
                  <a:pt x="30" y="37"/>
                </a:lnTo>
                <a:lnTo>
                  <a:pt x="22" y="33"/>
                </a:lnTo>
                <a:lnTo>
                  <a:pt x="17" y="28"/>
                </a:lnTo>
                <a:lnTo>
                  <a:pt x="10" y="25"/>
                </a:lnTo>
                <a:lnTo>
                  <a:pt x="3" y="21"/>
                </a:lnTo>
                <a:lnTo>
                  <a:pt x="0" y="17"/>
                </a:lnTo>
                <a:close/>
              </a:path>
            </a:pathLst>
          </a:custGeom>
          <a:solidFill>
            <a:srgbClr val="2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961320" y="2038320"/>
            <a:ext cx="63360" cy="47520"/>
          </a:xfrm>
          <a:custGeom>
            <a:avLst/>
            <a:gdLst/>
            <a:ahLst/>
            <a:rect l="l" t="t" r="r" b="b"/>
            <a:pathLst>
              <a:path w="80" h="61">
                <a:moveTo>
                  <a:pt x="0" y="14"/>
                </a:moveTo>
                <a:lnTo>
                  <a:pt x="3" y="8"/>
                </a:lnTo>
                <a:lnTo>
                  <a:pt x="9" y="4"/>
                </a:lnTo>
                <a:lnTo>
                  <a:pt x="17" y="2"/>
                </a:lnTo>
                <a:lnTo>
                  <a:pt x="28" y="1"/>
                </a:lnTo>
                <a:lnTo>
                  <a:pt x="40" y="0"/>
                </a:lnTo>
                <a:lnTo>
                  <a:pt x="52" y="0"/>
                </a:lnTo>
                <a:lnTo>
                  <a:pt x="64" y="0"/>
                </a:lnTo>
                <a:lnTo>
                  <a:pt x="72" y="0"/>
                </a:lnTo>
                <a:lnTo>
                  <a:pt x="80" y="2"/>
                </a:lnTo>
                <a:lnTo>
                  <a:pt x="78" y="9"/>
                </a:lnTo>
                <a:lnTo>
                  <a:pt x="71" y="18"/>
                </a:lnTo>
                <a:lnTo>
                  <a:pt x="66" y="30"/>
                </a:lnTo>
                <a:lnTo>
                  <a:pt x="64" y="36"/>
                </a:lnTo>
                <a:lnTo>
                  <a:pt x="58" y="42"/>
                </a:lnTo>
                <a:lnTo>
                  <a:pt x="50" y="49"/>
                </a:lnTo>
                <a:lnTo>
                  <a:pt x="40" y="54"/>
                </a:lnTo>
                <a:lnTo>
                  <a:pt x="28" y="59"/>
                </a:lnTo>
                <a:lnTo>
                  <a:pt x="19" y="61"/>
                </a:lnTo>
                <a:lnTo>
                  <a:pt x="12" y="60"/>
                </a:lnTo>
                <a:lnTo>
                  <a:pt x="7" y="55"/>
                </a:lnTo>
                <a:lnTo>
                  <a:pt x="5" y="44"/>
                </a:lnTo>
                <a:lnTo>
                  <a:pt x="2" y="34"/>
                </a:lnTo>
                <a:lnTo>
                  <a:pt x="0" y="24"/>
                </a:lnTo>
                <a:lnTo>
                  <a:pt x="0" y="14"/>
                </a:lnTo>
                <a:close/>
              </a:path>
            </a:pathLst>
          </a:custGeom>
          <a:solidFill>
            <a:srgbClr val="2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35680" y="2066760"/>
            <a:ext cx="50760" cy="39960"/>
          </a:xfrm>
          <a:custGeom>
            <a:avLst/>
            <a:gdLst/>
            <a:ahLst/>
            <a:rect l="l" t="t" r="r" b="b"/>
            <a:pathLst>
              <a:path w="63" h="48">
                <a:moveTo>
                  <a:pt x="0" y="22"/>
                </a:moveTo>
                <a:lnTo>
                  <a:pt x="1" y="13"/>
                </a:lnTo>
                <a:lnTo>
                  <a:pt x="7" y="7"/>
                </a:lnTo>
                <a:lnTo>
                  <a:pt x="15" y="2"/>
                </a:lnTo>
                <a:lnTo>
                  <a:pt x="25" y="0"/>
                </a:lnTo>
                <a:lnTo>
                  <a:pt x="37" y="3"/>
                </a:lnTo>
                <a:lnTo>
                  <a:pt x="49" y="13"/>
                </a:lnTo>
                <a:lnTo>
                  <a:pt x="59" y="25"/>
                </a:lnTo>
                <a:lnTo>
                  <a:pt x="63" y="35"/>
                </a:lnTo>
                <a:lnTo>
                  <a:pt x="58" y="43"/>
                </a:lnTo>
                <a:lnTo>
                  <a:pt x="45" y="48"/>
                </a:lnTo>
                <a:lnTo>
                  <a:pt x="32" y="48"/>
                </a:lnTo>
                <a:lnTo>
                  <a:pt x="25" y="42"/>
                </a:lnTo>
                <a:lnTo>
                  <a:pt x="20" y="35"/>
                </a:lnTo>
                <a:lnTo>
                  <a:pt x="11" y="32"/>
                </a:lnTo>
                <a:lnTo>
                  <a:pt x="3" y="27"/>
                </a:lnTo>
                <a:lnTo>
                  <a:pt x="0" y="22"/>
                </a:lnTo>
                <a:close/>
              </a:path>
            </a:pathLst>
          </a:custGeom>
          <a:solidFill>
            <a:srgbClr val="2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635880" y="2101680"/>
            <a:ext cx="39600" cy="38160"/>
          </a:xfrm>
          <a:custGeom>
            <a:avLst/>
            <a:gdLst/>
            <a:ahLst/>
            <a:rect l="l" t="t" r="r" b="b"/>
            <a:pathLst>
              <a:path w="51" h="50">
                <a:moveTo>
                  <a:pt x="0" y="22"/>
                </a:moveTo>
                <a:lnTo>
                  <a:pt x="1" y="13"/>
                </a:lnTo>
                <a:lnTo>
                  <a:pt x="6" y="6"/>
                </a:lnTo>
                <a:lnTo>
                  <a:pt x="11" y="1"/>
                </a:lnTo>
                <a:lnTo>
                  <a:pt x="20" y="0"/>
                </a:lnTo>
                <a:lnTo>
                  <a:pt x="30" y="4"/>
                </a:lnTo>
                <a:lnTo>
                  <a:pt x="39" y="14"/>
                </a:lnTo>
                <a:lnTo>
                  <a:pt x="48" y="26"/>
                </a:lnTo>
                <a:lnTo>
                  <a:pt x="51" y="36"/>
                </a:lnTo>
                <a:lnTo>
                  <a:pt x="46" y="44"/>
                </a:lnTo>
                <a:lnTo>
                  <a:pt x="37" y="50"/>
                </a:lnTo>
                <a:lnTo>
                  <a:pt x="25" y="50"/>
                </a:lnTo>
                <a:lnTo>
                  <a:pt x="20" y="43"/>
                </a:lnTo>
                <a:lnTo>
                  <a:pt x="16" y="36"/>
                </a:lnTo>
                <a:lnTo>
                  <a:pt x="9" y="33"/>
                </a:lnTo>
                <a:lnTo>
                  <a:pt x="3" y="28"/>
                </a:lnTo>
                <a:lnTo>
                  <a:pt x="0" y="22"/>
                </a:lnTo>
                <a:close/>
              </a:path>
            </a:pathLst>
          </a:custGeom>
          <a:solidFill>
            <a:srgbClr val="2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0" y="1941480"/>
            <a:ext cx="28440" cy="41400"/>
          </a:xfrm>
          <a:custGeom>
            <a:avLst/>
            <a:gdLst/>
            <a:ahLst/>
            <a:rect l="l" t="t" r="r" b="b"/>
            <a:pathLst>
              <a:path w="35" h="52">
                <a:moveTo>
                  <a:pt x="0" y="23"/>
                </a:moveTo>
                <a:lnTo>
                  <a:pt x="2" y="14"/>
                </a:lnTo>
                <a:lnTo>
                  <a:pt x="4" y="7"/>
                </a:lnTo>
                <a:lnTo>
                  <a:pt x="7" y="2"/>
                </a:lnTo>
                <a:lnTo>
                  <a:pt x="13" y="0"/>
                </a:lnTo>
                <a:lnTo>
                  <a:pt x="20" y="4"/>
                </a:lnTo>
                <a:lnTo>
                  <a:pt x="27" y="14"/>
                </a:lnTo>
                <a:lnTo>
                  <a:pt x="32" y="26"/>
                </a:lnTo>
                <a:lnTo>
                  <a:pt x="35" y="38"/>
                </a:lnTo>
                <a:lnTo>
                  <a:pt x="32" y="46"/>
                </a:lnTo>
                <a:lnTo>
                  <a:pt x="25" y="52"/>
                </a:lnTo>
                <a:lnTo>
                  <a:pt x="17" y="52"/>
                </a:lnTo>
                <a:lnTo>
                  <a:pt x="13" y="45"/>
                </a:lnTo>
                <a:lnTo>
                  <a:pt x="10" y="38"/>
                </a:lnTo>
                <a:lnTo>
                  <a:pt x="6" y="33"/>
                </a:lnTo>
                <a:lnTo>
                  <a:pt x="2" y="30"/>
                </a:lnTo>
                <a:lnTo>
                  <a:pt x="0" y="23"/>
                </a:lnTo>
                <a:close/>
              </a:path>
            </a:pathLst>
          </a:custGeom>
          <a:solidFill>
            <a:srgbClr val="2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29480" y="1897200"/>
            <a:ext cx="41040" cy="37800"/>
          </a:xfrm>
          <a:custGeom>
            <a:avLst/>
            <a:gdLst/>
            <a:ahLst/>
            <a:rect l="l" t="t" r="r" b="b"/>
            <a:pathLst>
              <a:path w="52" h="49">
                <a:moveTo>
                  <a:pt x="0" y="21"/>
                </a:moveTo>
                <a:lnTo>
                  <a:pt x="2" y="13"/>
                </a:lnTo>
                <a:lnTo>
                  <a:pt x="6" y="6"/>
                </a:lnTo>
                <a:lnTo>
                  <a:pt x="13" y="1"/>
                </a:lnTo>
                <a:lnTo>
                  <a:pt x="20" y="0"/>
                </a:lnTo>
                <a:lnTo>
                  <a:pt x="30" y="4"/>
                </a:lnTo>
                <a:lnTo>
                  <a:pt x="41" y="14"/>
                </a:lnTo>
                <a:lnTo>
                  <a:pt x="49" y="26"/>
                </a:lnTo>
                <a:lnTo>
                  <a:pt x="52" y="36"/>
                </a:lnTo>
                <a:lnTo>
                  <a:pt x="48" y="44"/>
                </a:lnTo>
                <a:lnTo>
                  <a:pt x="37" y="49"/>
                </a:lnTo>
                <a:lnTo>
                  <a:pt x="25" y="49"/>
                </a:lnTo>
                <a:lnTo>
                  <a:pt x="20" y="42"/>
                </a:lnTo>
                <a:lnTo>
                  <a:pt x="16" y="35"/>
                </a:lnTo>
                <a:lnTo>
                  <a:pt x="10" y="31"/>
                </a:lnTo>
                <a:lnTo>
                  <a:pt x="3" y="28"/>
                </a:lnTo>
                <a:lnTo>
                  <a:pt x="0" y="21"/>
                </a:lnTo>
                <a:close/>
              </a:path>
            </a:pathLst>
          </a:custGeom>
          <a:solidFill>
            <a:srgbClr val="2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572240" y="1557360"/>
            <a:ext cx="252720" cy="411120"/>
          </a:xfrm>
          <a:custGeom>
            <a:avLst/>
            <a:gdLst/>
            <a:ahLst/>
            <a:rect l="l" t="t" r="r" b="b"/>
            <a:pathLst>
              <a:path w="319" h="518">
                <a:moveTo>
                  <a:pt x="102" y="306"/>
                </a:moveTo>
                <a:lnTo>
                  <a:pt x="6" y="80"/>
                </a:lnTo>
                <a:lnTo>
                  <a:pt x="0" y="17"/>
                </a:lnTo>
                <a:lnTo>
                  <a:pt x="34" y="0"/>
                </a:lnTo>
                <a:lnTo>
                  <a:pt x="103" y="37"/>
                </a:lnTo>
                <a:lnTo>
                  <a:pt x="319" y="476"/>
                </a:lnTo>
                <a:lnTo>
                  <a:pt x="210" y="518"/>
                </a:lnTo>
                <a:lnTo>
                  <a:pt x="102" y="3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599240" y="1542960"/>
            <a:ext cx="277920" cy="392040"/>
          </a:xfrm>
          <a:custGeom>
            <a:avLst/>
            <a:gdLst/>
            <a:ahLst/>
            <a:rect l="l" t="t" r="r" b="b"/>
            <a:pathLst>
              <a:path w="351" h="495">
                <a:moveTo>
                  <a:pt x="243" y="286"/>
                </a:moveTo>
                <a:lnTo>
                  <a:pt x="135" y="58"/>
                </a:lnTo>
                <a:lnTo>
                  <a:pt x="55" y="0"/>
                </a:lnTo>
                <a:lnTo>
                  <a:pt x="0" y="19"/>
                </a:lnTo>
                <a:lnTo>
                  <a:pt x="69" y="56"/>
                </a:lnTo>
                <a:lnTo>
                  <a:pt x="285" y="495"/>
                </a:lnTo>
                <a:lnTo>
                  <a:pt x="351" y="478"/>
                </a:lnTo>
                <a:lnTo>
                  <a:pt x="243" y="286"/>
                </a:lnTo>
                <a:close/>
              </a:path>
            </a:pathLst>
          </a:custGeom>
          <a:solidFill>
            <a:srgbClr val="e5e5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93200" y="1862280"/>
            <a:ext cx="247320" cy="293400"/>
          </a:xfrm>
          <a:custGeom>
            <a:avLst/>
            <a:gdLst/>
            <a:ahLst/>
            <a:rect l="l" t="t" r="r" b="b"/>
            <a:pathLst>
              <a:path w="314" h="368">
                <a:moveTo>
                  <a:pt x="0" y="40"/>
                </a:moveTo>
                <a:lnTo>
                  <a:pt x="122" y="0"/>
                </a:lnTo>
                <a:lnTo>
                  <a:pt x="314" y="334"/>
                </a:lnTo>
                <a:lnTo>
                  <a:pt x="176" y="368"/>
                </a:lnTo>
                <a:lnTo>
                  <a:pt x="0" y="40"/>
                </a:lnTo>
                <a:close/>
              </a:path>
            </a:pathLst>
          </a:custGeom>
          <a:solidFill>
            <a:srgbClr val="f2e5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790040" y="1824120"/>
            <a:ext cx="195120" cy="303120"/>
          </a:xfrm>
          <a:custGeom>
            <a:avLst/>
            <a:gdLst/>
            <a:ahLst/>
            <a:rect l="l" t="t" r="r" b="b"/>
            <a:pathLst>
              <a:path w="248" h="383">
                <a:moveTo>
                  <a:pt x="54" y="0"/>
                </a:moveTo>
                <a:lnTo>
                  <a:pt x="0" y="49"/>
                </a:lnTo>
                <a:lnTo>
                  <a:pt x="192" y="383"/>
                </a:lnTo>
                <a:lnTo>
                  <a:pt x="248" y="329"/>
                </a:lnTo>
                <a:lnTo>
                  <a:pt x="54" y="0"/>
                </a:lnTo>
                <a:close/>
              </a:path>
            </a:pathLst>
          </a:custGeom>
          <a:solidFill>
            <a:srgbClr val="e2c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259760" y="961920"/>
            <a:ext cx="415800" cy="360360"/>
          </a:xfrm>
          <a:custGeom>
            <a:avLst/>
            <a:gdLst/>
            <a:ahLst/>
            <a:rect l="l" t="t" r="r" b="b"/>
            <a:pathLst>
              <a:path w="524" h="454">
                <a:moveTo>
                  <a:pt x="219" y="198"/>
                </a:moveTo>
                <a:lnTo>
                  <a:pt x="233" y="187"/>
                </a:lnTo>
                <a:lnTo>
                  <a:pt x="246" y="175"/>
                </a:lnTo>
                <a:lnTo>
                  <a:pt x="260" y="163"/>
                </a:lnTo>
                <a:lnTo>
                  <a:pt x="273" y="151"/>
                </a:lnTo>
                <a:lnTo>
                  <a:pt x="285" y="138"/>
                </a:lnTo>
                <a:lnTo>
                  <a:pt x="299" y="124"/>
                </a:lnTo>
                <a:lnTo>
                  <a:pt x="312" y="109"/>
                </a:lnTo>
                <a:lnTo>
                  <a:pt x="326" y="94"/>
                </a:lnTo>
                <a:lnTo>
                  <a:pt x="333" y="76"/>
                </a:lnTo>
                <a:lnTo>
                  <a:pt x="330" y="54"/>
                </a:lnTo>
                <a:lnTo>
                  <a:pt x="320" y="39"/>
                </a:lnTo>
                <a:lnTo>
                  <a:pt x="306" y="38"/>
                </a:lnTo>
                <a:lnTo>
                  <a:pt x="291" y="49"/>
                </a:lnTo>
                <a:lnTo>
                  <a:pt x="278" y="62"/>
                </a:lnTo>
                <a:lnTo>
                  <a:pt x="271" y="76"/>
                </a:lnTo>
                <a:lnTo>
                  <a:pt x="266" y="91"/>
                </a:lnTo>
                <a:lnTo>
                  <a:pt x="261" y="107"/>
                </a:lnTo>
                <a:lnTo>
                  <a:pt x="257" y="123"/>
                </a:lnTo>
                <a:lnTo>
                  <a:pt x="251" y="140"/>
                </a:lnTo>
                <a:lnTo>
                  <a:pt x="243" y="158"/>
                </a:lnTo>
                <a:lnTo>
                  <a:pt x="237" y="168"/>
                </a:lnTo>
                <a:lnTo>
                  <a:pt x="232" y="177"/>
                </a:lnTo>
                <a:lnTo>
                  <a:pt x="225" y="188"/>
                </a:lnTo>
                <a:lnTo>
                  <a:pt x="219" y="198"/>
                </a:lnTo>
                <a:close/>
                <a:moveTo>
                  <a:pt x="15" y="304"/>
                </a:moveTo>
                <a:lnTo>
                  <a:pt x="34" y="298"/>
                </a:lnTo>
                <a:lnTo>
                  <a:pt x="52" y="291"/>
                </a:lnTo>
                <a:lnTo>
                  <a:pt x="69" y="284"/>
                </a:lnTo>
                <a:lnTo>
                  <a:pt x="86" y="278"/>
                </a:lnTo>
                <a:lnTo>
                  <a:pt x="101" y="271"/>
                </a:lnTo>
                <a:lnTo>
                  <a:pt x="117" y="264"/>
                </a:lnTo>
                <a:lnTo>
                  <a:pt x="131" y="257"/>
                </a:lnTo>
                <a:lnTo>
                  <a:pt x="145" y="249"/>
                </a:lnTo>
                <a:lnTo>
                  <a:pt x="150" y="235"/>
                </a:lnTo>
                <a:lnTo>
                  <a:pt x="156" y="221"/>
                </a:lnTo>
                <a:lnTo>
                  <a:pt x="163" y="208"/>
                </a:lnTo>
                <a:lnTo>
                  <a:pt x="170" y="195"/>
                </a:lnTo>
                <a:lnTo>
                  <a:pt x="176" y="181"/>
                </a:lnTo>
                <a:lnTo>
                  <a:pt x="184" y="167"/>
                </a:lnTo>
                <a:lnTo>
                  <a:pt x="191" y="153"/>
                </a:lnTo>
                <a:lnTo>
                  <a:pt x="198" y="140"/>
                </a:lnTo>
                <a:lnTo>
                  <a:pt x="208" y="121"/>
                </a:lnTo>
                <a:lnTo>
                  <a:pt x="215" y="101"/>
                </a:lnTo>
                <a:lnTo>
                  <a:pt x="222" y="83"/>
                </a:lnTo>
                <a:lnTo>
                  <a:pt x="228" y="64"/>
                </a:lnTo>
                <a:lnTo>
                  <a:pt x="235" y="48"/>
                </a:lnTo>
                <a:lnTo>
                  <a:pt x="244" y="32"/>
                </a:lnTo>
                <a:lnTo>
                  <a:pt x="259" y="17"/>
                </a:lnTo>
                <a:lnTo>
                  <a:pt x="278" y="5"/>
                </a:lnTo>
                <a:lnTo>
                  <a:pt x="298" y="0"/>
                </a:lnTo>
                <a:lnTo>
                  <a:pt x="318" y="5"/>
                </a:lnTo>
                <a:lnTo>
                  <a:pt x="337" y="17"/>
                </a:lnTo>
                <a:lnTo>
                  <a:pt x="354" y="34"/>
                </a:lnTo>
                <a:lnTo>
                  <a:pt x="367" y="56"/>
                </a:lnTo>
                <a:lnTo>
                  <a:pt x="374" y="78"/>
                </a:lnTo>
                <a:lnTo>
                  <a:pt x="374" y="99"/>
                </a:lnTo>
                <a:lnTo>
                  <a:pt x="365" y="117"/>
                </a:lnTo>
                <a:lnTo>
                  <a:pt x="343" y="142"/>
                </a:lnTo>
                <a:lnTo>
                  <a:pt x="322" y="166"/>
                </a:lnTo>
                <a:lnTo>
                  <a:pt x="299" y="187"/>
                </a:lnTo>
                <a:lnTo>
                  <a:pt x="278" y="207"/>
                </a:lnTo>
                <a:lnTo>
                  <a:pt x="256" y="227"/>
                </a:lnTo>
                <a:lnTo>
                  <a:pt x="232" y="244"/>
                </a:lnTo>
                <a:lnTo>
                  <a:pt x="208" y="260"/>
                </a:lnTo>
                <a:lnTo>
                  <a:pt x="183" y="276"/>
                </a:lnTo>
                <a:lnTo>
                  <a:pt x="177" y="296"/>
                </a:lnTo>
                <a:lnTo>
                  <a:pt x="173" y="316"/>
                </a:lnTo>
                <a:lnTo>
                  <a:pt x="173" y="334"/>
                </a:lnTo>
                <a:lnTo>
                  <a:pt x="174" y="351"/>
                </a:lnTo>
                <a:lnTo>
                  <a:pt x="180" y="369"/>
                </a:lnTo>
                <a:lnTo>
                  <a:pt x="190" y="384"/>
                </a:lnTo>
                <a:lnTo>
                  <a:pt x="204" y="397"/>
                </a:lnTo>
                <a:lnTo>
                  <a:pt x="223" y="410"/>
                </a:lnTo>
                <a:lnTo>
                  <a:pt x="250" y="417"/>
                </a:lnTo>
                <a:lnTo>
                  <a:pt x="277" y="412"/>
                </a:lnTo>
                <a:lnTo>
                  <a:pt x="303" y="397"/>
                </a:lnTo>
                <a:lnTo>
                  <a:pt x="326" y="377"/>
                </a:lnTo>
                <a:lnTo>
                  <a:pt x="346" y="351"/>
                </a:lnTo>
                <a:lnTo>
                  <a:pt x="357" y="324"/>
                </a:lnTo>
                <a:lnTo>
                  <a:pt x="360" y="296"/>
                </a:lnTo>
                <a:lnTo>
                  <a:pt x="353" y="273"/>
                </a:lnTo>
                <a:lnTo>
                  <a:pt x="344" y="268"/>
                </a:lnTo>
                <a:lnTo>
                  <a:pt x="340" y="261"/>
                </a:lnTo>
                <a:lnTo>
                  <a:pt x="337" y="253"/>
                </a:lnTo>
                <a:lnTo>
                  <a:pt x="340" y="244"/>
                </a:lnTo>
                <a:lnTo>
                  <a:pt x="347" y="233"/>
                </a:lnTo>
                <a:lnTo>
                  <a:pt x="357" y="227"/>
                </a:lnTo>
                <a:lnTo>
                  <a:pt x="370" y="228"/>
                </a:lnTo>
                <a:lnTo>
                  <a:pt x="381" y="236"/>
                </a:lnTo>
                <a:lnTo>
                  <a:pt x="388" y="243"/>
                </a:lnTo>
                <a:lnTo>
                  <a:pt x="393" y="251"/>
                </a:lnTo>
                <a:lnTo>
                  <a:pt x="398" y="258"/>
                </a:lnTo>
                <a:lnTo>
                  <a:pt x="400" y="266"/>
                </a:lnTo>
                <a:lnTo>
                  <a:pt x="410" y="264"/>
                </a:lnTo>
                <a:lnTo>
                  <a:pt x="420" y="259"/>
                </a:lnTo>
                <a:lnTo>
                  <a:pt x="431" y="254"/>
                </a:lnTo>
                <a:lnTo>
                  <a:pt x="443" y="249"/>
                </a:lnTo>
                <a:lnTo>
                  <a:pt x="454" y="242"/>
                </a:lnTo>
                <a:lnTo>
                  <a:pt x="465" y="235"/>
                </a:lnTo>
                <a:lnTo>
                  <a:pt x="474" y="228"/>
                </a:lnTo>
                <a:lnTo>
                  <a:pt x="481" y="221"/>
                </a:lnTo>
                <a:lnTo>
                  <a:pt x="489" y="215"/>
                </a:lnTo>
                <a:lnTo>
                  <a:pt x="497" y="212"/>
                </a:lnTo>
                <a:lnTo>
                  <a:pt x="506" y="213"/>
                </a:lnTo>
                <a:lnTo>
                  <a:pt x="514" y="216"/>
                </a:lnTo>
                <a:lnTo>
                  <a:pt x="521" y="221"/>
                </a:lnTo>
                <a:lnTo>
                  <a:pt x="524" y="228"/>
                </a:lnTo>
                <a:lnTo>
                  <a:pt x="524" y="236"/>
                </a:lnTo>
                <a:lnTo>
                  <a:pt x="520" y="244"/>
                </a:lnTo>
                <a:lnTo>
                  <a:pt x="510" y="252"/>
                </a:lnTo>
                <a:lnTo>
                  <a:pt x="499" y="260"/>
                </a:lnTo>
                <a:lnTo>
                  <a:pt x="485" y="267"/>
                </a:lnTo>
                <a:lnTo>
                  <a:pt x="471" y="272"/>
                </a:lnTo>
                <a:lnTo>
                  <a:pt x="454" y="276"/>
                </a:lnTo>
                <a:lnTo>
                  <a:pt x="437" y="280"/>
                </a:lnTo>
                <a:lnTo>
                  <a:pt x="420" y="281"/>
                </a:lnTo>
                <a:lnTo>
                  <a:pt x="403" y="282"/>
                </a:lnTo>
                <a:lnTo>
                  <a:pt x="399" y="316"/>
                </a:lnTo>
                <a:lnTo>
                  <a:pt x="385" y="350"/>
                </a:lnTo>
                <a:lnTo>
                  <a:pt x="362" y="384"/>
                </a:lnTo>
                <a:lnTo>
                  <a:pt x="333" y="412"/>
                </a:lnTo>
                <a:lnTo>
                  <a:pt x="299" y="435"/>
                </a:lnTo>
                <a:lnTo>
                  <a:pt x="264" y="450"/>
                </a:lnTo>
                <a:lnTo>
                  <a:pt x="229" y="454"/>
                </a:lnTo>
                <a:lnTo>
                  <a:pt x="197" y="445"/>
                </a:lnTo>
                <a:lnTo>
                  <a:pt x="176" y="431"/>
                </a:lnTo>
                <a:lnTo>
                  <a:pt x="159" y="416"/>
                </a:lnTo>
                <a:lnTo>
                  <a:pt x="146" y="400"/>
                </a:lnTo>
                <a:lnTo>
                  <a:pt x="136" y="382"/>
                </a:lnTo>
                <a:lnTo>
                  <a:pt x="131" y="364"/>
                </a:lnTo>
                <a:lnTo>
                  <a:pt x="128" y="345"/>
                </a:lnTo>
                <a:lnTo>
                  <a:pt x="128" y="325"/>
                </a:lnTo>
                <a:lnTo>
                  <a:pt x="129" y="304"/>
                </a:lnTo>
                <a:lnTo>
                  <a:pt x="118" y="309"/>
                </a:lnTo>
                <a:lnTo>
                  <a:pt x="107" y="314"/>
                </a:lnTo>
                <a:lnTo>
                  <a:pt x="96" y="319"/>
                </a:lnTo>
                <a:lnTo>
                  <a:pt x="84" y="324"/>
                </a:lnTo>
                <a:lnTo>
                  <a:pt x="72" y="328"/>
                </a:lnTo>
                <a:lnTo>
                  <a:pt x="59" y="332"/>
                </a:lnTo>
                <a:lnTo>
                  <a:pt x="46" y="336"/>
                </a:lnTo>
                <a:lnTo>
                  <a:pt x="34" y="341"/>
                </a:lnTo>
                <a:lnTo>
                  <a:pt x="24" y="343"/>
                </a:lnTo>
                <a:lnTo>
                  <a:pt x="14" y="341"/>
                </a:lnTo>
                <a:lnTo>
                  <a:pt x="7" y="336"/>
                </a:lnTo>
                <a:lnTo>
                  <a:pt x="3" y="331"/>
                </a:lnTo>
                <a:lnTo>
                  <a:pt x="0" y="322"/>
                </a:lnTo>
                <a:lnTo>
                  <a:pt x="1" y="316"/>
                </a:lnTo>
                <a:lnTo>
                  <a:pt x="7" y="309"/>
                </a:lnTo>
                <a:lnTo>
                  <a:pt x="15" y="3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47640" y="4292640"/>
            <a:ext cx="67694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Comic Sans MS"/>
                <a:ea typeface="바탕"/>
              </a:rPr>
              <a:t>“</a:t>
            </a:r>
            <a:r>
              <a:rPr b="1" i="1" lang="it-IT" sz="2400" spc="-1" strike="noStrike">
                <a:solidFill>
                  <a:srgbClr val="000000"/>
                </a:solidFill>
                <a:latin typeface="Comic Sans MS"/>
                <a:ea typeface="바탕"/>
              </a:rPr>
              <a:t>Corso base per operatori delle residenze” </a:t>
            </a:r>
            <a:r>
              <a:rPr b="1" lang="it-IT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7002"/>
            </a:gs>
            <a:gs pos="50000">
              <a:srgbClr val="faeb60"/>
            </a:gs>
            <a:gs pos="100000">
              <a:srgbClr val="36700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Le diverse funzioni: “energetica”, “plastica”,“regolatrice-protettiva”, “idratante”, vengono soddisfatte dai principi nutritivi contenuti negli alimenti che consumiamo ogni giorno: </a:t>
            </a:r>
            <a:r>
              <a:rPr b="0" i="1" lang="it-IT" sz="2800" spc="-1" strike="noStrike">
                <a:solidFill>
                  <a:srgbClr val="000000"/>
                </a:solidFill>
                <a:latin typeface="Comic Sans MS"/>
              </a:rPr>
              <a:t>Glucidi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i="1" lang="it-IT" sz="2800" spc="-1" strike="noStrike">
                <a:solidFill>
                  <a:srgbClr val="000000"/>
                </a:solidFill>
                <a:latin typeface="Comic Sans MS"/>
              </a:rPr>
              <a:t>Protein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i="1" lang="it-IT" sz="2800" spc="-1" strike="noStrike">
                <a:solidFill>
                  <a:srgbClr val="000000"/>
                </a:solidFill>
                <a:latin typeface="Comic Sans MS"/>
              </a:rPr>
              <a:t>Lipidi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i="1" lang="it-IT" sz="2800" spc="-1" strike="noStrike">
                <a:solidFill>
                  <a:srgbClr val="000000"/>
                </a:solidFill>
                <a:latin typeface="Comic Sans MS"/>
              </a:rPr>
              <a:t>Vitamin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i="1" lang="it-IT" sz="2800" spc="-1" strike="noStrike">
                <a:solidFill>
                  <a:srgbClr val="000000"/>
                </a:solidFill>
                <a:latin typeface="Comic Sans MS"/>
              </a:rPr>
              <a:t>Sali minerali- Acqu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3124080" cy="21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7002"/>
            </a:gs>
            <a:gs pos="50000">
              <a:srgbClr val="faeb60"/>
            </a:gs>
            <a:gs pos="100000">
              <a:srgbClr val="36700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838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Questi principi nutritivi forniscono sia l’energia cioè le “calorie” sia i materiali con cui l’organismo umano provvede al mantenimento e al rinnovamento dei propri tessut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477120" y="4191120"/>
            <a:ext cx="20095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7002"/>
            </a:gs>
            <a:gs pos="50000">
              <a:srgbClr val="faeb60"/>
            </a:gs>
            <a:gs pos="100000">
              <a:srgbClr val="36700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80880" y="582480"/>
            <a:ext cx="8382240" cy="2936160"/>
          </a:xfrm>
          <a:prstGeom prst="wedgeRoundRectCallout">
            <a:avLst>
              <a:gd name="adj1" fmla="val -49152"/>
              <a:gd name="adj2" fmla="val 15273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400" spc="-1" strike="noStrike">
                <a:solidFill>
                  <a:srgbClr val="000000"/>
                </a:solidFill>
                <a:latin typeface="Comic Sans MS"/>
              </a:rPr>
              <a:t>LAVORO di GRUPPO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Secondo voi, in quali alimenti sono contenuti i Glucidi, le Proteine, i Lipidi, le Vitamine, i Sali Minerali, l’acqua e le fib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943600" y="4876920"/>
            <a:ext cx="2743200" cy="17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7002"/>
            </a:gs>
            <a:gs pos="50000">
              <a:srgbClr val="faeb60"/>
            </a:gs>
            <a:gs pos="100000">
              <a:srgbClr val="36700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187280" y="1701720"/>
            <a:ext cx="655344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01508"/>
                    </a:gs>
                    <a:gs pos="100000">
                      <a:srgbClr val="d98241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Entriamo nel dettaglio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01508"/>
                  </a:gs>
                  <a:gs pos="100000">
                    <a:srgbClr val="d98241"/>
                  </a:gs>
                </a:gsLst>
                <a:lin ang="5400000"/>
              </a:gradFill>
              <a:effectLst>
                <a:outerShdw dist="53966" dir="2700000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7002"/>
            </a:gs>
            <a:gs pos="50000">
              <a:srgbClr val="faeb60"/>
            </a:gs>
            <a:gs pos="100000">
              <a:srgbClr val="36700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33520" y="76212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400" spc="-1" strike="noStrike">
                <a:solidFill>
                  <a:srgbClr val="000000"/>
                </a:solidFill>
                <a:latin typeface="Comic Sans MS"/>
              </a:rPr>
              <a:t>Diamo i numeri”  (alcuni…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22860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Calor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24080" y="2057400"/>
            <a:ext cx="5410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da 1500 a 2000 per la donna, da 1800 a 2300 per l’uo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487692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Prote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4800600"/>
            <a:ext cx="464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almeno 1 gr pro Kg di peso al gior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2057400"/>
            <a:ext cx="563904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76720" y="4724280"/>
            <a:ext cx="487656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53341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27432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7002"/>
            </a:gs>
            <a:gs pos="50000">
              <a:srgbClr val="faeb60"/>
            </a:gs>
            <a:gs pos="100000">
              <a:srgbClr val="36700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219320" y="1143000"/>
            <a:ext cx="4876560" cy="17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260280"/>
            <a:ext cx="77724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i="1" lang="it-IT" sz="4400" spc="-1" strike="noStrike">
                <a:solidFill>
                  <a:srgbClr val="000000"/>
                </a:solidFill>
                <a:latin typeface="Comic Sans MS"/>
              </a:rPr>
              <a:t>Diamo i numeri”  (alcuni…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166860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Glucid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76720" y="1447920"/>
            <a:ext cx="5333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almeno il 50% della dieta giornaliera di cui solo il 10% zuccheri a rapida  digest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39546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Lipid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3962520"/>
            <a:ext cx="434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non più del 30% della di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3520" y="571500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Cal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62520" y="5410080"/>
            <a:ext cx="3657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almeno 1.5 gr al gior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8120" y="1371600"/>
            <a:ext cx="5715000" cy="213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213372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3886200"/>
            <a:ext cx="48006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44956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5486400"/>
            <a:ext cx="41148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624852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7002"/>
            </a:gs>
            <a:gs pos="50000">
              <a:srgbClr val="faeb60"/>
            </a:gs>
            <a:gs pos="100000">
              <a:srgbClr val="36700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8000" y="15192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deguata alimentazi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glio pasti piccoli e un po’ più freque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ari “fisiologici”(colazione ore 7-8; piccolo spuntino con frutta cotta ore 10; pranzo ore 12; merenda a base di tè e 1-2 biscotti o frutta ore 16; cena ore 19; dopo cena tisana ore 20,30- 2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sti equilibrati nei componenti base (carboidrati, proteine, lipidi, fibre, vitamine, frutta verdura, calcio, acqua, calcio)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11360" cy="17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7002"/>
            </a:gs>
            <a:gs pos="50000">
              <a:srgbClr val="faeb60"/>
            </a:gs>
            <a:gs pos="100000">
              <a:srgbClr val="36700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limentazione equilibr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ipartizione a blocchi di alimenti equival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rboidrati = pasta, riso, polenta, pane, pa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teine =carne bianca (pollo, tacchino, coniglio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rne rossa(maiale, vitello), pesce, legumi (+una quota carboidrati), salumi (+nitrati, nitriti, conservanti, sale, grass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pidi= olio extravergine di oliva (ricco di ac. Grassi monoinsaturi), formaggi (ricchi di calcio), burro, lipidi presenti anche nella carne (per lo più saturi) e nel pesce (poliinsatur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rutta e verdura(fibre, vitamine, elettroliti, zuccheri, liquidi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lcio= latte (previene o rallenta osteoporosi) parz. scremato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cqua = l’anziano beve poco. Spingere a bere sovente acqua e non bibite o bevande zuccherat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086600" y="1143000"/>
            <a:ext cx="182556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7002"/>
            </a:gs>
            <a:gs pos="50000">
              <a:srgbClr val="faeb60"/>
            </a:gs>
            <a:gs pos="100000">
              <a:srgbClr val="36700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limentazione: frequenza consigliata per le colazioni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(per 2000 kcal. circa al giorno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tte 2 bicchieri al giorno= 1 tazza (250 g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gurt (al posto del latte ) 1 vasetto (125g.) x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iscotti max 50 g. al giorno (tra colazione e merend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7002"/>
            </a:gs>
            <a:gs pos="50000">
              <a:srgbClr val="faeb60"/>
            </a:gs>
            <a:gs pos="100000">
              <a:srgbClr val="36700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limentazione: frequenza consigliata per i primi piatti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(per 2000 kcal. circa al giorno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sta o riso (g. 80): 1 porzione al gio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p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sta fresca all’uovo:  1 porzione al giorno o in alternativa alla pas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ne (50 g.): 3- 4 porzioni al gio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sostituzione con patate-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irca 200g.-: al posto di 80 g. pasta)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477120" y="4495680"/>
            <a:ext cx="266688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7002"/>
            </a:gs>
            <a:gs pos="50000">
              <a:srgbClr val="faeb60"/>
            </a:gs>
            <a:gs pos="100000">
              <a:srgbClr val="36700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57200" y="1143000"/>
            <a:ext cx="70912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67002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Comic Sans MS"/>
              </a:rPr>
              <a:t>Alimentazione</a:t>
            </a:r>
            <a:endParaRPr b="1" lang="en-US" sz="2400" spc="1" strike="noStrike">
              <a:ln w="0">
                <a:noFill/>
              </a:ln>
              <a:solidFill>
                <a:srgbClr val="367002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67002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Comic Sans MS"/>
              </a:rPr>
              <a:t>Fabbisogno nutrizionale</a:t>
            </a:r>
            <a:endParaRPr b="1" lang="en-US" sz="2400" spc="1" strike="noStrike">
              <a:ln w="0">
                <a:noFill/>
              </a:ln>
              <a:solidFill>
                <a:srgbClr val="367002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257800" y="2895480"/>
            <a:ext cx="2990880" cy="27561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57200" y="59436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Comic Sans MS"/>
              </a:rPr>
              <a:t>III modu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7002"/>
            </a:gs>
            <a:gs pos="50000">
              <a:srgbClr val="faeb60"/>
            </a:gs>
            <a:gs pos="100000">
              <a:srgbClr val="36700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limentazione: frequenza consigliata per i secondi piatti (per 2000 kcal. circa al giorno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217656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rne bianca: 3 volte la settimana; g.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rne rossa(più ricca di colesterolo e grassi saturi): 2 volte settimana; g.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lumi : 1- 2 volte settimana; g.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sce = 2 volte settimana; g.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ova= 2 volte settima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maggio =max 2 vv. settimana g. 50 stagionato, g.100 fre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gumi =al posto della carne g. 100 freschi 1 v. \set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7002"/>
            </a:gs>
            <a:gs pos="50000">
              <a:srgbClr val="faeb60"/>
            </a:gs>
            <a:gs pos="100000">
              <a:srgbClr val="36700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1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Ortaggi e frutta + acqu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rutta = almeno 2-3 porzioni al gior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erdura = almeno 2- 3 ortaggi (peso medio crudo g. 250 ognuno) al giorno (pranzo e cen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salata (50 g.) al posto di una o due porzioni di altra verdura al gior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cqua = almeno 10 bicchieri al giorn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7002"/>
            </a:gs>
            <a:gs pos="50000">
              <a:srgbClr val="faeb60"/>
            </a:gs>
            <a:gs pos="100000">
              <a:srgbClr val="36700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Grassi da condimen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lio = g. 30 al giorno (10 g.:circa un cucchiaio); 3 cucchia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rro= g.10 max al gior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al posto del burro g. 10 margarina; meglio burro: contiene più calcio e più vitamine liposolubili A; K; D; E), e non contiene grassi idrogena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7002"/>
            </a:gs>
            <a:gs pos="50000">
              <a:srgbClr val="faeb60"/>
            </a:gs>
            <a:gs pos="100000">
              <a:srgbClr val="36700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189080" y="1125000"/>
            <a:ext cx="5904000" cy="406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0" spc="-1" strike="noStrike">
                <a:solidFill>
                  <a:srgbClr val="367002"/>
                </a:solidFill>
                <a:latin typeface="Comic Sans MS"/>
              </a:rPr>
              <a:t>  </a:t>
            </a:r>
            <a:r>
              <a:rPr b="1" lang="it-IT" sz="15000" spc="-1" strike="noStrike">
                <a:solidFill>
                  <a:srgbClr val="367002"/>
                </a:solidFill>
                <a:latin typeface="Comic Sans MS"/>
              </a:rPr>
              <a:t>Ma…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52280" y="200160"/>
            <a:ext cx="8991720" cy="64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7002"/>
            </a:gs>
            <a:gs pos="50000">
              <a:srgbClr val="faeb60"/>
            </a:gs>
            <a:gs pos="100000">
              <a:srgbClr val="36700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5400" spc="-1" strike="noStrike">
                <a:solidFill>
                  <a:srgbClr val="367002"/>
                </a:solidFill>
                <a:latin typeface="Comic Sans MS"/>
              </a:rPr>
              <a:t>Non numeri……..IDEE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564000" y="2133720"/>
            <a:ext cx="2112840" cy="34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7002"/>
            </a:gs>
            <a:gs pos="50000">
              <a:srgbClr val="faeb60"/>
            </a:gs>
            <a:gs pos="100000">
              <a:srgbClr val="36700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5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Importanza dell’individuo venire incontro il più possibile alle esigenze alimentari del singolo anche in una Struttura residenziale </a:t>
            </a: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(cfr. Piano Assistenziale Individualizza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Nessuna necessità di cambiare la dieta solo perché si è vecchi;  correggere però errori dietetici evidenti (ad esempio abuso di dolci, di sale, di grassi o di alcoo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657600" y="4800600"/>
            <a:ext cx="182556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7002"/>
            </a:gs>
            <a:gs pos="50000">
              <a:srgbClr val="faeb60"/>
            </a:gs>
            <a:gs pos="100000">
              <a:srgbClr val="36700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85800" y="533520"/>
            <a:ext cx="800100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Ricordarsi che il fattore più importante per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determinare il fabbisogno energetico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globale è l’attività fisica; un anziano in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buona attività fisica ed autosufficiente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non deve avere un regime dietetico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diverso a una persona di più giovane et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581280" y="4191120"/>
            <a:ext cx="25909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7002"/>
            </a:gs>
            <a:gs pos="50000">
              <a:srgbClr val="faeb60"/>
            </a:gs>
            <a:gs pos="100000">
              <a:srgbClr val="36700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09480" y="685440"/>
            <a:ext cx="784872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E’ importante che una dieta per essere “salutare” sia anche equilibrata (abbia cioè un corretto rapporto tra le varie famiglie di nutrient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Bere vino con moderazione (un bicchiere piccolo ai pasti) è possibile, ma attenzione alle patologie e ai tanti farmaci assunti spesso dall’anzian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410080" y="43434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7002"/>
            </a:gs>
            <a:gs pos="50000">
              <a:srgbClr val="faeb60"/>
            </a:gs>
            <a:gs pos="100000">
              <a:srgbClr val="36700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79280" y="1142640"/>
            <a:ext cx="896472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0" spc="-1" strike="noStrike">
                <a:solidFill>
                  <a:srgbClr val="367002"/>
                </a:solidFill>
                <a:latin typeface="Comic Sans MS"/>
              </a:rPr>
              <a:t>E PER FINIRE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800" spc="-1" strike="noStrike">
                <a:solidFill>
                  <a:srgbClr val="367002"/>
                </a:solidFill>
                <a:latin typeface="Comic Sans MS"/>
              </a:rPr>
              <a:t>QUALCHE NOZIONE SU…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400800" y="762120"/>
            <a:ext cx="2259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7002"/>
            </a:gs>
            <a:gs pos="50000">
              <a:srgbClr val="faeb60"/>
            </a:gs>
            <a:gs pos="100000">
              <a:srgbClr val="36700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omic Sans MS"/>
              </a:rPr>
              <a:t>LE PROTE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569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Spesso un anziano ne ha più bisogno perché malato, allettato o con decubit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In Italia l’Istituto Superiore di Sanità ne consiglia un consumo di almeno 1 grammo per Kg di peso corporeo al gior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486400" y="4114800"/>
            <a:ext cx="29718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7002"/>
            </a:gs>
            <a:gs pos="50000">
              <a:srgbClr val="faeb60"/>
            </a:gs>
            <a:gs pos="100000">
              <a:srgbClr val="36700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1403280" y="1989000"/>
            <a:ext cx="633744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01508"/>
                    </a:gs>
                    <a:gs pos="100000">
                      <a:srgbClr val="d98241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PERCHE' MANGIAR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01508"/>
                  </a:gs>
                  <a:gs pos="100000">
                    <a:srgbClr val="d98241"/>
                  </a:gs>
                </a:gsLst>
                <a:lin ang="5400000"/>
              </a:gradFill>
              <a:effectLst>
                <a:outerShdw dist="53966" dir="2700000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7002"/>
            </a:gs>
            <a:gs pos="50000">
              <a:srgbClr val="faeb60"/>
            </a:gs>
            <a:gs pos="100000">
              <a:srgbClr val="36700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060640" y="457200"/>
            <a:ext cx="6778440" cy="3656520"/>
          </a:xfrm>
          <a:prstGeom prst="wedgeRoundRectCallout">
            <a:avLst>
              <a:gd name="adj1" fmla="val -63925"/>
              <a:gd name="adj2" fmla="val 10508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Non tutte le proteine sono uguali; quelle contenute nei cibi di origine animale (latte e derivati, uova, carne e pesce) sono “migliori” di quelle contenute nei legumi (fagioli,piselli, ceci…) o nei cereali (riso, grano, frumento).  Si dice che le prime hanno un più  elevato valore biologico, sono cioè meglio “utilizzate” dall’organ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2280" y="601992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6df08"/>
                </a:solidFill>
                <a:latin typeface="Comic Sans MS"/>
              </a:rPr>
              <a:t>Di quali proteine si ha più bisogn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172200" y="3962520"/>
            <a:ext cx="259092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Quindi almeno una volta al giorno l’anziano dovrebbe consumare una porzione di latte, di carne o di pesce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7002"/>
            </a:gs>
            <a:gs pos="50000">
              <a:srgbClr val="faeb60"/>
            </a:gs>
            <a:gs pos="100000">
              <a:srgbClr val="36700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44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omic Sans MS"/>
              </a:rPr>
              <a:t>I CARBOIDRA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240" y="1098720"/>
            <a:ext cx="864252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7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omic Sans MS"/>
              </a:rPr>
              <a:t>Nella dieta dell’anziano sono importanti perché forniscono all’organismo energia per le funzioni del metabolismo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omic Sans MS"/>
              </a:rPr>
              <a:t>In un giorno almeno la metà dei cibi consumati dovrebbero contenere i carboidrati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971800" y="4114800"/>
            <a:ext cx="29718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7002"/>
            </a:gs>
            <a:gs pos="50000">
              <a:srgbClr val="faeb60"/>
            </a:gs>
            <a:gs pos="100000">
              <a:srgbClr val="36700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0948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6df08"/>
                </a:solidFill>
                <a:latin typeface="Comic Sans MS"/>
              </a:rPr>
              <a:t>Tra tutti gli alimenti che contengono carboidrati è bene preferire:</a:t>
            </a:r>
            <a:r>
              <a:rPr b="0" lang="it-IT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4307040"/>
            <a:ext cx="8382240" cy="2361960"/>
          </a:xfrm>
          <a:prstGeom prst="rect">
            <a:avLst/>
          </a:prstGeom>
          <a:solidFill>
            <a:srgbClr val="f6df0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8080" y="4572000"/>
            <a:ext cx="80010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Comic Sans MS"/>
              </a:rPr>
              <a:t>I cosiddetti “dolci” vanno consumati con moderazione anche se sono piacevoli da mangiare per gli anziani e meglio se alla fine di un pasto, in questo modo il cibo già presente nello stomaco ne ritarda l’assorbi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2492280"/>
            <a:ext cx="1439640" cy="19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4360" y="12682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P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20720" y="165276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Pas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71640" y="20368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635280" y="242100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Pa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932360" y="280512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Leg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300720" y="318924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Frut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597800" y="35719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Lat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7002"/>
            </a:gs>
            <a:gs pos="50000">
              <a:srgbClr val="faeb60"/>
            </a:gs>
            <a:gs pos="100000">
              <a:srgbClr val="36700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79185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omic Sans MS"/>
              </a:rPr>
              <a:t>I LIPIDI (GRASS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240" y="1096560"/>
            <a:ext cx="87138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7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mic Sans MS"/>
              </a:rPr>
              <a:t>Queste sostanze alimentari non dovrebbero superare in una alimentazione equilibrata il 30 – 35% delle calorie totali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mic Sans MS"/>
              </a:rPr>
              <a:t>Anche i Lipidi come le Proteine non sono tutti uguali per una alimentazione salutare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562720" y="4267080"/>
            <a:ext cx="19810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7002"/>
            </a:gs>
            <a:gs pos="50000">
              <a:srgbClr val="faeb60"/>
            </a:gs>
            <a:gs pos="100000">
              <a:srgbClr val="36700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759200" y="5013360"/>
            <a:ext cx="4384800" cy="1655640"/>
          </a:xfrm>
          <a:prstGeom prst="ellipse">
            <a:avLst/>
          </a:prstGeom>
          <a:solidFill>
            <a:srgbClr val="f6df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79280" y="5013360"/>
            <a:ext cx="4384800" cy="1655640"/>
          </a:xfrm>
          <a:prstGeom prst="ellipse">
            <a:avLst/>
          </a:prstGeom>
          <a:solidFill>
            <a:srgbClr val="f6df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457200"/>
            <a:ext cx="8207280" cy="44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E’ meglio consumare alimenti che contengono grassi di origine vegetale come:</a:t>
            </a:r>
            <a:r>
              <a:rPr b="1" lang="it-IT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6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6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mic Sans MS"/>
              </a:rPr>
              <a:t>Olio di oliva (preferibilmente extravergin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6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Comic Sans MS"/>
              </a:rPr>
              <a:t>Olio di semi di arachid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6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Comic Sans MS"/>
              </a:rPr>
              <a:t>Frutta secc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piuttosto che grassi di origine animale, qual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mic Sans MS"/>
              </a:rPr>
              <a:t>Bur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mic Sans MS"/>
              </a:rPr>
              <a:t>Lar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Comic Sans MS"/>
              </a:rPr>
              <a:t>Pancett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Comic Sans MS"/>
              </a:rPr>
              <a:t>Strutt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54200" y="5181480"/>
            <a:ext cx="32004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600" spc="-1" strike="noStrike">
                <a:solidFill>
                  <a:srgbClr val="000000"/>
                </a:solidFill>
                <a:latin typeface="Comic Sans MS"/>
              </a:rPr>
              <a:t>Per condire i </a:t>
            </a:r>
            <a:r>
              <a:rPr b="1" i="1" lang="it-IT" sz="2600" spc="-1" strike="noStrike">
                <a:solidFill>
                  <a:srgbClr val="000000"/>
                </a:solidFill>
                <a:latin typeface="Comic Sans MS"/>
              </a:rPr>
              <a:t>cibi “a</a:t>
            </a:r>
            <a:r>
              <a:rPr b="0" i="1" lang="it-IT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it-IT" sz="2600" spc="-1" strike="noStrike">
                <a:solidFill>
                  <a:srgbClr val="000000"/>
                </a:solidFill>
                <a:latin typeface="Comic Sans MS"/>
              </a:rPr>
              <a:t>crudo</a:t>
            </a:r>
            <a:r>
              <a:rPr b="0" i="1" lang="it-IT" sz="2600" spc="-1" strike="noStrike">
                <a:solidFill>
                  <a:srgbClr val="000000"/>
                </a:solidFill>
                <a:latin typeface="Comic Sans MS"/>
              </a:rPr>
              <a:t>” meglio usare l’olio di oliv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257800" y="5334120"/>
            <a:ext cx="335268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600" spc="-1" strike="noStrike">
                <a:solidFill>
                  <a:srgbClr val="000000"/>
                </a:solidFill>
                <a:latin typeface="Comic Sans MS"/>
              </a:rPr>
              <a:t>Per </a:t>
            </a:r>
            <a:r>
              <a:rPr b="1" i="1" lang="it-IT" sz="2600" spc="-1" strike="noStrike">
                <a:solidFill>
                  <a:srgbClr val="000000"/>
                </a:solidFill>
                <a:latin typeface="Comic Sans MS"/>
              </a:rPr>
              <a:t>la cottura</a:t>
            </a:r>
            <a:r>
              <a:rPr b="0" i="1" lang="it-IT" sz="2600" spc="-1" strike="noStrike">
                <a:solidFill>
                  <a:srgbClr val="000000"/>
                </a:solidFill>
                <a:latin typeface="Comic Sans MS"/>
              </a:rPr>
              <a:t> meglio usare olio di oliva o di arachid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7002"/>
            </a:gs>
            <a:gs pos="50000">
              <a:srgbClr val="faeb60"/>
            </a:gs>
            <a:gs pos="100000">
              <a:srgbClr val="36700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omic Sans MS"/>
              </a:rPr>
              <a:t>I LIPIDI (GRASS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Ridurre il consumo di Burro – Lardo – Panna – Cr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Meglio preferire Latte parzialmente scremato rispetto a quello int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l consumo di Carne deve essere bilanciato tra carne rossa (due porzioni alla settimana) e bianca (tre porzioni alla settima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4796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onsumare pesce almeno due volte alla settimana perché contiene acidi grassi “buoni” (poliinsatur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onsumare un Uovo una o due volte alla settim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Ridurre il consumo di alcol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0" y="6469200"/>
            <a:ext cx="5867280" cy="17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066680" y="6248520"/>
            <a:ext cx="708660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Alcuni consig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7002"/>
            </a:gs>
            <a:gs pos="50000">
              <a:srgbClr val="faeb60"/>
            </a:gs>
            <a:gs pos="100000">
              <a:srgbClr val="36700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omic Sans MS"/>
              </a:rPr>
              <a:t>VITAMINE-MINERALI-OLIGOELEMEN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24000" y="1523880"/>
            <a:ext cx="843912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Il solo modo per averne un corretto apporto pare essere quello di far sì che l’anziano consumi un’alimentazione varia ed equilibrat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E’ sempre possibile una supplementazione con preparati farmacologici nel caso si manifestino carenze.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572000" y="5300640"/>
            <a:ext cx="4176720" cy="13287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250920" y="5300640"/>
            <a:ext cx="4244760" cy="13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7002"/>
            </a:gs>
            <a:gs pos="50000">
              <a:srgbClr val="faeb60"/>
            </a:gs>
            <a:gs pos="100000">
              <a:srgbClr val="36700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omic Sans MS"/>
              </a:rPr>
              <a:t>LE FIBRE VEGETAL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496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e fibre vegetali riducono l’assorbimento del Colesterolo e regolarizzano l’assorbimento intestinale degli Zuccheri; hanno anche un importante, benefico effetto sull’evacuazione aumentando il volume delle feci  e rendendole più morbide con l’aiuto di una adeguata introduzione di acqu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Ne sono ricchi</a:t>
            </a:r>
            <a:r>
              <a:rPr b="0" lang="it-IT" sz="3200" spc="-1" strike="noStrike" u="sng">
                <a:solidFill>
                  <a:srgbClr val="000000"/>
                </a:solidFill>
                <a:uFillTx/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Cerea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Legu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Ortagg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Frut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324480" y="3276720"/>
            <a:ext cx="2500560" cy="20764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457200" y="4648320"/>
            <a:ext cx="2228760" cy="192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7002"/>
            </a:gs>
            <a:gs pos="50000">
              <a:srgbClr val="faeb60"/>
            </a:gs>
            <a:gs pos="100000">
              <a:srgbClr val="36700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685800" y="1557360"/>
            <a:ext cx="7772400" cy="2519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67002"/>
                </a:solidFill>
                <a:latin typeface="Times New Roman"/>
              </a:rPr>
              <a:t>   </a:t>
            </a:r>
            <a:r>
              <a:rPr b="1" lang="it-IT" sz="5200" spc="-1" strike="noStrike">
                <a:solidFill>
                  <a:srgbClr val="367002"/>
                </a:solidFill>
                <a:latin typeface="Times New Roman"/>
              </a:rPr>
              <a:t>Gli alimenti soddisfano due bisogni fondamentali per la “macchina” uomo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124080" y="4572000"/>
            <a:ext cx="31244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7002"/>
            </a:gs>
            <a:gs pos="50000">
              <a:srgbClr val="faeb60"/>
            </a:gs>
            <a:gs pos="100000">
              <a:srgbClr val="36700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1692360" y="1413000"/>
            <a:ext cx="5616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67002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Bisogno "ENERGETICO"</a:t>
            </a:r>
            <a:endParaRPr b="1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367002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132000" y="3068640"/>
            <a:ext cx="316872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7002"/>
            </a:gs>
            <a:gs pos="50000">
              <a:srgbClr val="faeb60"/>
            </a:gs>
            <a:gs pos="100000">
              <a:srgbClr val="36700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476360" y="1413000"/>
            <a:ext cx="60483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67002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Bisogno "PLASTICO"</a:t>
            </a:r>
            <a:endParaRPr b="1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367002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492360" y="2781360"/>
            <a:ext cx="223200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7002"/>
            </a:gs>
            <a:gs pos="50000">
              <a:srgbClr val="faeb60"/>
            </a:gs>
            <a:gs pos="100000">
              <a:srgbClr val="36700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476360" y="1413000"/>
            <a:ext cx="60483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67002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Funzione "regolatrice-protettiva"</a:t>
            </a:r>
            <a:endParaRPr b="1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367002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971800" y="3505320"/>
            <a:ext cx="31240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7002"/>
            </a:gs>
            <a:gs pos="50000">
              <a:srgbClr val="faeb60"/>
            </a:gs>
            <a:gs pos="100000">
              <a:srgbClr val="36700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2411280" y="1484280"/>
            <a:ext cx="45151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67002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Funzione "idratante"</a:t>
            </a:r>
            <a:endParaRPr b="1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367002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505320" y="3429000"/>
            <a:ext cx="236196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7002"/>
            </a:gs>
            <a:gs pos="50000">
              <a:srgbClr val="faeb60"/>
            </a:gs>
            <a:gs pos="100000">
              <a:srgbClr val="36700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62120" y="233280"/>
            <a:ext cx="7692840" cy="3893760"/>
          </a:xfrm>
          <a:prstGeom prst="wedgeRoundRectCallout">
            <a:avLst>
              <a:gd name="adj1" fmla="val -54018"/>
              <a:gd name="adj2" fmla="val 9958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400" spc="-1" strike="noStrike">
                <a:solidFill>
                  <a:srgbClr val="000000"/>
                </a:solidFill>
                <a:latin typeface="Comic Sans MS"/>
              </a:rPr>
              <a:t>LAVORO di GRUPPO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individuate gli alimenti che soddisfano il bisogno energetico, il bisogno plastico,la funzione regolatrice-protettiva e la funzione idrat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943600" y="4876920"/>
            <a:ext cx="2743200" cy="17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.</cp:lastModifiedBy>
  <dcterms:modified xsi:type="dcterms:W3CDTF">2005-05-13T06:26:50Z</dcterms:modified>
  <cp:revision>45</cp:revision>
  <dc:subject/>
  <dc:title>PowerPoint Presentation</dc:title>
</cp:coreProperties>
</file>