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BBF-564B-466D-8033-BDF27F52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788-B2F1-47FA-A8C5-69A5C844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D78-351A-4110-8311-54AC628A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BF8-5F9B-4897-B253-8152BFAE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40B-38D1-45E9-9FDE-424E4B95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713-DE5B-4BBE-ABCE-D186502F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DEF-1A92-4061-886D-B733B620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FA1-1BA9-4F22-8038-CF44FD73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D37-71C3-4948-91B1-6AB283BA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C46-4163-473C-9A2E-2413D763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F2C-22A4-4A8B-B908-9A58D7DA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5F9-EDD0-4CB8-B07F-F1B6585D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CD79-E563-4701-A3D1-0AE1753115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157120" cy="1525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3124080"/>
            <a:ext cx="749952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33cc"/>
                </a:solidFill>
                <a:latin typeface="Comic Sans MS"/>
                <a:ea typeface="바탕"/>
              </a:rPr>
              <a:t>“</a:t>
            </a:r>
            <a:r>
              <a:rPr b="1" i="1" lang="it-IT" sz="2800" spc="-1" strike="noStrike">
                <a:solidFill>
                  <a:srgbClr val="3333cc"/>
                </a:solidFill>
                <a:latin typeface="Comic Sans MS"/>
                <a:ea typeface="바탕"/>
              </a:rPr>
              <a:t>Come favorire un corretto approccio alimentare </a:t>
            </a:r>
            <a:r>
              <a:rPr b="1" i="1" lang="it-IT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ell’anziano istituzionalizzato</a:t>
            </a:r>
            <a:r>
              <a:rPr b="0" i="1" lang="it-IT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Comic Sans MS"/>
                <a:ea typeface="바탕"/>
              </a:rPr>
              <a:t>Corso base per operatori delle residenze </a:t>
            </a:r>
            <a:r>
              <a:rPr b="1" lang="it-IT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595008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971800"/>
            <a:ext cx="7391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0879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cura dell’ASL 10-SIAN (Servizio Igiene Alimenti e Nutri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190512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diverse funzioni: “energetica”, “plastica”,“regolatrice-protettiva”, “idratante”, vengono soddisfatte dai principi nutritivi contenuti negli alimenti che consumiamo ogni giorno: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Glucidi (comprese le fibre)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Protei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Lipid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Vitami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Sali minerali- Antiossidanti - Acq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4722840"/>
            <a:ext cx="31240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Questi principi nutritivi forniscono sia l’energia (le “calorie” o kilojoule) sia i materiali con cui l’organismo umano provvede al mantenimento e al rinnovamento dei propri tessu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77120" y="4191120"/>
            <a:ext cx="200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95280" y="2286000"/>
            <a:ext cx="63374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triamo nel dettaglio</a:t>
            </a:r>
            <a:endParaRPr b="0" i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7621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ff00ff"/>
                </a:solidFill>
                <a:latin typeface="Comic Sans MS"/>
              </a:rPr>
              <a:t>Diamo i numeri”  (alcuni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286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al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205740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a 1500 a 2000 per la donna, da 1800 a 2300 per l’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rote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80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lmeno 1 gr pro Kg di peso al gi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2057400"/>
            <a:ext cx="56390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724280"/>
            <a:ext cx="48765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334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743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19320" y="1143000"/>
            <a:ext cx="487656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60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ff00ff"/>
                </a:solidFill>
                <a:latin typeface="Comic Sans MS"/>
              </a:rPr>
              <a:t>“</a:t>
            </a:r>
            <a:r>
              <a:rPr b="0" i="1" lang="it-IT" sz="4400" spc="-1" strike="noStrike">
                <a:solidFill>
                  <a:srgbClr val="ff00ff"/>
                </a:solidFill>
                <a:latin typeface="Comic Sans MS"/>
              </a:rPr>
              <a:t>Diamo i numeri”  (alcuni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668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Gluci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447920"/>
            <a:ext cx="533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lmeno il 50% della dieta giornaliera di cui solo il 10% zuccheri a rapida  digest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954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ipi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39625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non più del 27-30% della di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5715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al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54100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lmeno 1.5 gr al gi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1371600"/>
            <a:ext cx="57150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1337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3886200"/>
            <a:ext cx="4800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495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5486400"/>
            <a:ext cx="4114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6248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eguata aliment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lio pasti piccoli e un po’ più frequ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ri “abituali”(colazione ore 7-8; piccolo spuntino con frutta cotta ore 10; pranzo ore 12; merenda a base di tè e 1-2 biscotti o frutta ore 16; cena ore 19; dopo cena tisana ore 20,30- 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i equilibrati nei componenti base (carboidrati, proteine, lipidi, fibre, vitamine, sali minerali, antiossidanti, acqua, calcio...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113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mentazione equilibr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artizione a blocchi di alimenti equival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idrati = pasta, riso, polenta, pane, pata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e = pesce, legumi (+una quota cereali), carne bianca (pollo, tacchino, coniglio), uov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 rossa (maiale, vitello), formaggi, (sal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pidi= olio extravergine di oliva (ricco di ac. grassi monoinsaturi), burro, lipidi presenti anche nella carne (per lo più saturi) e nel pesce (poliinsaturi omega 3) e nei formaggi (che inoltre sono ricchi di cal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utta e verdura (fibre, vitamine, sali minerali, antiossidanti, zuccheri, liquid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o= latte e yogurt (parz. scremati?), uova, legumi, verdure (in particolare cavoli), alcune acque minerali..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a = l’anziano beve poco. Spingere a bere sovente acqua e non bibite o bevande zuccher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18440" y="762120"/>
            <a:ext cx="18255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imentazione: frequenza consigliata per le colazioni (x 2000 kcal. circa al giorno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te 2 bicchieri al giorno= 1 tazza (250 g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gurt (al posto del latte ) 1 vasetto (125g.)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cotti max 50 g. al giorno (tra colazione e meren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 anche: pane, frutta, frullati ec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imentazione: frequenza consigliata per i primi piatti(per circa 2000 kcal/die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a o riso o polenta o cereali alternativi (g. 80): 1 porzione al gi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a fresca all’uovo:  1 porzione al gi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e (50 g.): 3- 4 porzioni al gi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stituzione con patate- circa 200g.-: al posto di 80 g. pasta al massimo una volta a settiman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34320" y="5432400"/>
            <a:ext cx="17524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imentazione: frequenza consigliata per i secondi piatti (per 2000kcal giornalie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ne bian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irca 2 volte la settimana; g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ne ros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 in grandi quantità cancerogena per il colon): max 2 volte settimana; g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lum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 posto della carne rossa occasionalmente; g.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s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lmeno 2-4 volte settimana; g.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o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circa 2 volte setti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magg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max 3 volte settimana g. 50 stagionato, g.100 fre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gu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al posto della carne g. 50 secchi almeno 1 –2 volte settim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143000"/>
            <a:ext cx="7091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limentazione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Fabbisogno nutrizionale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2990880" cy="275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943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33cc"/>
                </a:solidFill>
                <a:latin typeface="Comic Sans MS"/>
              </a:rPr>
              <a:t>II mod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taggi e frutta, acq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ut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almeno 2 – 3 porzioni al giorno (circa 150 g a porzi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d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meno 3 porzioni di ortaggi (peso medio crudo almeno 100g) al giorno o insalata (50 g.) al posto di una o due porzioni di altra verdura al gi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qu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meno 10 bicchieri al gior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ssi da cond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io extravergine di oli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g. 30 al giorno (10 g.:circa un cucchiaio); 3 cucchi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ro= g.10 max al gi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tare gli altri oli, se non in piccole quantità. Evitare la margarina (attenzione ai prodotti confezionati:leggere le etichet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47680"/>
            <a:ext cx="7692840" cy="3611160"/>
          </a:xfrm>
          <a:prstGeom prst="wedgeRoundRectCallout">
            <a:avLst>
              <a:gd name="adj1" fmla="val -54018"/>
              <a:gd name="adj2" fmla="val 923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400" spc="-1" strike="noStrike">
                <a:solidFill>
                  <a:srgbClr val="000000"/>
                </a:solidFill>
                <a:latin typeface="Comic Sans MS"/>
              </a:rPr>
              <a:t>Racconto di esperienz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avete avuto nella vostra esperienza delle richieste “strane” di alimentazione? Cosa è succes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7432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lang="it-IT" sz="15000" spc="-1" strike="noStrike">
                <a:solidFill>
                  <a:srgbClr val="ff0066"/>
                </a:solidFill>
                <a:latin typeface="Comic Sans MS"/>
              </a:rPr>
              <a:t>Ma…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195120"/>
            <a:ext cx="899172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5400" spc="-1" strike="noStrike">
                <a:solidFill>
                  <a:srgbClr val="ff0066"/>
                </a:solidFill>
                <a:latin typeface="Comic Sans MS"/>
              </a:rPr>
              <a:t>Non numeri……..IDE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64000" y="2133720"/>
            <a:ext cx="211284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mportanza dell’individuo venire incontro il più possibile alle esigenze alimentari del singolo anche in una Struttura residenziale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(cfr. Piano Assistenziale Individualizza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ssuna necessità di cambiare la dieta solo perché si è vecchi;  correggere però errori dietetici evidenti (ad esempio abuso di dolci, di sale, di grassi o di alco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57600" y="4800600"/>
            <a:ext cx="18255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533520"/>
            <a:ext cx="8001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icordarsi che il fattore più importante per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terminare il fabbisogno energetico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obale è l’attività fisica; un anziano in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buona attività fisica ed autosufficiente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on deve avere un regime dietetico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verso a una persona di più giovane e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’ importante che una dieta per essere “salutare” sia anche equilibrata (abbia cioè un corretto rapporto tra le varie famiglie di nutrie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Bere vino con moderazione (un bicchiere piccolo ai pasti) è possibile, ma attenzione alle patologie e ai tanti farmaci assunti spesso dall’anzi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1142640"/>
            <a:ext cx="8964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ff"/>
                </a:solidFill>
                <a:latin typeface="Comic Sans MS"/>
              </a:rPr>
              <a:t>E …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ff"/>
                </a:solidFill>
                <a:latin typeface="Comic Sans MS"/>
              </a:rPr>
              <a:t>PER FINIRE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ff"/>
                </a:solidFill>
                <a:latin typeface="Comic Sans MS"/>
              </a:rPr>
              <a:t>QUALCHE  DETTAGLIO SU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762120"/>
            <a:ext cx="2259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ff"/>
                </a:solidFill>
                <a:latin typeface="Comic Sans MS"/>
              </a:rPr>
              <a:t>LE PROTE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69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pesso un anziano ne ha più bisogno perché malato, allettato o con decubi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n Italia l’Istituto Superiore di Sanità ne consiglia un consumo di almeno 0,75 grammi per Kg di peso corporeo al giorno che nell’anziano possono essere aumentati legger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03280" y="1989000"/>
            <a:ext cx="6337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ERCHE' MANGIARE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430200"/>
            <a:ext cx="8229600" cy="3656520"/>
          </a:xfrm>
          <a:prstGeom prst="wedgeRoundRectCallout">
            <a:avLst>
              <a:gd name="adj1" fmla="val -54472"/>
              <a:gd name="adj2" fmla="val 105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tutte le proteine sono uguali; quelle contenute nei cibi di origine animale (latte e derivati, uova, carne e pesce) sono “migliori” di quelle contenute nei legumi (fagioli,piselli, ceci…) o nei cereali (riso, grano, frumento).  Si dice che le prime hanno un più  elevato valore biologico, sono cioè meglio “utilizzate” dall’organismo MA si portano dietro un sacco di problemi: più grassi saturi, più colesterolo, più metionina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60199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ff"/>
                </a:solidFill>
                <a:latin typeface="Comic Sans MS"/>
              </a:rPr>
              <a:t>Di qual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66ff"/>
                </a:solidFill>
                <a:latin typeface="Comic Sans MS"/>
              </a:rPr>
              <a:t>protei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66ff"/>
                </a:solidFill>
                <a:latin typeface="Comic Sans MS"/>
              </a:rPr>
              <a:t>si ha più bisog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44956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indi le proteine somministrate all’anziano dovrebbero essere il più varie possibili, sia di origine animale che vege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ff"/>
                </a:solidFill>
                <a:latin typeface="Comic Sans MS"/>
              </a:rPr>
              <a:t>I CARBOIDRA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098720"/>
            <a:ext cx="86425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mic Sans MS"/>
              </a:rPr>
              <a:t>Nella dieta dell’anziano sono importanti perché forniscono all’organismo energia subito pronta all’uso per le varie funzioni del metabolism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971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762120"/>
            <a:ext cx="77724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66ff"/>
                </a:solidFill>
                <a:latin typeface="Comic Sans MS"/>
              </a:rPr>
              <a:t>Tra tutti gli alimenti che contengono carboidrati è bene preferire: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Pane (integrale o semi-integrale, variando i tipi di farin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Pasta, Riso, polenta o altri cereal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Patate solo ogni tanto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Legum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Frutta e verd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Lat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4572000"/>
            <a:ext cx="8001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I cosiddetti “dolci” vanno consumati con moderazione anche se sono piacevoli da mangiare per gli anziani e meglio se alla fine di un pasto, in questo modo il cibo già presente nello stomaco ne ritarda l’assorb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267080"/>
            <a:ext cx="8382240" cy="236232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1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ff"/>
                </a:solidFill>
                <a:latin typeface="Comic Sans MS"/>
              </a:rPr>
              <a:t>I LIPIDI (GRASS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096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0" algn="just">
              <a:lnSpc>
                <a:spcPct val="7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0" algn="just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mic Sans MS"/>
              </a:rPr>
              <a:t>Queste sostanze alimentari non dovrebbero superare in una alimentazione equilibrata il 27 – 30% delle calorie total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mic Sans MS"/>
              </a:rPr>
              <a:t>Anche i Lipidi come le Proteine non sono tutti uguali per una alimentazione salutar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562720" y="426708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457200"/>
            <a:ext cx="7543800" cy="47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ff66ff"/>
                </a:solidFill>
                <a:uFillTx/>
                <a:latin typeface="Comic Sans MS"/>
              </a:rPr>
              <a:t>E’ meglio consumare alimenti che contengono grassi di origine vegetale come</a:t>
            </a:r>
            <a:r>
              <a:rPr b="0" lang="it-IT" sz="26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Olio extravergine di oliva o, occasionalm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Olio di semi di arachid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Bene la frutta sec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ff66ff"/>
                </a:solidFill>
                <a:uFillTx/>
                <a:latin typeface="Comic Sans MS"/>
              </a:rPr>
              <a:t>piuttosto che grassi di origine animale, quali</a:t>
            </a:r>
            <a:r>
              <a:rPr b="0" lang="it-IT" sz="2600" spc="-1" strike="noStrike">
                <a:solidFill>
                  <a:srgbClr val="ff66ff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Bur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Lar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Pancet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Strut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ff"/>
                </a:solidFill>
                <a:latin typeface="Comic Sans MS"/>
              </a:rPr>
              <a:t>I LIPIDI (GRASS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durre il consumo di Burro – Lardo – Panna – C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glio preferire Latte parzialmente scremato rispetto a quello intero, quando se ne consuma t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nsumo di Carne deve essere bilanciato tra carne rossa (due porzioni alla settimana) e bianca (due porzioni alla settima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sumare pesce almeno due volte alla settimana perché contiene acidi grassi “buoni” (poliinsaturi omega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sumare un Uovo una o due volte alla setti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sumare un po’ di frutta sec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6469200"/>
            <a:ext cx="586728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248520"/>
            <a:ext cx="7086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lcuni consig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ff"/>
                </a:solidFill>
                <a:latin typeface="Comic Sans MS"/>
              </a:rPr>
              <a:t>VITAMINE-MINERALI-OLIGOELEM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523880"/>
            <a:ext cx="8439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solo modo per averne un corretto apporto pare essere quello di far sì che l’anziano consumi un’alimentazione varia ed equilibr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’ sempre possibile una supplementazione con preparati farmacologici nel caso si manifestino carenze, ma non è mai la stessa cosa…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5181480"/>
            <a:ext cx="3581280" cy="1447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3581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ff"/>
                </a:solidFill>
                <a:latin typeface="Comic Sans MS"/>
              </a:rPr>
              <a:t>LE FIBRE VEGET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fibre vegetali riducono l’assorbimento del colesterolo e regolarizzano l’assorbimento intestinale degli zuccheri; hanno anche un importante, benefico effetto sull’evacuazione aumentando il volume delle feci  e rendendole più morbide con l’aiuto di una adeguata introduzione di acqua. Mantengono sano l’int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Ne sono ricchi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ere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egu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Or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ru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500560" cy="2076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222876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ff00ff"/>
                </a:solidFill>
                <a:latin typeface="Times New Roman"/>
              </a:rPr>
              <a:t>e…attenzione all’ACQU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disidratazione è causa del 6% di tutte le ospedalizzazioni di soggetti anzia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?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dotto senso di s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menza, uso di diureti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buso di lassati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ccessiva restrizione  di fluidi per incontinenza urin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eb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a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447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385920"/>
            <a:ext cx="7692840" cy="1716840"/>
          </a:xfrm>
          <a:prstGeom prst="wedgeRoundRectCallout">
            <a:avLst>
              <a:gd name="adj1" fmla="val -41356"/>
              <a:gd name="adj2" fmla="val 9381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400" spc="-1" strike="noStrike">
                <a:solidFill>
                  <a:srgbClr val="000000"/>
                </a:solidFill>
                <a:latin typeface="Comic Sans MS"/>
              </a:rPr>
              <a:t>LAVORO di GRUPP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perché è necessario mangi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7432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4800" spc="-1" strike="noStrike">
                <a:solidFill>
                  <a:srgbClr val="ff00ff"/>
                </a:solidFill>
                <a:latin typeface="Times New Roman"/>
              </a:rPr>
              <a:t>Gli alimenti soddisfano alcuni bisogni fondamentali per la “macchina” uo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24080" y="4572000"/>
            <a:ext cx="3124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692360" y="1413000"/>
            <a:ext cx="56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sogno "ENERGETICO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3168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76360" y="141300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sogno "PLASTICO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360" y="2781360"/>
            <a:ext cx="2232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76360" y="141300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zione "regolatrice-protettiva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3124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76360" y="141300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zione "idratante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23619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forestiero</cp:lastModifiedBy>
  <dcterms:modified xsi:type="dcterms:W3CDTF">2006-09-29T09:03:09Z</dcterms:modified>
  <cp:revision>65</cp:revision>
  <dc:subject/>
  <dc:title>PowerPoint Presentation</dc:title>
</cp:coreProperties>
</file>