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D5B5-9854-4A3A-8100-9EAB9B53DB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43434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EE91-6E85-47BA-8270-5E985724A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922E-F279-401A-94B5-6014167EE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2BA4-0615-4DBB-8297-8235034E5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8DDE-F19D-4FC0-BD2B-6F4D8D604F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2D30-E808-4502-9EEF-1BD2EB9CFF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B810-02D7-41B9-AC00-CDBDCF8C1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C98E-1DF4-4F17-8B8E-9FFDD7AFA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318D-BB50-48A5-AC7E-98F3BEDAA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C3AB-8F25-416B-92DD-39F9E051F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E4FC-2C1A-4CA6-8D2E-287930C74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2B72-D6A3-49EF-823F-71DA03040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F8A9-BDB1-4ACD-BB05-9EF092005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238880" y="6519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507C-E062-42C2-8302-13A1AAB6974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759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613560"/>
            <a:ext cx="437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07 by Psicopoint/A.N.T. ASL 7 Settimo Torine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71600" y="333360"/>
            <a:ext cx="77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ALLEGATO 4A</a:t>
            </a:r>
            <a:r>
              <a:rPr b="1" i="1" lang="en-GB" sz="1600" spc="-1" strike="noStrike">
                <a:solidFill>
                  <a:srgbClr val="333399"/>
                </a:solidFill>
                <a:latin typeface="Arial"/>
              </a:rPr>
              <a:t>          A.N.T. Project - Actions in terri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5440" y="2820960"/>
            <a:ext cx="8532720" cy="1191240"/>
          </a:xfrm>
          <a:prstGeom prst="rect">
            <a:avLst/>
          </a:prstGeom>
          <a:solidFill>
            <a:srgbClr val="fff9a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LTH PROMO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 STREET PSYCHOLOGY FIE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N.T.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560" y="231156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iziana Maiur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nzo Rolando – Sigfrido Cellerai – Gian Piero Tur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67080" y="5662440"/>
            <a:ext cx="44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Xth European Congress of Psychology</a:t>
            </a:r>
            <a:br>
              <a:rPr sz="1800"/>
            </a:b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3-6 July 2007, Prague, Czech Republ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31920"/>
            <a:ext cx="1800000" cy="153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946D-F842-45B8-BEFD-0D91FA776C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12193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9144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partment of Ment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52880" y="91440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rvice for Drug Add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91440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sychopoint A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1600200"/>
            <a:ext cx="21333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209560" y="1659960"/>
            <a:ext cx="2153160" cy="94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2743200"/>
            <a:ext cx="2666880" cy="852840"/>
          </a:xfrm>
          <a:prstGeom prst="rect">
            <a:avLst/>
          </a:prstGeom>
          <a:solidFill>
            <a:srgbClr val="fff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N.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s in Terr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886200"/>
            <a:ext cx="56386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disciplinary integrated équipe              for health promotion in youth population trough interventions in terr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3280" y="5281560"/>
            <a:ext cx="64087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youth population from 14 to 25 years 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9F46-5A4D-4F6F-958F-4A5D604FDA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1328760"/>
            <a:ext cx="8136000" cy="733320"/>
          </a:xfrm>
          <a:prstGeom prst="rect">
            <a:avLst/>
          </a:prstGeom>
          <a:solidFill>
            <a:srgbClr val="fffb8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ur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into the territory of reality constructions that involve the possibility of organic disease development or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lat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“uneasiness” and eventually ‘help request’ in order to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uide, accompany and intermediat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them to the Public Servic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73160" y="89532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STRATEGIC UNDER-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3979800"/>
            <a:ext cx="8209080" cy="520200"/>
          </a:xfrm>
          <a:prstGeom prst="rect">
            <a:avLst/>
          </a:prstGeom>
          <a:solidFill>
            <a:srgbClr val="fff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sychological and Psycho-pedagogical Services, free, anonymou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nd easily accessible on territorial ba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90920" y="354816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2219400"/>
            <a:ext cx="8136000" cy="383040"/>
          </a:xfrm>
          <a:prstGeom prst="rect">
            <a:avLst/>
          </a:prstGeom>
          <a:solidFill>
            <a:srgbClr val="fffb8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-intermediati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to the Public Services of own ex-custom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4040" y="2782800"/>
            <a:ext cx="8136000" cy="383040"/>
          </a:xfrm>
          <a:prstGeom prst="rect">
            <a:avLst/>
          </a:prstGeom>
          <a:solidFill>
            <a:srgbClr val="fffb8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on-specific intervention of health promoti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8200" y="4638600"/>
            <a:ext cx="8209080" cy="1292760"/>
          </a:xfrm>
          <a:prstGeom prst="rect">
            <a:avLst/>
          </a:prstGeom>
          <a:solidFill>
            <a:srgbClr val="fff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o supply meeting and relation occasions not formal to all the young people contac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  in order to facilitate the construction and the maintenance of a spontaneous social net able to render available knowledge modalities (processes of construction of the realit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at they do not contemplate the disease as narrative poss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from which is possible to anticipate the management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situation ‘risk of organic diseas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D979-9909-424C-BE55-9D523B59EF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9" name="_s1049"/>
          <p:cNvCxnSpPr>
            <a:stCxn id="70" idx="1"/>
            <a:endCxn id="71" idx="2"/>
          </p:cNvCxnSpPr>
          <p:nvPr/>
        </p:nvCxnSpPr>
        <p:spPr>
          <a:xfrm rot="10800000">
            <a:off x="4452120" y="4058640"/>
            <a:ext cx="402480" cy="4071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" name="_s1050"/>
          <p:cNvCxnSpPr>
            <a:stCxn id="73" idx="3"/>
            <a:endCxn id="71" idx="2"/>
          </p:cNvCxnSpPr>
          <p:nvPr/>
        </p:nvCxnSpPr>
        <p:spPr>
          <a:xfrm flipV="1">
            <a:off x="4003560" y="4058640"/>
            <a:ext cx="450000" cy="40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4" name="_s1052"/>
          <p:cNvCxnSpPr/>
          <p:nvPr/>
        </p:nvCxnSpPr>
        <p:spPr>
          <a:xfrm flipV="1" rot="16200000">
            <a:off x="5151600" y="3570840"/>
            <a:ext cx="1122840" cy="25153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_s1053"/>
          <p:cNvCxnSpPr/>
          <p:nvPr/>
        </p:nvCxnSpPr>
        <p:spPr>
          <a:xfrm flipH="1" flipV="1" rot="5400000">
            <a:off x="2642400" y="3566160"/>
            <a:ext cx="1122840" cy="252504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" name="_s1054"/>
          <p:cNvCxnSpPr>
            <a:stCxn id="71" idx="0"/>
            <a:endCxn id="77" idx="2"/>
          </p:cNvCxnSpPr>
          <p:nvPr/>
        </p:nvCxnSpPr>
        <p:spPr>
          <a:xfrm flipV="1" rot="16200000">
            <a:off x="4340520" y="3000600"/>
            <a:ext cx="221040" cy="3960"/>
          </a:xfrm>
          <a:prstGeom prst="bentConnector3">
            <a:avLst>
              <a:gd name="adj1" fmla="val 5024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7" name="_s1055"/>
          <p:cNvSpPr/>
          <p:nvPr/>
        </p:nvSpPr>
        <p:spPr>
          <a:xfrm>
            <a:off x="3376440" y="1909800"/>
            <a:ext cx="2146320" cy="982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240" rIns="3024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echnical Directio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_s1056"/>
          <p:cNvSpPr/>
          <p:nvPr/>
        </p:nvSpPr>
        <p:spPr>
          <a:xfrm>
            <a:off x="3193920" y="3112920"/>
            <a:ext cx="2516400" cy="9464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ng Coordin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_s1057"/>
          <p:cNvSpPr/>
          <p:nvPr/>
        </p:nvSpPr>
        <p:spPr>
          <a:xfrm>
            <a:off x="870120" y="5181480"/>
            <a:ext cx="2116080" cy="517680"/>
          </a:xfrm>
          <a:prstGeom prst="roundRect">
            <a:avLst>
              <a:gd name="adj" fmla="val 16667"/>
            </a:avLst>
          </a:prstGeom>
          <a:solidFill>
            <a:srgbClr val="99ccff">
              <a:alpha val="8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linical A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_s1058"/>
          <p:cNvSpPr/>
          <p:nvPr/>
        </p:nvSpPr>
        <p:spPr>
          <a:xfrm>
            <a:off x="5908680" y="5181480"/>
            <a:ext cx="2116080" cy="517680"/>
          </a:xfrm>
          <a:prstGeom prst="roundRect">
            <a:avLst>
              <a:gd name="adj" fmla="val 16667"/>
            </a:avLst>
          </a:prstGeom>
          <a:solidFill>
            <a:srgbClr val="99ccff">
              <a:alpha val="8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et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_s1059"/>
          <p:cNvSpPr/>
          <p:nvPr/>
        </p:nvSpPr>
        <p:spPr>
          <a:xfrm>
            <a:off x="3389400" y="5181480"/>
            <a:ext cx="2116080" cy="517680"/>
          </a:xfrm>
          <a:prstGeom prst="roundRect">
            <a:avLst>
              <a:gd name="adj" fmla="val 16667"/>
            </a:avLst>
          </a:prstGeom>
          <a:solidFill>
            <a:srgbClr val="99ccff">
              <a:alpha val="8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cial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_s1060"/>
          <p:cNvSpPr/>
          <p:nvPr/>
        </p:nvSpPr>
        <p:spPr>
          <a:xfrm>
            <a:off x="1889280" y="4208400"/>
            <a:ext cx="2114280" cy="5176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ng Technical support</a:t>
            </a: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_s1061"/>
          <p:cNvSpPr/>
          <p:nvPr/>
        </p:nvSpPr>
        <p:spPr>
          <a:xfrm>
            <a:off x="4854600" y="4208400"/>
            <a:ext cx="2116080" cy="5176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Administrative Support</a:t>
            </a: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85880" y="13716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AL ORDER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/>
          <p:nvPr/>
        </p:nvCxnSpPr>
        <p:spPr>
          <a:xfrm flipV="1">
            <a:off x="4462200" y="4058640"/>
            <a:ext cx="5400" cy="112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F76D-0EA2-484A-99E6-B63049B03B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338280" y="890640"/>
            <a:ext cx="2379960" cy="429120"/>
          </a:xfrm>
          <a:prstGeom prst="rect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SOCIAL 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76520" y="1371600"/>
            <a:ext cx="1676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2133720"/>
            <a:ext cx="2362320" cy="101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meeting pla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2133720"/>
            <a:ext cx="1904760" cy="830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Activation and maintenance contacts</a:t>
            </a: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119320"/>
            <a:ext cx="213372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Informa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2108160"/>
            <a:ext cx="221004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Offer promotion and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137160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657600" y="137160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137160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3962520"/>
            <a:ext cx="1981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Participate observ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4038480"/>
            <a:ext cx="1981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5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Street tur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3886200"/>
            <a:ext cx="1981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5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Distribution of informative material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77080" y="3949560"/>
            <a:ext cx="211464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5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Prepared or extemporaneous recreational mom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3048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3048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3048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24680" y="3048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8560" y="5524560"/>
            <a:ext cx="8153640" cy="672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perato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reet Educators-Entertainers, Peers Entertain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9000" y="58752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RATEG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E492-B298-4EE3-91D1-CB38BFA484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68360" y="1600200"/>
            <a:ext cx="4464360" cy="456840"/>
          </a:xfrm>
          <a:prstGeom prst="rect">
            <a:avLst/>
          </a:prstGeom>
          <a:solidFill>
            <a:srgbClr val="fff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esence and interaction in places of social reality constru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18040" y="890640"/>
            <a:ext cx="2628360" cy="429120"/>
          </a:xfrm>
          <a:prstGeom prst="rect">
            <a:avLst/>
          </a:prstGeom>
          <a:solidFill>
            <a:srgbClr val="fffb8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CLINICAL 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559480"/>
            <a:ext cx="8153280" cy="63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o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rter’s psychologi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fiduciary contac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395440"/>
            <a:ext cx="4191120" cy="496440"/>
          </a:xfrm>
          <a:prstGeom prst="rect">
            <a:avLst/>
          </a:prstGeom>
          <a:solidFill>
            <a:srgbClr val="fff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istening and reading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elp request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1000" y="2151000"/>
            <a:ext cx="972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3276720"/>
            <a:ext cx="1981080" cy="275400"/>
          </a:xfrm>
          <a:prstGeom prst="rect">
            <a:avLst/>
          </a:prstGeom>
          <a:solidFill>
            <a:srgbClr val="fff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uidel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886200"/>
            <a:ext cx="1981080" cy="492120"/>
          </a:xfrm>
          <a:prstGeom prst="rect">
            <a:avLst/>
          </a:prstGeom>
          <a:solidFill>
            <a:srgbClr val="fff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Activation social 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3886200"/>
            <a:ext cx="2210040" cy="456840"/>
          </a:xfrm>
          <a:prstGeom prst="rect">
            <a:avLst/>
          </a:prstGeom>
          <a:solidFill>
            <a:srgbClr val="fff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Intermediation to Ser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4648320"/>
            <a:ext cx="2209680" cy="275400"/>
          </a:xfrm>
          <a:prstGeom prst="rect">
            <a:avLst/>
          </a:prstGeom>
          <a:solidFill>
            <a:srgbClr val="fff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Street interven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4648320"/>
            <a:ext cx="2209680" cy="293400"/>
          </a:xfrm>
          <a:prstGeom prst="rect">
            <a:avLst/>
          </a:prstGeom>
          <a:solidFill>
            <a:srgbClr val="fff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Shipment to the 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895480" y="358128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358128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504960" y="3581280"/>
            <a:ext cx="5331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3581280"/>
            <a:ext cx="5331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9000" y="58752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RATEG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BCE3-E53C-4D08-967D-63E1F71173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593160" y="890640"/>
            <a:ext cx="1884600" cy="429120"/>
          </a:xfrm>
          <a:prstGeom prst="rect">
            <a:avLst/>
          </a:prstGeom>
          <a:solidFill>
            <a:srgbClr val="fffb8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NET 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5452920"/>
            <a:ext cx="8153280" cy="587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ors:                                                                                 Psychotherapists, lawyers, sociologists, base operators (voluntar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1652760"/>
            <a:ext cx="1981080" cy="456840"/>
          </a:xfrm>
          <a:prstGeom prst="rect">
            <a:avLst/>
          </a:prstGeom>
          <a:solidFill>
            <a:srgbClr val="fff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Search specifics resour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219320"/>
            <a:ext cx="22096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Servic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2538360"/>
            <a:ext cx="1981080" cy="456840"/>
          </a:xfrm>
          <a:prstGeom prst="rect">
            <a:avLst/>
          </a:prstGeom>
          <a:solidFill>
            <a:srgbClr val="fff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Support to initiativ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3324240"/>
            <a:ext cx="1981080" cy="456840"/>
          </a:xfrm>
          <a:prstGeom prst="rect">
            <a:avLst/>
          </a:prstGeom>
          <a:solidFill>
            <a:srgbClr val="fff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Stages and training cour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4095720"/>
            <a:ext cx="1981080" cy="456840"/>
          </a:xfrm>
          <a:prstGeom prst="rect">
            <a:avLst/>
          </a:prstGeom>
          <a:solidFill>
            <a:srgbClr val="fff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Intervention in school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1219320"/>
            <a:ext cx="22096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Offer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676520"/>
            <a:ext cx="1981080" cy="275400"/>
          </a:xfrm>
          <a:prstGeom prst="rect">
            <a:avLst/>
          </a:prstGeom>
          <a:solidFill>
            <a:srgbClr val="fff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Legal Advis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2462040"/>
            <a:ext cx="1981080" cy="319320"/>
          </a:xfrm>
          <a:prstGeom prst="rect">
            <a:avLst/>
          </a:prstGeom>
          <a:solidFill>
            <a:srgbClr val="fff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Job advis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3247920"/>
            <a:ext cx="1981080" cy="486000"/>
          </a:xfrm>
          <a:prstGeom prst="rect">
            <a:avLst/>
          </a:prstGeom>
          <a:solidFill>
            <a:srgbClr val="fff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Social Secretari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4019400"/>
            <a:ext cx="1981080" cy="449280"/>
          </a:xfrm>
          <a:prstGeom prst="rect">
            <a:avLst/>
          </a:prstGeom>
          <a:solidFill>
            <a:srgbClr val="fff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Counseling and psychotherap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9000" y="58752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RATEGY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1160" y="105264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72000" y="105264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8ADC2-716A-4AEF-884D-098D0421D0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732640"/>
            <a:ext cx="7559640" cy="672840"/>
          </a:xfrm>
          <a:prstGeom prst="rect">
            <a:avLst/>
          </a:prstGeom>
          <a:solidFill>
            <a:srgbClr val="ccecff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-mail: tmaiuro@yahoo.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sicopoint Association, Settimo Torinese (Ita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0080" y="3999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121428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.N.T. Project as exemplification of Dialogic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9360" y="204804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ption: HEALTH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t of a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arrative tissu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discursive practic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vailable in a cultural contex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3627360"/>
            <a:ext cx="7490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STREET PSYCHOLOGY: A.N.T. Project operator in terr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4500720"/>
            <a:ext cx="871380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erritory as “setting”: operator in discursive context participa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wards the processes of construction of the health re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4314240" y="4106880"/>
            <a:ext cx="527040" cy="323640"/>
          </a:xfrm>
          <a:custGeom>
            <a:avLst/>
            <a:gdLst>
              <a:gd name="textAreaLeft" fmla="*/ 82080 w 527040"/>
              <a:gd name="textAreaRight" fmla="*/ 461160 w 527040"/>
              <a:gd name="textAreaTop" fmla="*/ 81000 h 323640"/>
              <a:gd name="textAreaBottom" fmla="*/ 243000 h 32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247280" y="1666080"/>
            <a:ext cx="541440" cy="324000"/>
          </a:xfrm>
          <a:custGeom>
            <a:avLst/>
            <a:gdLst>
              <a:gd name="textAreaLeft" fmla="*/ 84600 w 541440"/>
              <a:gd name="textAreaRight" fmla="*/ 473760 w 541440"/>
              <a:gd name="textAreaTop" fmla="*/ 81000 h 324000"/>
              <a:gd name="textAreaBottom" fmla="*/ 243000 h 324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7415-98DD-4E2D-8542-74A1717CE5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05:56:48Z</dcterms:created>
  <dc:creator>S. Cellerai</dc:creator>
  <dc:description/>
  <dc:language>en-US</dc:language>
  <cp:lastModifiedBy>puant2005</cp:lastModifiedBy>
  <cp:lastPrinted>2004-07-02T12:20:25Z</cp:lastPrinted>
  <dcterms:modified xsi:type="dcterms:W3CDTF">2007-07-23T16:21:14Z</dcterms:modified>
  <cp:revision>177</cp:revision>
  <dc:subject/>
  <dc:title>PowerPoint Presentation</dc:title>
</cp:coreProperties>
</file>