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CD8-1A55-4CAB-8FBB-4B463C89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91F-DBFB-4A5C-931C-26F8A5FF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7DB-4B4B-4E97-82A2-1B62EE76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FD4B-B3B6-49CA-9CE7-7C546AB2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6C1-8129-4432-ADC2-A6A1FD0D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E25-EDC2-4179-B31D-B6B50028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B62-A06D-4865-867A-E77B4A07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2F9-F7ED-47F4-A49A-40D939C3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A4C-5A38-4E04-A587-7279ED8E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C4A-D0E4-480F-AE32-8DEA99A6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895-EF79-48A7-8AC5-950F0A4A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90AA-DB92-4440-8393-5142E099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igura a mano libera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Connettore 1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DAA6-9E51-4CEE-A36F-4D5B92B760D1}" type="slidenum">
              <a:rPr b="0" lang="it-IT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2" descr=""/>
          <p:cNvPicPr/>
          <p:nvPr/>
        </p:nvPicPr>
        <p:blipFill>
          <a:blip r:embed="rId1"/>
          <a:stretch/>
        </p:blipFill>
        <p:spPr>
          <a:xfrm>
            <a:off x="23760" y="450720"/>
            <a:ext cx="7139160" cy="2683080"/>
          </a:xfrm>
          <a:prstGeom prst="rect">
            <a:avLst/>
          </a:prstGeom>
          <a:ln w="0">
            <a:noFill/>
          </a:ln>
        </p:spPr>
      </p:pic>
      <p:sp>
        <p:nvSpPr>
          <p:cNvPr id="48" name="Segnaposto numero diapositiva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0FDC-8B51-4499-8D96-4FAA9430E815}" type="slidenum">
              <a:rPr b="0" lang="it-IT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867280" y="2590920"/>
            <a:ext cx="2971800" cy="27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omic Sans MS"/>
              </a:rPr>
              <a:t>Conte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omic Sans MS"/>
              </a:rPr>
              <a:t>Che cosa 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omic Sans MS"/>
              </a:rPr>
              <a:t>Presuppost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omic Sans MS"/>
              </a:rPr>
              <a:t>Obiettiv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CasellaDiTesto 1"/>
          <p:cNvSpPr/>
          <p:nvPr/>
        </p:nvSpPr>
        <p:spPr>
          <a:xfrm>
            <a:off x="5105520" y="623736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raversetolo, 25 ottobre  20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4" descr="guadagnare%20salute%20logo_Pagina_2"/>
          <p:cNvPicPr/>
          <p:nvPr/>
        </p:nvPicPr>
        <p:blipFill>
          <a:blip r:embed="rId2"/>
          <a:stretch/>
        </p:blipFill>
        <p:spPr>
          <a:xfrm>
            <a:off x="304920" y="5562720"/>
            <a:ext cx="27781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09480" y="22093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dizioni socio-economich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stili di vita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irca 50%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atteristiche genetiche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irca 20%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dizioni ambientali            circa 15%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ttore sanitario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irca 15%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5" name="Rectangle 2" descr=""/>
          <p:cNvPicPr/>
          <p:nvPr/>
        </p:nvPicPr>
        <p:blipFill>
          <a:blip r:embed="rId1"/>
          <a:stretch/>
        </p:blipFill>
        <p:spPr>
          <a:xfrm>
            <a:off x="493560" y="378000"/>
            <a:ext cx="8047080" cy="1590480"/>
          </a:xfrm>
          <a:prstGeom prst="rect">
            <a:avLst/>
          </a:prstGeom>
          <a:ln w="0">
            <a:noFill/>
          </a:ln>
        </p:spPr>
      </p:pic>
      <p:sp>
        <p:nvSpPr>
          <p:cNvPr id="76" name="Segnaposto numero diapositiva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59FF-4D0F-4D78-A497-E980420D1B2E}" type="slidenum">
              <a:rPr b="0" lang="it-IT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440" y="1905120"/>
            <a:ext cx="7543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2060"/>
                </a:solidFill>
                <a:latin typeface="Comic Sans MS"/>
              </a:rPr>
              <a:t>Quindi, la salute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2060"/>
                </a:solidFill>
                <a:latin typeface="Comic Sans MS"/>
              </a:rPr>
              <a:t>non è solo sanità</a:t>
            </a:r>
            <a:r>
              <a:rPr b="0" lang="it-IT" sz="4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6AA5-3252-49A0-9BD1-605714F6011A}" type="slidenum">
              <a:rPr b="0" lang="it-IT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75248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i programmi di promozione della salute hanno un maggiore successo se sono integrati nella vita quotidiana delle comunità, basati sulle tradizioni locali e condotti da membri della comunità stess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Lucida Sans Unicode"/>
              </a:rPr>
              <a:t>(IUHPE, Delineare il futuro della promozione della salute: le priorità </a:t>
            </a:r>
            <a:r>
              <a:rPr b="0" lang="it-IT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Lucida Sans Unicode"/>
              </a:rPr>
              <a:t>per l’azione, traduzione a cura di Dors, 2007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0" name="Titolo 1" descr=""/>
          <p:cNvPicPr/>
          <p:nvPr/>
        </p:nvPicPr>
        <p:blipFill>
          <a:blip r:embed="rId1"/>
          <a:stretch/>
        </p:blipFill>
        <p:spPr>
          <a:xfrm>
            <a:off x="60480" y="530280"/>
            <a:ext cx="8480160" cy="1152360"/>
          </a:xfrm>
          <a:prstGeom prst="rect">
            <a:avLst/>
          </a:prstGeom>
          <a:ln w="0">
            <a:noFill/>
          </a:ln>
        </p:spPr>
      </p:pic>
      <p:sp>
        <p:nvSpPr>
          <p:cNvPr id="81" name="Segnaposto numero diapositiva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EA19-C06E-4966-A28E-DA519A38148C}" type="slidenum">
              <a:rPr b="0" lang="it-IT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14400" y="1828800"/>
            <a:ext cx="7238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..che tutta la comunità (associazioni, Enti, singoli cittadini, parrocchia, organizzazioni sociali..) di Traversetolo si attivi per rendere più facili le scelte di vita salutari nel proprio territorio ….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3" name="Titolo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Segnaposto numero diapositiva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A26D-7122-46B9-A82F-26797ECF99F1}" type="slidenum">
              <a:rPr b="0" lang="it-IT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609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nalizzare, proporre, scegliere, decidere e  realizzare le azioni ritenute utili alla riduzione del rischi legati a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um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co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imentazio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ività moto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3E1D-8C89-46CC-B4DA-BC4816D81C91}" type="slidenum">
              <a:rPr b="0" lang="it-IT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CasellaDiTesto 1"/>
          <p:cNvSpPr/>
          <p:nvPr/>
        </p:nvSpPr>
        <p:spPr>
          <a:xfrm>
            <a:off x="2590920" y="5181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2060"/>
                </a:solidFill>
                <a:latin typeface="Comic Sans MS"/>
              </a:rPr>
              <a:t>Progettazione Partecipa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" name="Freccia a destra 1"/>
          <p:cNvGrpSpPr/>
          <p:nvPr/>
        </p:nvGrpSpPr>
        <p:grpSpPr>
          <a:xfrm>
            <a:off x="1047600" y="5443560"/>
            <a:ext cx="1262160" cy="287280"/>
            <a:chOff x="1047600" y="5443560"/>
            <a:chExt cx="1262160" cy="287280"/>
          </a:xfrm>
        </p:grpSpPr>
        <p:pic>
          <p:nvPicPr>
            <p:cNvPr id="89" name="Freccia a destra 1" descr=""/>
            <p:cNvPicPr/>
            <p:nvPr/>
          </p:nvPicPr>
          <p:blipFill>
            <a:blip r:embed="rId1"/>
            <a:stretch/>
          </p:blipFill>
          <p:spPr>
            <a:xfrm>
              <a:off x="1047600" y="5443560"/>
              <a:ext cx="12621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066680" y="5532480"/>
              <a:ext cx="11667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04920" y="137160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719dd"/>
                </a:solidFill>
                <a:latin typeface="Comic Sans MS"/>
              </a:rPr>
              <a:t>Coordinatore del Progetto: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milio Marchionn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1607d3"/>
                </a:solidFill>
                <a:latin typeface="Comic Sans MS"/>
              </a:rPr>
              <a:t>Gruppo di proget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aola Alfier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icola Bols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lena Cerat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lena Fellon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osario Ficarr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aria Rosaria Giannell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nrica Lam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arbara Spagnol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2" name="Titolo 2" descr=""/>
          <p:cNvPicPr/>
          <p:nvPr/>
        </p:nvPicPr>
        <p:blipFill>
          <a:blip r:embed="rId1"/>
          <a:stretch/>
        </p:blipFill>
        <p:spPr>
          <a:xfrm>
            <a:off x="212760" y="231840"/>
            <a:ext cx="848052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1506-CCF1-409C-9B76-3463E01464D0}" type="slidenum">
              <a:rPr b="0" lang="it-IT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4" descr="guadagnare%20salute%20logo_Pagina_2"/>
          <p:cNvPicPr/>
          <p:nvPr/>
        </p:nvPicPr>
        <p:blipFill>
          <a:blip r:embed="rId2"/>
          <a:stretch/>
        </p:blipFill>
        <p:spPr>
          <a:xfrm>
            <a:off x="4800600" y="5029200"/>
            <a:ext cx="4125960" cy="1684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Comic Sans MS"/>
              </a:rPr>
              <a:t>La Regione Emilia Romagna ha pubblicato u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Comic Sans MS"/>
              </a:rPr>
              <a:t>Bando p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2060"/>
                </a:solidFill>
                <a:latin typeface="Comic Sans MS"/>
              </a:rPr>
              <a:t>“</a:t>
            </a:r>
            <a:r>
              <a:rPr b="1" lang="it-IT" sz="2700" spc="-1" strike="noStrike">
                <a:solidFill>
                  <a:srgbClr val="000000"/>
                </a:solidFill>
                <a:latin typeface="Comic Sans MS"/>
              </a:rPr>
              <a:t>Progetti per Guadagnare Salute in contesti di Comunità</a:t>
            </a:r>
            <a:r>
              <a:rPr b="0" lang="it-IT" sz="2700" spc="-1" strike="noStrike">
                <a:solidFill>
                  <a:srgbClr val="002060"/>
                </a:solidFill>
                <a:latin typeface="Comic Sans MS"/>
              </a:rPr>
              <a:t> 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" name="Titolo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Segnaposto numero diapositiva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30CA-3821-4535-A911-1F4BCF31DF7F}" type="slidenum">
              <a:rPr b="0" lang="it-IT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2" descr=""/>
          <p:cNvPicPr/>
          <p:nvPr/>
        </p:nvPicPr>
        <p:blipFill>
          <a:blip r:embed="rId1"/>
          <a:stretch/>
        </p:blipFill>
        <p:spPr>
          <a:xfrm>
            <a:off x="328680" y="603360"/>
            <a:ext cx="83772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olo 2" descr=""/>
          <p:cNvPicPr/>
          <p:nvPr/>
        </p:nvPicPr>
        <p:blipFill>
          <a:blip r:embed="rId1"/>
          <a:stretch/>
        </p:blipFill>
        <p:spPr>
          <a:xfrm>
            <a:off x="268200" y="378000"/>
            <a:ext cx="8504280" cy="5572080"/>
          </a:xfrm>
          <a:prstGeom prst="rect">
            <a:avLst/>
          </a:prstGeom>
          <a:ln w="0">
            <a:noFill/>
          </a:ln>
        </p:spPr>
      </p:pic>
      <p:sp>
        <p:nvSpPr>
          <p:cNvPr id="57" name="Segnaposto numero diapositiva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0EB4-B4C4-4E17-B0DE-9FE53D9A58B0}" type="slidenum">
              <a:rPr b="0" lang="it-IT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2209320"/>
            <a:ext cx="769608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Un gruppo specifico di persone, che vive in un’area geografica definita e che condivide la stessa cultura, gli stessi valori e le stesse norme, organizzato in una struttura sociale basata sui rapporti che la comunità ha sviluppato nel corso del tempo. 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OM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" name="Titolo 2" descr=""/>
          <p:cNvPicPr/>
          <p:nvPr/>
        </p:nvPicPr>
        <p:blipFill>
          <a:blip r:embed="rId1"/>
          <a:stretch/>
        </p:blipFill>
        <p:spPr>
          <a:xfrm>
            <a:off x="195120" y="530280"/>
            <a:ext cx="8498160" cy="1152360"/>
          </a:xfrm>
          <a:prstGeom prst="rect">
            <a:avLst/>
          </a:prstGeom>
          <a:ln w="0">
            <a:noFill/>
          </a:ln>
        </p:spPr>
      </p:pic>
      <p:sp>
        <p:nvSpPr>
          <p:cNvPr id="60" name="Segnaposto numero diapositiva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C3A2-61F1-4EAC-9B96-A55A4C3100CC}" type="slidenum">
              <a:rPr b="0" lang="it-IT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80520" y="20570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262626"/>
                </a:solidFill>
                <a:latin typeface="Comic Sans MS"/>
              </a:rPr>
              <a:t>   </a:t>
            </a:r>
            <a:r>
              <a:rPr b="0" lang="it-IT" sz="2700" spc="-1" strike="noStrike">
                <a:solidFill>
                  <a:srgbClr val="262626"/>
                </a:solidFill>
                <a:latin typeface="Comic Sans MS"/>
              </a:rPr>
              <a:t>è un programma ministeriale che ha come obiettivo la promozione della salute ed, in particolare, la promozione di  stili di vita sani relativamente 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262626"/>
                </a:solidFill>
                <a:latin typeface="Comic Sans MS"/>
              </a:rPr>
              <a:t>Fum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262626"/>
                </a:solidFill>
                <a:latin typeface="Comic Sans MS"/>
              </a:rPr>
              <a:t>Alc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262626"/>
                </a:solidFill>
                <a:latin typeface="Comic Sans MS"/>
              </a:rPr>
              <a:t>Alimenta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262626"/>
                </a:solidFill>
                <a:latin typeface="Comic Sans MS"/>
              </a:rPr>
              <a:t>Attività motori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5E4C-C1DA-4CEB-AAA4-0DE32245D60B}" type="slidenum">
              <a:rPr b="0" lang="it-IT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082520" y="393840"/>
            <a:ext cx="7010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100" spc="-1" strike="noStrike">
                <a:solidFill>
                  <a:srgbClr val="002060"/>
                </a:solidFill>
                <a:latin typeface="Comic Sans MS"/>
              </a:rPr>
              <a:t>Che cos’è </a:t>
            </a:r>
            <a:r>
              <a:rPr b="0" lang="it-IT" sz="4100" spc="-1" strike="noStrike">
                <a:solidFill>
                  <a:srgbClr val="002060"/>
                </a:solidFill>
                <a:latin typeface="Comic Sans MS"/>
              </a:rPr>
              <a:t>“</a:t>
            </a:r>
            <a:r>
              <a:rPr b="1" lang="it-IT" sz="4100" spc="-1" strike="noStrike">
                <a:solidFill>
                  <a:srgbClr val="002060"/>
                </a:solidFill>
                <a:latin typeface="Comic Sans MS"/>
              </a:rPr>
              <a:t>Guadagnare Salute</a:t>
            </a:r>
            <a:r>
              <a:rPr b="0" lang="it-IT" sz="4100" spc="-1" strike="noStrike">
                <a:solidFill>
                  <a:srgbClr val="002060"/>
                </a:solidFill>
                <a:latin typeface="Comic Sans MS"/>
              </a:rPr>
              <a:t>“</a:t>
            </a:r>
            <a:r>
              <a:rPr b="1" lang="it-IT" sz="4100" spc="-1" strike="noStrike">
                <a:solidFill>
                  <a:srgbClr val="002060"/>
                </a:solidFill>
                <a:latin typeface="Comic Sans MS"/>
              </a:rPr>
              <a:t>? 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162160" y="1117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1760" y="28195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262626"/>
                </a:solidFill>
                <a:latin typeface="Comic Sans MS"/>
              </a:rPr>
              <a:t> </a:t>
            </a:r>
            <a:r>
              <a:rPr b="1" lang="it-IT" sz="3600" spc="-1" strike="noStrike">
                <a:solidFill>
                  <a:srgbClr val="262626"/>
                </a:solidFill>
                <a:latin typeface="Comic Sans MS"/>
              </a:rPr>
              <a:t>nuovo concetto di salu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743040" indent="-743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743040" indent="-743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262626"/>
                </a:solidFill>
                <a:latin typeface="Comic Sans MS"/>
              </a:rPr>
              <a:t> </a:t>
            </a:r>
            <a:r>
              <a:rPr b="1" lang="it-IT" sz="3600" spc="-1" strike="noStrike">
                <a:solidFill>
                  <a:srgbClr val="262626"/>
                </a:solidFill>
                <a:latin typeface="Comic Sans MS"/>
              </a:rPr>
              <a:t>lavoro di comunità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6" name="Rectangle 2" descr=""/>
          <p:cNvPicPr/>
          <p:nvPr/>
        </p:nvPicPr>
        <p:blipFill>
          <a:blip r:embed="rId1"/>
          <a:stretch/>
        </p:blipFill>
        <p:spPr>
          <a:xfrm>
            <a:off x="-36360" y="920880"/>
            <a:ext cx="8808840" cy="914400"/>
          </a:xfrm>
          <a:prstGeom prst="rect">
            <a:avLst/>
          </a:prstGeom>
          <a:ln w="0">
            <a:noFill/>
          </a:ln>
        </p:spPr>
      </p:pic>
      <p:sp>
        <p:nvSpPr>
          <p:cNvPr id="67" name="Segnaposto numero diapositiva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59BE-9DE0-447D-8E92-D76FFBCA0658}" type="slidenum">
              <a:rPr b="0" lang="it-IT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440" y="19810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26"/>
                </a:solidFill>
                <a:latin typeface="Comic Sans MS"/>
              </a:rPr>
              <a:t>  </a:t>
            </a:r>
            <a:r>
              <a:rPr b="0" lang="it-IT" sz="2800" spc="-1" strike="noStrike">
                <a:solidFill>
                  <a:srgbClr val="262626"/>
                </a:solidFill>
                <a:latin typeface="Comic Sans MS"/>
              </a:rPr>
              <a:t>La salute è uno stato di completo benessere fisico,psichico e sociale e non soltanto assenza di malattia o di infermità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26"/>
                </a:solidFill>
                <a:latin typeface="Comic Sans MS"/>
              </a:rPr>
              <a:t>                    </a:t>
            </a:r>
            <a:r>
              <a:rPr b="1" lang="it-IT" sz="2000" spc="-1" strike="noStrike">
                <a:solidFill>
                  <a:srgbClr val="262626"/>
                </a:solidFill>
                <a:latin typeface="Comic Sans MS"/>
              </a:rPr>
              <a:t>(Organizzazione Mondiale Sanità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9" name="Rectangle 2" descr=""/>
          <p:cNvPicPr/>
          <p:nvPr/>
        </p:nvPicPr>
        <p:blipFill>
          <a:blip r:embed="rId1"/>
          <a:stretch/>
        </p:blipFill>
        <p:spPr>
          <a:xfrm>
            <a:off x="219240" y="45072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Segnaposto numero diapositiva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779A-ACFE-4576-A598-3279E1CBE6E0}" type="slidenum">
              <a:rPr b="0" lang="it-IT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0948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262626"/>
                </a:solidFill>
                <a:latin typeface="Comic Sans MS"/>
              </a:rPr>
              <a:t>da una serie di fattori chiamati “determinanti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262626"/>
                </a:solidFill>
                <a:latin typeface="Comic Sans MS"/>
              </a:rPr>
              <a:t>Genetic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262626"/>
                </a:solidFill>
                <a:latin typeface="Comic Sans MS"/>
              </a:rPr>
              <a:t>Socio-economic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262626"/>
                </a:solidFill>
                <a:latin typeface="Comic Sans MS"/>
              </a:rPr>
              <a:t>Stili di vi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262626"/>
                </a:solidFill>
                <a:latin typeface="Comic Sans MS"/>
              </a:rPr>
              <a:t>Ambiental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262626"/>
                </a:solidFill>
                <a:latin typeface="Comic Sans MS"/>
              </a:rPr>
              <a:t>Presenza dei servizi</a:t>
            </a:r>
            <a:r>
              <a:rPr b="0" lang="it-IT" sz="3000" spc="-1" strike="noStrike">
                <a:solidFill>
                  <a:srgbClr val="262626"/>
                </a:solidFill>
                <a:latin typeface="Lucida Sans Unicode"/>
              </a:rPr>
              <a:t> </a:t>
            </a:r>
            <a:r>
              <a:rPr b="1" lang="it-IT" sz="2700" spc="-1" strike="noStrike">
                <a:solidFill>
                  <a:srgbClr val="262626"/>
                </a:solidFill>
                <a:latin typeface="Comic Sans MS"/>
              </a:rPr>
              <a:t>(sanitari e n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2" name="Rectangle 2" descr=""/>
          <p:cNvPicPr/>
          <p:nvPr/>
        </p:nvPicPr>
        <p:blipFill>
          <a:blip r:embed="rId1"/>
          <a:stretch/>
        </p:blipFill>
        <p:spPr>
          <a:xfrm>
            <a:off x="798480" y="225360"/>
            <a:ext cx="7370640" cy="1231920"/>
          </a:xfrm>
          <a:prstGeom prst="rect">
            <a:avLst/>
          </a:prstGeom>
          <a:ln w="0">
            <a:noFill/>
          </a:ln>
        </p:spPr>
      </p:pic>
      <p:sp>
        <p:nvSpPr>
          <p:cNvPr id="73" name="Segnaposto numero diapositiva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E091-1B7C-42C1-AA20-E946CD5C63E7}" type="slidenum">
              <a:rPr b="0" lang="it-IT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rciani Elisabetta</dc:creator>
  <dc:description/>
  <dc:language>en-US</dc:language>
  <cp:lastModifiedBy>emarchionni</cp:lastModifiedBy>
  <dcterms:modified xsi:type="dcterms:W3CDTF">2014-10-23T10:56:07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