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A35F-674B-42D6-8788-FE95CCB2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38F8-9AA9-4EA3-8F95-D54241C0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887-5833-4FFD-B587-85D89E8E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1C5-78A0-4D0A-ACF3-293E5C3ED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A8E2B-CCA6-44B4-90C5-78D8122F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7A21-9FBB-4CE7-9921-AF186F2A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BBCD-B76C-40D7-8C25-0C0819F1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8105-0EAA-4657-BD90-B1E2E610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8E1F-5779-4109-919C-07E5A4BF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64C4-BD44-434D-81E5-8956B124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F70D-6A94-452C-BA22-15883678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9730-FB8C-4BFF-902F-A55017E8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ECC4-40FD-4C84-BA07-688B76ED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BE59-C353-4D88-83F9-69FB5065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9DDE-A04F-4769-8B36-7535CACA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2439-9884-4016-8079-1D6D9709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EE65-86C6-45D5-8C56-389DC9E6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69972-838B-4864-894F-33A1DC1C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C03A-292D-4F20-AE2B-45F485A1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404E4-C50E-4E0A-AEE4-6397E4F8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3D3F6-C127-459B-B56B-C32B54BC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37CC-F40A-4257-AC8C-9405CFCB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0A1-DD7E-43BA-AB1F-A111EBC1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BAF1B-0179-4441-937C-49DFA195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53B50-D0B3-490D-BA46-A28AB921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4F532-1041-40FF-95E4-04B468B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2FF43-1A35-4BB7-933A-C87C9EB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4AF0-A156-4321-8F66-863110F7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285AF-0980-4F8E-9113-19BBF8B0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57728-C323-4A98-8452-734DFE6A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FBB8-F6F0-4C27-9616-604DE0E1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D82D-3808-491A-9B97-C9414ABA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5D16B-F952-47FE-9785-71E63332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53F-721F-4816-824C-AEEB6E39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252D2-ED9C-4DDC-A430-7132D5FA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AA31D-74BE-4CCF-A5B6-0EB89D3E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D4398-65E8-40E0-ACF4-FF08C65D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ED5CA-03D1-4541-B9BB-2CEBA0AB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EFC3-7DA0-42C3-B6B3-0652E6CD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C8BE-0DB8-4861-9B6A-471C996A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59E66-6A52-447D-B2C4-DBD74808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8BD85-7C5B-44D3-A89D-6CAB931A8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04FF8-DE0B-44A8-8BD1-B57958FC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816A7-883D-41D1-B92A-73681630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D09-7C11-456E-AEF9-551E46FA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295EC-F190-487D-8166-DED83EF4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BABB0-7DA7-4829-9031-5FE231A3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72C35-A2AD-4F4E-BB19-B48E9515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ECACA-24DA-49A2-97CF-8030009D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00269-9130-4794-8F16-7ED6FCC1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16E64-09B3-4890-A87E-6E0000CB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D2F0B-3D43-4319-9D4F-AD51F458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8C406-11BB-4FD1-B12E-26EED450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93509-B0E6-4306-A9DD-00CB930C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0A655-53BD-42B4-9A80-59076509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189-A84E-442E-B6F3-3666DC74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64314-12F4-4099-9710-9FEFFF80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B013A-2A60-4258-965B-4D284186E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A3FEE-409C-4193-99C5-44F30480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24C6D-B369-47A7-A832-98901634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88A9E-56E2-4E1A-9755-32ADB322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213CF-C5B5-45ED-A918-BA02C1CF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A4690-C280-4541-A962-3C64D99D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8C9BF-64AD-4310-8932-4DC409FA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DD297-6F4B-44D4-AC8D-019048D4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90AB6-83A0-4ABE-AEF9-E5DD3C04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D6E-0DD5-43CE-8841-5074D94D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54274-C5A9-425E-95DB-58058E80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0217F-9BC2-4255-ABD2-FA95D699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7887D-C0C4-4C0C-BD64-94495B14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A2060-9563-4D37-9742-B4127731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7D2C7-4094-40B8-BA34-62D1B49A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9D581-3CAF-484D-B5EF-9220B395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546C0-1AD4-46F2-AB41-FDCBE84E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99341-7C0F-427B-9355-ACC79C78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CAC23-47E9-4B4F-9328-4FE5F659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A093D-EFD8-49C1-8C61-131789F5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E05-24FB-4085-BB9B-EA28C78D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3964E-F2E8-4C7C-AA19-C7EE3D02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2B6E3-6818-4F32-9685-2A68F153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4128C-FCA5-4083-8A89-EA2F06E5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E5735-6A2B-49E5-89CC-AD394B1E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20D9E-897C-4016-B067-9FD33192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E93-9E7F-446D-B270-BD15DD5F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nettore 1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1176-4309-45CB-B086-9D71A8CDF56E}" type="slidenum"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igura a mano libera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igura a mano libera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Gallone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Gallone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E809-83BB-4B1A-AD3D-973B483D23F5}" type="slidenum"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igura a mano libera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igura a mano libera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4106-A10C-459B-BED4-7C3C73BCAC70}" type="slidenum"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BF41-73B9-4280-A81C-1FDE4FC4D2EC}" type="slidenum"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igura a mano libera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igura a mano libera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Triangolo rettango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7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Connettore 1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0859-65D3-43B2-A3A9-65684F6A004D}" type="slidenum"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2323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323232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2045-B462-4763-885A-7155B007F1DB}" type="slidenum">
              <a:rPr b="0" lang="it-IT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igura a mano libera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cb79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igura a mano libera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Triangolo rettangolo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5" name="Triangolo rettangolo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Connettore 1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78" name="Gallone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Gallone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76400"/>
              </a:gs>
              <a:gs pos="100000">
                <a:srgbClr val="ffa373"/>
              </a:gs>
            </a:gsLst>
            <a:lin ang="16200000"/>
          </a:gradFill>
          <a:ln cap="rnd" w="3240">
            <a:solidFill>
              <a:srgbClr val="b05c0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ed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3ded1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f29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EE41-6BC3-418E-AF06-727A53FDB3D1}" type="slidenum">
              <a:rPr b="0" lang="it-IT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CasellaDiTesto 4"/>
          <p:cNvSpPr/>
          <p:nvPr/>
        </p:nvSpPr>
        <p:spPr>
          <a:xfrm>
            <a:off x="3635280" y="41497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Traversetolo 25 ottobre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971640" y="981000"/>
            <a:ext cx="719928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539640" y="170028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u cosa bisogna fare leva per coinvolgere le persone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3467160" y="3068640"/>
            <a:ext cx="2400120" cy="1854360"/>
          </a:xfrm>
          <a:prstGeom prst="rect">
            <a:avLst/>
          </a:prstGeom>
          <a:ln w="0">
            <a:noFill/>
          </a:ln>
        </p:spPr>
      </p:pic>
      <p:sp>
        <p:nvSpPr>
          <p:cNvPr id="357" name="Fumetto 3 5"/>
          <p:cNvSpPr/>
          <p:nvPr/>
        </p:nvSpPr>
        <p:spPr>
          <a:xfrm>
            <a:off x="6443640" y="3645000"/>
            <a:ext cx="2484360" cy="1584360"/>
          </a:xfrm>
          <a:prstGeom prst="wedgeEllipseCallout">
            <a:avLst>
              <a:gd name="adj1" fmla="val -77796"/>
              <a:gd name="adj2" fmla="val -38976"/>
            </a:avLst>
          </a:prstGeom>
          <a:solidFill>
            <a:srgbClr val="0d0d0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buona conoscenza del prog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283440" y="2630520"/>
            <a:ext cx="2188800" cy="778680"/>
          </a:xfrm>
          <a:prstGeom prst="rect">
            <a:avLst/>
          </a:prstGeom>
          <a:solidFill>
            <a:srgbClr val="0070c0"/>
          </a:solidFill>
          <a:ln w="5508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109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otivazion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Segnaposto contenuto 7"/>
          <p:cNvSpPr/>
          <p:nvPr/>
        </p:nvSpPr>
        <p:spPr>
          <a:xfrm>
            <a:off x="4932360" y="1052640"/>
            <a:ext cx="3995640" cy="1298520"/>
          </a:xfrm>
          <a:prstGeom prst="wedgeEllipseCallout">
            <a:avLst>
              <a:gd name="adj1" fmla="val -51787"/>
              <a:gd name="adj2" fmla="val 127138"/>
            </a:avLst>
          </a:prstGeom>
          <a:solidFill>
            <a:srgbClr val="d3278d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egnaposto contenuto 7"/>
          <p:cNvSpPr/>
          <p:nvPr/>
        </p:nvSpPr>
        <p:spPr>
          <a:xfrm>
            <a:off x="6012000" y="5300640"/>
            <a:ext cx="2921040" cy="1368360"/>
          </a:xfrm>
          <a:prstGeom prst="wedgeEllipseCallout">
            <a:avLst>
              <a:gd name="adj1" fmla="val -59893"/>
              <a:gd name="adj2" fmla="val -114037"/>
            </a:avLst>
          </a:prstGeom>
          <a:solidFill>
            <a:srgbClr val="f66c04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attenzione ai bisogni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ter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egnaposto contenuto 7"/>
          <p:cNvSpPr/>
          <p:nvPr/>
        </p:nvSpPr>
        <p:spPr>
          <a:xfrm>
            <a:off x="3132000" y="5229360"/>
            <a:ext cx="3024360" cy="1484280"/>
          </a:xfrm>
          <a:prstGeom prst="wedgeEllipseCallout">
            <a:avLst>
              <a:gd name="adj1" fmla="val -6115"/>
              <a:gd name="adj2" fmla="val -101125"/>
            </a:avLst>
          </a:prstGeom>
          <a:solidFill>
            <a:srgbClr val="969696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involgere bambini e gi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egnaposto contenuto 7"/>
          <p:cNvSpPr/>
          <p:nvPr/>
        </p:nvSpPr>
        <p:spPr>
          <a:xfrm>
            <a:off x="179280" y="1484280"/>
            <a:ext cx="3635640" cy="1800360"/>
          </a:xfrm>
          <a:prstGeom prst="wedgeEllipseCallout">
            <a:avLst>
              <a:gd name="adj1" fmla="val 62009"/>
              <a:gd name="adj2" fmla="val 56347"/>
            </a:avLst>
          </a:prstGeom>
          <a:solidFill>
            <a:srgbClr val="8ec182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involgere associazioni com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an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egnaposto contenuto 7"/>
          <p:cNvSpPr/>
          <p:nvPr/>
        </p:nvSpPr>
        <p:spPr>
          <a:xfrm>
            <a:off x="179280" y="3357720"/>
            <a:ext cx="3173400" cy="1511280"/>
          </a:xfrm>
          <a:prstGeom prst="wedgeEllipseCallout">
            <a:avLst>
              <a:gd name="adj1" fmla="val 57902"/>
              <a:gd name="adj2" fmla="val 523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buona in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pubbli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egnaposto contenuto 7"/>
          <p:cNvSpPr/>
          <p:nvPr/>
        </p:nvSpPr>
        <p:spPr>
          <a:xfrm>
            <a:off x="395280" y="5013360"/>
            <a:ext cx="2881440" cy="1224000"/>
          </a:xfrm>
          <a:prstGeom prst="wedgeEllipseCallout">
            <a:avLst>
              <a:gd name="adj1" fmla="val 69120"/>
              <a:gd name="adj2" fmla="val -91763"/>
            </a:avLst>
          </a:prstGeom>
          <a:solidFill>
            <a:srgbClr val="00b0f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venti aggreg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egnaposto contenuto 7"/>
          <p:cNvSpPr/>
          <p:nvPr/>
        </p:nvSpPr>
        <p:spPr>
          <a:xfrm>
            <a:off x="2627280" y="620640"/>
            <a:ext cx="3457440" cy="1300320"/>
          </a:xfrm>
          <a:prstGeom prst="wedgeEllipseCallout">
            <a:avLst>
              <a:gd name="adj1" fmla="val 5694"/>
              <a:gd name="adj2" fmla="val 159402"/>
            </a:avLst>
          </a:prstGeom>
          <a:solidFill>
            <a:srgbClr val="7030a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concret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68360" y="1915920"/>
            <a:ext cx="83008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ensando alla realtà di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Traversetolo,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n quale ordine di importanza metterebbe i 4 temi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Object 3"/>
          <p:cNvGraphicFramePr/>
          <p:nvPr/>
        </p:nvGraphicFramePr>
        <p:xfrm>
          <a:off x="684360" y="1052640"/>
          <a:ext cx="7559640" cy="489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052640"/>
                    <a:ext cx="755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539640" y="213372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i sono altri temi, oltre a questi, che stanno a cuor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agli abitanti di Traversetolo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Object 4"/>
          <p:cNvGraphicFramePr/>
          <p:nvPr/>
        </p:nvGraphicFramePr>
        <p:xfrm>
          <a:off x="0" y="620640"/>
          <a:ext cx="9144000" cy="56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20640"/>
                    <a:ext cx="914400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53964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econdo lei chi o che cos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otrebbe ostacolar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un percorso come questo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Object 5"/>
          <p:cNvGraphicFramePr/>
          <p:nvPr/>
        </p:nvGraphicFramePr>
        <p:xfrm>
          <a:off x="0" y="476280"/>
          <a:ext cx="9144000" cy="638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76280"/>
                    <a:ext cx="9144000" cy="638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539640" y="213336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Cosa potrebbe consigliarci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er portare avanti questo progetto nel miglior modo possibile?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3324240" y="2124000"/>
            <a:ext cx="2255760" cy="2187720"/>
          </a:xfrm>
          <a:prstGeom prst="rect">
            <a:avLst/>
          </a:prstGeom>
          <a:ln w="0">
            <a:noFill/>
          </a:ln>
        </p:spPr>
      </p:pic>
      <p:sp>
        <p:nvSpPr>
          <p:cNvPr id="384" name="Rettangolo 12"/>
          <p:cNvSpPr/>
          <p:nvPr/>
        </p:nvSpPr>
        <p:spPr>
          <a:xfrm>
            <a:off x="250920" y="47628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ntinuità / cost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ttangolo 12"/>
          <p:cNvSpPr/>
          <p:nvPr/>
        </p:nvSpPr>
        <p:spPr>
          <a:xfrm>
            <a:off x="3419640" y="1125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1" lang="it-IT" sz="1800" spc="-1" strike="noStrike">
                <a:solidFill>
                  <a:srgbClr val="0066ff"/>
                </a:solidFill>
                <a:latin typeface="Lucida Sans Unicode"/>
              </a:rPr>
              <a:t>BUONA    IN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ttangolo 12"/>
          <p:cNvSpPr/>
          <p:nvPr/>
        </p:nvSpPr>
        <p:spPr>
          <a:xfrm>
            <a:off x="468360" y="2637000"/>
            <a:ext cx="232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Lucida Sans Unicode"/>
              </a:rPr>
              <a:t>CONCRETEZ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ttangolo 12"/>
          <p:cNvSpPr/>
          <p:nvPr/>
        </p:nvSpPr>
        <p:spPr>
          <a:xfrm>
            <a:off x="468360" y="126828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rasmettere motiv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ttangolo 12"/>
          <p:cNvSpPr/>
          <p:nvPr/>
        </p:nvSpPr>
        <p:spPr>
          <a:xfrm>
            <a:off x="3419640" y="4653000"/>
            <a:ext cx="23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Lucida Sans Unicode"/>
              </a:rPr>
              <a:t>MOMENTI AGGREG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ttangolo 12"/>
          <p:cNvSpPr/>
          <p:nvPr/>
        </p:nvSpPr>
        <p:spPr>
          <a:xfrm>
            <a:off x="6156360" y="2421000"/>
            <a:ext cx="23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Lucida Sans Unicode"/>
              </a:rPr>
              <a:t>RENDERE PARTECIPI I GIOVANI E LE FAMIG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ttangolo 12"/>
          <p:cNvSpPr/>
          <p:nvPr/>
        </p:nvSpPr>
        <p:spPr>
          <a:xfrm>
            <a:off x="324000" y="544500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vitare personaggi no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ttangolo 12"/>
          <p:cNvSpPr/>
          <p:nvPr/>
        </p:nvSpPr>
        <p:spPr>
          <a:xfrm>
            <a:off x="6227640" y="260280"/>
            <a:ext cx="232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llaborare col com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ttangolo 12"/>
          <p:cNvSpPr/>
          <p:nvPr/>
        </p:nvSpPr>
        <p:spPr>
          <a:xfrm>
            <a:off x="395280" y="386064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involgere le associ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ttangolo 12"/>
          <p:cNvSpPr/>
          <p:nvPr/>
        </p:nvSpPr>
        <p:spPr>
          <a:xfrm>
            <a:off x="6227640" y="414972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sere accogli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ttangolo 12"/>
          <p:cNvSpPr/>
          <p:nvPr/>
        </p:nvSpPr>
        <p:spPr>
          <a:xfrm>
            <a:off x="6732720" y="1341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rie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ttangolo 12"/>
          <p:cNvSpPr/>
          <p:nvPr/>
        </p:nvSpPr>
        <p:spPr>
          <a:xfrm>
            <a:off x="5580000" y="5661000"/>
            <a:ext cx="30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n chiedere imp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cce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pic>
        <p:nvPicPr>
          <p:cNvPr id="324" name="Titolo 1" descr=""/>
          <p:cNvPicPr/>
          <p:nvPr/>
        </p:nvPicPr>
        <p:blipFill>
          <a:blip r:embed="rId2"/>
          <a:stretch/>
        </p:blipFill>
        <p:spPr>
          <a:xfrm>
            <a:off x="0" y="334800"/>
            <a:ext cx="8242200" cy="371520"/>
          </a:xfrm>
          <a:prstGeom prst="rect">
            <a:avLst/>
          </a:prstGeom>
          <a:ln w="0">
            <a:noFill/>
          </a:ln>
        </p:spPr>
      </p:pic>
      <p:grpSp>
        <p:nvGrpSpPr>
          <p:cNvPr id="325" name="Gruppo 10"/>
          <p:cNvGrpSpPr/>
          <p:nvPr/>
        </p:nvGrpSpPr>
        <p:grpSpPr>
          <a:xfrm>
            <a:off x="250920" y="1989000"/>
            <a:ext cx="2376360" cy="2016360"/>
            <a:chOff x="250920" y="1989000"/>
            <a:chExt cx="2376360" cy="2016360"/>
          </a:xfrm>
        </p:grpSpPr>
        <p:sp>
          <p:nvSpPr>
            <p:cNvPr id="326" name="Ovale 11"/>
            <p:cNvSpPr/>
            <p:nvPr/>
          </p:nvSpPr>
          <p:spPr>
            <a:xfrm>
              <a:off x="250920" y="1989000"/>
              <a:ext cx="2376360" cy="2016360"/>
            </a:xfrm>
            <a:prstGeom prst="ellipse">
              <a:avLst/>
            </a:prstGeom>
            <a:solidFill>
              <a:srgbClr val="f07f09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e 4"/>
            <p:cNvSpPr/>
            <p:nvPr/>
          </p:nvSpPr>
          <p:spPr>
            <a:xfrm>
              <a:off x="404640" y="2284200"/>
              <a:ext cx="1905120" cy="142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Lucida Sans Unicode"/>
                </a:rPr>
                <a:t>Primi </a:t>
              </a:r>
              <a:r>
                <a:rPr b="1" lang="it-IT" sz="3200" spc="-1" strike="noStrike">
                  <a:solidFill>
                    <a:srgbClr val="ffffff"/>
                  </a:solidFill>
                  <a:latin typeface="Arial"/>
                </a:rPr>
                <a:t>contatt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Arial"/>
                </a:rPr>
                <a:t>n° 6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uppo 13"/>
          <p:cNvGrpSpPr/>
          <p:nvPr/>
        </p:nvGrpSpPr>
        <p:grpSpPr>
          <a:xfrm>
            <a:off x="2916360" y="981000"/>
            <a:ext cx="3168360" cy="1873440"/>
            <a:chOff x="2916360" y="981000"/>
            <a:chExt cx="3168360" cy="1873440"/>
          </a:xfrm>
        </p:grpSpPr>
        <p:sp>
          <p:nvSpPr>
            <p:cNvPr id="329" name="Ovale 14"/>
            <p:cNvSpPr/>
            <p:nvPr/>
          </p:nvSpPr>
          <p:spPr>
            <a:xfrm>
              <a:off x="2916360" y="981000"/>
              <a:ext cx="3168360" cy="1873440"/>
            </a:xfrm>
            <a:prstGeom prst="ellipse">
              <a:avLst/>
            </a:prstGeom>
            <a:solidFill>
              <a:srgbClr val="f07f09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e 4"/>
            <p:cNvSpPr/>
            <p:nvPr/>
          </p:nvSpPr>
          <p:spPr>
            <a:xfrm>
              <a:off x="3381480" y="1255680"/>
              <a:ext cx="223812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Arial"/>
                </a:rPr>
                <a:t>Interviste fatt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it-IT" sz="3200" spc="-1" strike="noStrike">
                  <a:solidFill>
                    <a:srgbClr val="ffffff"/>
                  </a:solidFill>
                  <a:latin typeface="Arial"/>
                </a:rPr>
                <a:t>n° 5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uppo 16"/>
          <p:cNvGrpSpPr/>
          <p:nvPr/>
        </p:nvGrpSpPr>
        <p:grpSpPr>
          <a:xfrm>
            <a:off x="2627280" y="3141720"/>
            <a:ext cx="4392720" cy="3457440"/>
            <a:chOff x="2627280" y="3141720"/>
            <a:chExt cx="4392720" cy="3457440"/>
          </a:xfrm>
        </p:grpSpPr>
        <p:sp>
          <p:nvSpPr>
            <p:cNvPr id="332" name="Ovale 17"/>
            <p:cNvSpPr/>
            <p:nvPr/>
          </p:nvSpPr>
          <p:spPr>
            <a:xfrm>
              <a:off x="2627280" y="3141720"/>
              <a:ext cx="4392720" cy="3457440"/>
            </a:xfrm>
            <a:prstGeom prst="ellipse">
              <a:avLst/>
            </a:prstGeom>
            <a:solidFill>
              <a:srgbClr val="f07f09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e 4"/>
            <p:cNvSpPr/>
            <p:nvPr/>
          </p:nvSpPr>
          <p:spPr>
            <a:xfrm>
              <a:off x="3270240" y="3647880"/>
              <a:ext cx="3106800" cy="24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it-IT" sz="4000" spc="-1" strike="noStrike">
                  <a:solidFill>
                    <a:srgbClr val="ffffff"/>
                  </a:solidFill>
                  <a:latin typeface="Arial"/>
                </a:rPr>
                <a:t>Grande disponibilità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uppo 10"/>
          <p:cNvGrpSpPr/>
          <p:nvPr/>
        </p:nvGrpSpPr>
        <p:grpSpPr>
          <a:xfrm>
            <a:off x="6877080" y="2276640"/>
            <a:ext cx="2016000" cy="1396800"/>
            <a:chOff x="6877080" y="2276640"/>
            <a:chExt cx="2016000" cy="1396800"/>
          </a:xfrm>
        </p:grpSpPr>
        <p:sp>
          <p:nvSpPr>
            <p:cNvPr id="335" name="Ovale 11"/>
            <p:cNvSpPr/>
            <p:nvPr/>
          </p:nvSpPr>
          <p:spPr>
            <a:xfrm>
              <a:off x="6877080" y="2276640"/>
              <a:ext cx="2016000" cy="1396800"/>
            </a:xfrm>
            <a:prstGeom prst="ellipse">
              <a:avLst/>
            </a:prstGeom>
            <a:solidFill>
              <a:srgbClr val="f07f09"/>
            </a:solidFill>
            <a:ln w="55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e 4"/>
            <p:cNvSpPr/>
            <p:nvPr/>
          </p:nvSpPr>
          <p:spPr>
            <a:xfrm>
              <a:off x="7007040" y="2481120"/>
              <a:ext cx="161604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Arial"/>
                </a:rPr>
                <a:t>Qualche rifiu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399960"/>
                  <a:tab algn="l" pos="800280"/>
                  <a:tab algn="l" pos="1200240"/>
                  <a:tab algn="l" pos="1600200"/>
                  <a:tab algn="l" pos="2000160"/>
                  <a:tab algn="l" pos="2400480"/>
                  <a:tab algn="l" pos="2800440"/>
                  <a:tab algn="l" pos="3200400"/>
                  <a:tab algn="l" pos="3600360"/>
                  <a:tab algn="l" pos="4000680"/>
                  <a:tab algn="l" pos="4400640"/>
                  <a:tab algn="l" pos="4800600"/>
                  <a:tab algn="l" pos="5200560"/>
                  <a:tab algn="l" pos="5600880"/>
                  <a:tab algn="l" pos="6000840"/>
                  <a:tab algn="l" pos="6400800"/>
                  <a:tab algn="l" pos="6800760"/>
                  <a:tab algn="l" pos="7201080"/>
                  <a:tab algn="l" pos="7601040"/>
                  <a:tab algn="l" pos="80010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Arial"/>
                </a:rPr>
                <a:t>n° 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sp>
        <p:nvSpPr>
          <p:cNvPr id="397" name="CasellaDiTesto 4"/>
          <p:cNvSpPr/>
          <p:nvPr/>
        </p:nvSpPr>
        <p:spPr>
          <a:xfrm>
            <a:off x="6012000" y="5734080"/>
            <a:ext cx="26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Grazie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Immagine 14" descr=""/>
          <p:cNvPicPr/>
          <p:nvPr/>
        </p:nvPicPr>
        <p:blipFill>
          <a:blip r:embed="rId2"/>
          <a:stretch/>
        </p:blipFill>
        <p:spPr>
          <a:xfrm>
            <a:off x="3346560" y="4218120"/>
            <a:ext cx="1877760" cy="2238120"/>
          </a:xfrm>
          <a:prstGeom prst="rect">
            <a:avLst/>
          </a:prstGeom>
          <a:ln w="0">
            <a:noFill/>
          </a:ln>
        </p:spPr>
      </p:pic>
      <p:sp>
        <p:nvSpPr>
          <p:cNvPr id="399" name="CasellaDiTesto 4"/>
          <p:cNvSpPr/>
          <p:nvPr/>
        </p:nvSpPr>
        <p:spPr>
          <a:xfrm>
            <a:off x="324000" y="1557360"/>
            <a:ext cx="8496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</a:rPr>
              <a:t>Libertà non è u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</a:rPr>
              <a:t>spazio libe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400" spc="-1" strike="noStrike">
                <a:solidFill>
                  <a:srgbClr val="000000"/>
                </a:solidFill>
                <a:latin typeface="Arial"/>
              </a:rPr>
              <a:t>libertà è partecip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. Ga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1402920" y="1915920"/>
            <a:ext cx="7048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3232"/>
                </a:solidFill>
                <a:latin typeface="Arial"/>
              </a:rPr>
              <a:t>associazioni di volontariat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3232"/>
                </a:solidFill>
                <a:latin typeface="Arial"/>
              </a:rPr>
              <a:t>associazioni sportive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3232"/>
                </a:solidFill>
                <a:latin typeface="Arial"/>
              </a:rPr>
              <a:t>circoli e consult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3232"/>
                </a:solidFill>
                <a:latin typeface="Arial"/>
              </a:rPr>
              <a:t>scuo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3232"/>
                </a:solidFill>
                <a:latin typeface="Arial"/>
              </a:rPr>
              <a:t>medici di famigli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3232"/>
                </a:solidFill>
                <a:latin typeface="Arial"/>
              </a:rPr>
              <a:t>strutture sanitari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3232"/>
                </a:solidFill>
                <a:latin typeface="Arial"/>
              </a:rPr>
              <a:t>parroco/oratori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23232"/>
                </a:solidFill>
                <a:latin typeface="Arial"/>
              </a:rPr>
              <a:t>cittadini attivi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39" name="Titolo 1" descr=""/>
          <p:cNvPicPr/>
          <p:nvPr/>
        </p:nvPicPr>
        <p:blipFill>
          <a:blip r:embed="rId2"/>
          <a:stretch/>
        </p:blipFill>
        <p:spPr>
          <a:xfrm>
            <a:off x="463680" y="542880"/>
            <a:ext cx="8242200" cy="371520"/>
          </a:xfrm>
          <a:prstGeom prst="rect">
            <a:avLst/>
          </a:prstGeom>
          <a:ln w="0">
            <a:noFill/>
          </a:ln>
        </p:spPr>
      </p:pic>
      <p:sp>
        <p:nvSpPr>
          <p:cNvPr id="340" name="Rettangolo 4"/>
          <p:cNvSpPr/>
          <p:nvPr/>
        </p:nvSpPr>
        <p:spPr>
          <a:xfrm>
            <a:off x="179280" y="10526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SONE CONTATTATE PER QUESTO PRIMO INCONTRO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1828800" y="2200320"/>
            <a:ext cx="5181480" cy="2603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H:\Area Vasta (Besurica e Traversetolo)\Primo incontro 20 settembre 2014\guadagnare%20salute%20logo_Pagina_2.jpg"/>
          <p:cNvPicPr/>
          <p:nvPr/>
        </p:nvPicPr>
        <p:blipFill>
          <a:blip r:embed="rId2"/>
          <a:stretch/>
        </p:blipFill>
        <p:spPr>
          <a:xfrm>
            <a:off x="0" y="0"/>
            <a:ext cx="42465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68000" y="1341360"/>
            <a:ext cx="82184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La maggioranza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dei cittadini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itiene questo progetto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ercorribil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4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57200" y="105372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Per affrontare temi di salu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è mai stata utilizzata una metodologia partecipata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6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539640" y="206064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La maggior parte di voi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è a conoscenza di iniziative promosse a Traversetolo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Quali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ttivita’ seminariali</a:t>
            </a:r>
            <a:r>
              <a:rPr b="1" lang="it-IT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  <a:ea typeface="Arial"/>
              </a:rPr>
              <a:t>alimentazione, alcol, temi salute, ambiente, adolescenti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ttivita’ di aggregazione/conviviali</a:t>
            </a:r>
            <a:r>
              <a:rPr b="1" lang="it-IT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( feste associative, mercato domenicale,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giornata solidale …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ttivita’ sportiv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:\Area Vasta (Besurica e Traversetolo)\Primo incontro 20 settembre 2014\guadagnare%20salute%20logo_Pagina_2.jpg"/>
          <p:cNvPicPr/>
          <p:nvPr/>
        </p:nvPicPr>
        <p:blipFill>
          <a:blip r:embed="rId1"/>
          <a:stretch/>
        </p:blipFill>
        <p:spPr>
          <a:xfrm>
            <a:off x="31680" y="30240"/>
            <a:ext cx="3027600" cy="12380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a chi?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elatori esperti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edici / servizio sanitari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ssociazioni volontariato / sportiv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mu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uol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07f09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arrocchia 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1T13:19:47Z</dcterms:created>
  <dc:creator>Cammi Elena - Dip. Sanità Pubblica</dc:creator>
  <dc:description/>
  <dc:language>en-US</dc:language>
  <cp:lastModifiedBy>emarchionni</cp:lastModifiedBy>
  <dcterms:modified xsi:type="dcterms:W3CDTF">2014-10-23T12:18:37Z</dcterms:modified>
  <cp:revision>150</cp:revision>
  <dc:subject/>
  <dc:title>PRESENTAZIONE 20 SETTEMBRE</dc:title>
</cp:coreProperties>
</file>