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07D0-9D5A-441C-B84E-78E661276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870D-67CF-4E4A-863B-4D58786A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17A-9CDA-461A-AC35-A53B0DC0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EFFB-0F10-48F3-8FE7-63189F0B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EEF6-ED7C-4364-8027-B5A0CE30B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C537-E23B-4432-9CB9-CC77DC7D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7F57-DBC1-415B-B21B-445B9382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6288-9E76-49FD-8361-5106756A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22CC-60B7-43C2-ABE2-78412C62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B9C9-0F1E-450C-A4A7-E961737A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149B-5CE8-4B77-A22D-81C7B831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BAB2-7286-47A8-83DC-919A602C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2258-FA54-492F-B269-92067087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367B-4D3C-4F6E-86D3-1895785F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6728D-79A3-4C21-B53C-1BA56A21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5EDD-5B35-4DA8-BA68-C55C0094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44A1-C53E-4C75-86AA-BB3A07B1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46089-1039-4EF9-8DF9-9B5E10A7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4A25A-130A-4FC7-9DA9-33538AE9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FA058-105D-4CB5-8516-65C7A9C8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1C2DF-8839-44AA-9E88-E5C768E7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99565-4C22-47E8-A252-3151BCB4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0F8-1A13-49F3-8DD1-1AEE9D18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A6C0D-E3F0-4423-9D24-223CA955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84316-5996-4BD9-858E-D0CDDBAB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D4F09-C3B7-465B-B747-6E6EC498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B5BD4-0CF0-4923-9816-6A16E8EA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B125-3B2C-42C6-A02F-7DCDD5ED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8F9A7-D73F-4573-A596-8006ED6B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C5D3C-3B70-4179-AE4E-77AD6534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92804-8796-41F9-885C-7848B392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400E8-91BC-4F25-BC67-FC5A24B1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EAE00-E7A1-4F88-88F8-6E99DBD8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9AD-F00F-4164-A219-2CBB7014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84D27-7AF5-40EA-BFB4-06D01AC6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E653B-9218-4C2F-A877-22E13084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1C622-B0CA-4FAA-BB6E-2B6E4265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78679-CDC4-4A8A-8127-CA7DA409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7873B-CFE5-4B93-BBCA-57561A71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D9FC2-177C-4AC1-B2B9-AA7BA619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DA869-7C64-4AEA-A84C-44882DCA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E80D9-28C5-45D0-9985-BBEB94C42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48C05-2C5A-42F5-9971-41CA7F2A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853B8-072D-4966-BF09-31F500AB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1A4-53F0-4B95-B58F-336DB249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5BAEA-02D8-41D7-B780-9E033852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1D6AE-8888-4264-A354-09F302EE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F17A3-246C-46B0-87C5-1BB9A4BB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C55C3-01FA-4B81-BFBC-50E7BF53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E67DD-3BCB-44C8-B3E3-04CAD0F9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C55BE-2386-47E2-8909-16EAA2E6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EBA98-4A34-4466-8B1A-A55680E8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7B51F-4E11-4B6A-81B7-71A6DA60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480FC-E778-4DC2-B7C6-D2D0C302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3CC78-D0F2-49FF-99A3-9B5B8659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62C-CD1F-41A4-BB67-F1A50F51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EFE45-BC85-4C01-913B-BC78DAE3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7364B-3D48-4248-BEFB-A33B7E32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948ED-C68D-42C1-90F3-41FCFED5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9EF86-9A48-4246-9CDE-BCC29F06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6D589-BB2F-4711-924A-8751A88C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35099-BF46-43CD-94A0-E648A94A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A5FF0-549B-4F05-8262-D45B8B70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DB056-B407-49F2-8768-C67C4654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73739-B752-4FB8-A85D-4BE3480E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67035-6F4B-42F6-AA78-69E6EE0B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DD86-6DED-478B-A4DA-25411213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AE81F-9706-4BCA-8846-10D85F96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5042B-90FF-44F9-BDD6-F4788853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EC5D3-5F7C-4DD2-99A5-551D6747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3A0F6-28C7-4F22-94D3-B74E623C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1E791-2A5F-4A6F-A0E2-135B9B59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97EAA-CF74-4348-A9BB-8B5FA7F4D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470EB-18F2-420C-BE79-777E4BA1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F73EC-4868-48CC-9EAE-FF21A872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98353-3A52-4CD4-B12A-FCEA5AFA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65B96-028B-432D-B664-32706785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434-A298-4412-B3AE-EEBBC996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B4222-4E13-4580-8F0D-57B051B0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46E08-4C08-42EB-A80D-3BF3A8B3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053A1-AB32-4C34-91CA-363EAB9A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55F04-7C45-4746-8D78-389E3BF6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D829A-71B5-4608-BE80-1F128BC7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1A791-A532-4815-9924-B44138388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BB940-2669-4133-9EA6-80D0671B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FC0EA-7AC4-4FAF-9BD1-17273F59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25760-3DF8-490B-B6ED-CD2AA171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08B72-D50D-409E-9B59-74E7C84A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A498-51D3-4114-9A36-BABFB393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AF3BF-D19E-482D-9859-814884BF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B6DA2-4AAE-4F1D-BB45-F4728C4B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44239-D719-42C5-B6AF-9E5081B8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85B8A-CF68-4A8A-84CC-80864CC8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A22AA-DED7-4C1E-BEF8-E639B894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7ACBB-610F-48F9-B5AC-A0946552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F021B-F6ED-4BCF-ACC8-FB119E19F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Triangolo rettango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Triangolo rettangolo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Connettore 1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B060-F1A8-40C3-8611-2D451C810D32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angolo rettango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Grup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igura a mano libera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igura a mano libera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Figura a mano libera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igura a mano libera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Connettore 1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D220-039D-4B8A-A172-3AC2D52FF9C9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Triangolo rettango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Connettore 1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Gallone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Gallone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A14A-BE7A-4610-A069-050A1B218E2E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Triangolo rettango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Connettore 1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AE20-7B83-474E-A88C-5BE902445E78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CA7E-A3A6-42B9-93B9-28C38498904A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gura a mano libera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Figura a mano libera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Triangolo rettangolo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Triangolo rettangolo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Connettore 1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0AEC-5738-488C-B6F5-E3387B3F20B9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7D33-EECD-4FEA-A7C8-585E168D0CFB}" type="slidenum"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igura a mano libera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Figura a mano libera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Triangolo rettangolo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Triangolo rettangolo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Connettore 1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Gallone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Gallone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8071-22B6-4785-AEA8-D001E5B9B488}" type="slidenum">
              <a:rPr b="0" lang="it-IT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30240" y="689040"/>
            <a:ext cx="7431120" cy="227952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5867280" y="2590920"/>
            <a:ext cx="2971800" cy="27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omic Sans MS"/>
              </a:rPr>
              <a:t>Conte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omic Sans MS"/>
              </a:rPr>
              <a:t>Che cosa 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omic Sans MS"/>
              </a:rPr>
              <a:t>Presuppost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Comic Sans MS"/>
              </a:rPr>
              <a:t>Obiettiv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CasellaDiTesto 1"/>
          <p:cNvSpPr/>
          <p:nvPr/>
        </p:nvSpPr>
        <p:spPr>
          <a:xfrm>
            <a:off x="5105520" y="62373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Besurica, 20 settembre 20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3" name="Picture 4" descr="guadagnare%20salute%20logo_Pagina_2"/>
          <p:cNvPicPr/>
          <p:nvPr/>
        </p:nvPicPr>
        <p:blipFill>
          <a:blip r:embed="rId2"/>
          <a:stretch/>
        </p:blipFill>
        <p:spPr>
          <a:xfrm>
            <a:off x="304920" y="5562720"/>
            <a:ext cx="277812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609480" y="22093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dizioni socio-economich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stili di vita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irca 50%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ratteristiche genetiche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irca 20%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dizioni ambientali            circa 15%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ttore sanitario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irca 15%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689040" y="378000"/>
            <a:ext cx="7845480" cy="158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685440" y="1905120"/>
            <a:ext cx="7543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2060"/>
                </a:solidFill>
                <a:latin typeface="Comic Sans MS"/>
              </a:rPr>
              <a:t>Quindi, la salute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002060"/>
                </a:solidFill>
                <a:latin typeface="Comic Sans MS"/>
              </a:rPr>
              <a:t>non è solo sanità</a:t>
            </a:r>
            <a:r>
              <a:rPr b="0" lang="it-IT" sz="4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75248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i programmi di promozione della salute hanno un maggiore successo se sono integrati nella vita quotidiana delle comunità, basati sulle tradizioni locali e condotti da membri della comunità stess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Lucida Sans Unicode"/>
              </a:rPr>
              <a:t>(IUHPE, Delineare il futuro della promozione della salute: le priorità </a:t>
            </a:r>
            <a:r>
              <a:rPr b="0" lang="it-IT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Lucida Sans Unicode"/>
              </a:rPr>
              <a:t>per l’azione, traduzione a cura di Dors, 2007)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olo 1" descr=""/>
          <p:cNvPicPr/>
          <p:nvPr/>
        </p:nvPicPr>
        <p:blipFill>
          <a:blip r:embed="rId1"/>
          <a:stretch/>
        </p:blipFill>
        <p:spPr>
          <a:xfrm>
            <a:off x="304920" y="536400"/>
            <a:ext cx="822960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914400" y="1828800"/>
            <a:ext cx="7238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..che tutta la comunità (associazioni, Enti, singoli cittadini, parrocchia, organizzazioni sociali..) della Besurica si attivi per rendere più facili le scelte di vita salutari nel proprio territorio ….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olo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33520" y="6091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nalizzare, proporre, scegliere, decidere e  realizzare le azioni ritenute utili alla riduzione del rischi legati a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um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co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imentazio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ività motor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CasellaDiTesto 1"/>
          <p:cNvSpPr/>
          <p:nvPr/>
        </p:nvSpPr>
        <p:spPr>
          <a:xfrm>
            <a:off x="2590920" y="51814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2060"/>
                </a:solidFill>
                <a:latin typeface="Comic Sans MS"/>
              </a:rPr>
              <a:t>Progettazione Partecipa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" name="Freccia a destra 1"/>
          <p:cNvGrpSpPr/>
          <p:nvPr/>
        </p:nvGrpSpPr>
        <p:grpSpPr>
          <a:xfrm>
            <a:off x="1042920" y="5413320"/>
            <a:ext cx="1285920" cy="354240"/>
            <a:chOff x="1042920" y="5413320"/>
            <a:chExt cx="1285920" cy="354240"/>
          </a:xfrm>
        </p:grpSpPr>
        <p:pic>
          <p:nvPicPr>
            <p:cNvPr id="399" name="Freccia a destra 1" descr=""/>
            <p:cNvPicPr/>
            <p:nvPr/>
          </p:nvPicPr>
          <p:blipFill>
            <a:blip r:embed="rId1"/>
            <a:stretch/>
          </p:blipFill>
          <p:spPr>
            <a:xfrm>
              <a:off x="1042920" y="5413320"/>
              <a:ext cx="1285920" cy="35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066680" y="5532480"/>
              <a:ext cx="11667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04920" y="13442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47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607d3"/>
                </a:solidFill>
                <a:latin typeface="Comic Sans MS"/>
              </a:rPr>
              <a:t>Gruppo di progetto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lvia Barbier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ria Grazia Bonell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sanna Breviglier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lena Camm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iorgio Chiarand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ria Rosa Copell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orena Mor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ffaella Pellizzar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ta Prazzol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ristina Sartori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manuele Soress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1047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olo 2" descr=""/>
          <p:cNvPicPr/>
          <p:nvPr/>
        </p:nvPicPr>
        <p:blipFill>
          <a:blip r:embed="rId1"/>
          <a:stretch/>
        </p:blipFill>
        <p:spPr>
          <a:xfrm>
            <a:off x="195120" y="158760"/>
            <a:ext cx="8491680" cy="1414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guadagnare%20salute%20logo_Pagina_2"/>
          <p:cNvPicPr/>
          <p:nvPr/>
        </p:nvPicPr>
        <p:blipFill>
          <a:blip r:embed="rId2"/>
          <a:stretch/>
        </p:blipFill>
        <p:spPr>
          <a:xfrm>
            <a:off x="4800600" y="5029200"/>
            <a:ext cx="41259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2209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Comic Sans MS"/>
              </a:rPr>
              <a:t>La Regione Emilia Romagna ha pubblicato u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0000"/>
                </a:solidFill>
                <a:latin typeface="Comic Sans MS"/>
              </a:rPr>
              <a:t>Bando p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2060"/>
                </a:solidFill>
                <a:latin typeface="Comic Sans MS"/>
              </a:rPr>
              <a:t>“</a:t>
            </a:r>
            <a:r>
              <a:rPr b="1" lang="it-IT" sz="2700" spc="-1" strike="noStrike">
                <a:solidFill>
                  <a:srgbClr val="000000"/>
                </a:solidFill>
                <a:latin typeface="Comic Sans MS"/>
              </a:rPr>
              <a:t>Progetti per Guadagnare Salute in contesti di Comunità</a:t>
            </a:r>
            <a:r>
              <a:rPr b="0" lang="it-IT" sz="2700" spc="-1" strike="noStrike">
                <a:solidFill>
                  <a:srgbClr val="002060"/>
                </a:solidFill>
                <a:latin typeface="Comic Sans MS"/>
              </a:rPr>
              <a:t> 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olo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219320" y="99072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L’Azienda USL di Piacenza e di Parma hanno presentato il progetto “ Una Comunità che Guadagna Salute “ da realizzarsi, in accordo con le rispettive Amministrazioni Comunali, n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Quartiere Besuric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Comune di Traversetolo</a:t>
            </a:r>
            <a:r>
              <a:rPr b="0" lang="it-IT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olo 2" descr=""/>
          <p:cNvPicPr/>
          <p:nvPr/>
        </p:nvPicPr>
        <p:blipFill>
          <a:blip r:embed="rId1"/>
          <a:stretch/>
        </p:blipFill>
        <p:spPr>
          <a:xfrm>
            <a:off x="536400" y="1981080"/>
            <a:ext cx="82296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990720" y="2209320"/>
            <a:ext cx="7696080" cy="33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Un gruppo specifico di persone, che vive in un’area geografica definita e che condivide la stessa cultura, gli stessi valori e le stesse norme, organizzato in una struttura sociale basata sui rapporti che la comunità ha sviluppato nel corso del tempo. 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7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OMS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olo 2" descr=""/>
          <p:cNvPicPr/>
          <p:nvPr/>
        </p:nvPicPr>
        <p:blipFill>
          <a:blip r:embed="rId1"/>
          <a:stretch/>
        </p:blipFill>
        <p:spPr>
          <a:xfrm>
            <a:off x="457200" y="53640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0520" y="20570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262626"/>
                </a:solidFill>
                <a:latin typeface="Comic Sans MS"/>
              </a:rPr>
              <a:t>è un programma ministeriale che ha come obiettivo la promozione della salute e, in particolare, la promozione di  stili di vita sani relativamente a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262626"/>
                </a:solidFill>
                <a:latin typeface="Comic Sans MS"/>
              </a:rPr>
              <a:t>Fum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262626"/>
                </a:solidFill>
                <a:latin typeface="Comic Sans MS"/>
              </a:rPr>
              <a:t>Alc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262626"/>
                </a:solidFill>
                <a:latin typeface="Comic Sans MS"/>
              </a:rPr>
              <a:t>Alimentazi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262626"/>
                </a:solidFill>
                <a:latin typeface="Comic Sans MS"/>
              </a:rPr>
              <a:t>Attività motoria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1082520" y="393840"/>
            <a:ext cx="7010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100" spc="-1" strike="noStrike">
                <a:solidFill>
                  <a:srgbClr val="002060"/>
                </a:solidFill>
                <a:latin typeface="Comic Sans MS"/>
              </a:rPr>
              <a:t>Che cos’è </a:t>
            </a:r>
            <a:r>
              <a:rPr b="0" lang="it-IT" sz="4100" spc="-1" strike="noStrike">
                <a:solidFill>
                  <a:srgbClr val="002060"/>
                </a:solidFill>
                <a:latin typeface="Comic Sans MS"/>
              </a:rPr>
              <a:t>“</a:t>
            </a:r>
            <a:r>
              <a:rPr b="1" lang="it-IT" sz="4100" spc="-1" strike="noStrike">
                <a:solidFill>
                  <a:srgbClr val="002060"/>
                </a:solidFill>
                <a:latin typeface="Comic Sans MS"/>
              </a:rPr>
              <a:t>Guadagnare Salute</a:t>
            </a:r>
            <a:r>
              <a:rPr b="0" lang="it-IT" sz="4100" spc="-1" strike="noStrike">
                <a:solidFill>
                  <a:srgbClr val="002060"/>
                </a:solidFill>
                <a:latin typeface="Comic Sans MS"/>
              </a:rPr>
              <a:t>“</a:t>
            </a:r>
            <a:r>
              <a:rPr b="1" lang="it-IT" sz="4100" spc="-1" strike="noStrike">
                <a:solidFill>
                  <a:srgbClr val="002060"/>
                </a:solidFill>
                <a:latin typeface="Comic Sans MS"/>
              </a:rPr>
              <a:t>? </a:t>
            </a:r>
            <a:endParaRPr b="0" lang="en-US" sz="4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2162160" y="1117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761760" y="28195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262626"/>
                </a:solidFill>
                <a:latin typeface="Comic Sans MS"/>
              </a:rPr>
              <a:t> </a:t>
            </a:r>
            <a:r>
              <a:rPr b="1" lang="it-IT" sz="3600" spc="-1" strike="noStrike">
                <a:solidFill>
                  <a:srgbClr val="262626"/>
                </a:solidFill>
                <a:latin typeface="Comic Sans MS"/>
              </a:rPr>
              <a:t>nuovo concetto di salut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743040" indent="-743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743040" indent="-743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262626"/>
                </a:solidFill>
                <a:latin typeface="Comic Sans MS"/>
              </a:rPr>
              <a:t> </a:t>
            </a:r>
            <a:r>
              <a:rPr b="1" lang="it-IT" sz="3600" spc="-1" strike="noStrike">
                <a:solidFill>
                  <a:srgbClr val="262626"/>
                </a:solidFill>
                <a:latin typeface="Comic Sans MS"/>
              </a:rPr>
              <a:t>lavoro di comunità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231840" y="927000"/>
            <a:ext cx="853416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85440" y="19810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62626"/>
                </a:solidFill>
                <a:latin typeface="Comic Sans MS"/>
              </a:rPr>
              <a:t>La salute è uno stato </a:t>
            </a:r>
            <a:br>
              <a:rPr sz="2800"/>
            </a:br>
            <a:r>
              <a:rPr b="0" lang="it-IT" sz="2800" spc="-1" strike="noStrike">
                <a:solidFill>
                  <a:srgbClr val="262626"/>
                </a:solidFill>
                <a:latin typeface="Comic Sans MS"/>
              </a:rPr>
              <a:t>di completo benessere fisico,</a:t>
            </a:r>
            <a:br>
              <a:rPr sz="2800"/>
            </a:br>
            <a:r>
              <a:rPr b="0" lang="it-IT" sz="2800" spc="-1" strike="noStrike">
                <a:solidFill>
                  <a:srgbClr val="262626"/>
                </a:solidFill>
                <a:latin typeface="Comic Sans MS"/>
              </a:rPr>
              <a:t>psichico e sociale e</a:t>
            </a:r>
            <a:br>
              <a:rPr sz="2800"/>
            </a:br>
            <a:r>
              <a:rPr b="0" lang="it-IT" sz="2800" spc="-1" strike="noStrike">
                <a:solidFill>
                  <a:srgbClr val="262626"/>
                </a:solidFill>
                <a:latin typeface="Comic Sans MS"/>
              </a:rPr>
              <a:t>non soltanto assenza di malattia o di infermità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262626"/>
                </a:solidFill>
                <a:latin typeface="Comic Sans MS"/>
              </a:rPr>
              <a:t>                    </a:t>
            </a:r>
            <a:r>
              <a:rPr b="1" lang="it-IT" sz="2000" spc="-1" strike="noStrike">
                <a:solidFill>
                  <a:srgbClr val="262626"/>
                </a:solidFill>
                <a:latin typeface="Comic Sans MS"/>
              </a:rPr>
              <a:t>(Organizzazione Mondiale Sanità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Rectangl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60948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262626"/>
                </a:solidFill>
                <a:latin typeface="Comic Sans MS"/>
              </a:rPr>
              <a:t>da una serie di fattori chiamati “determinanti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262626"/>
                </a:solidFill>
                <a:latin typeface="Comic Sans MS"/>
              </a:rPr>
              <a:t>Genetic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262626"/>
                </a:solidFill>
                <a:latin typeface="Comic Sans MS"/>
              </a:rPr>
              <a:t>Socio-economic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262626"/>
                </a:solidFill>
                <a:latin typeface="Comic Sans MS"/>
              </a:rPr>
              <a:t>Stili di vi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262626"/>
                </a:solidFill>
                <a:latin typeface="Comic Sans MS"/>
              </a:rPr>
              <a:t>Ambiental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262626"/>
                </a:solidFill>
                <a:latin typeface="Comic Sans MS"/>
              </a:rPr>
              <a:t>Presenza dei servizi</a:t>
            </a:r>
            <a:r>
              <a:rPr b="0" lang="it-IT" sz="3000" spc="-1" strike="noStrike">
                <a:solidFill>
                  <a:srgbClr val="262626"/>
                </a:solidFill>
                <a:latin typeface="Lucida Sans Unicode"/>
              </a:rPr>
              <a:t> </a:t>
            </a:r>
            <a:r>
              <a:rPr b="1" lang="it-IT" sz="2700" spc="-1" strike="noStrike">
                <a:solidFill>
                  <a:srgbClr val="262626"/>
                </a:solidFill>
                <a:latin typeface="Comic Sans MS"/>
              </a:rPr>
              <a:t>(sanitari e n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Rectangle 2" descr=""/>
          <p:cNvPicPr/>
          <p:nvPr/>
        </p:nvPicPr>
        <p:blipFill>
          <a:blip r:embed="rId1"/>
          <a:stretch/>
        </p:blipFill>
        <p:spPr>
          <a:xfrm>
            <a:off x="804960" y="231840"/>
            <a:ext cx="73692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rciani Elisabetta</dc:creator>
  <dc:description/>
  <dc:language>en-US</dc:language>
  <cp:lastModifiedBy>Borciani Elisabetta</cp:lastModifiedBy>
  <dcterms:modified xsi:type="dcterms:W3CDTF">2014-09-19T08:33:54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